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FCB1CF0A-2F1F-4951-B66B-204011EEA793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ловая</a:t>
            </a:r>
            <a:r>
              <a:rPr b="1" lang="ru-RU" sz="8000" spc="-1" strike="noStrike">
                <a:solidFill>
                  <a:srgbClr val="c1ecf0"/>
                </a:solidFill>
                <a:latin typeface="Times New Roman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</a:t>
            </a:r>
            <a:r>
              <a:rPr b="1" lang="ru-RU" sz="8000" spc="-1" strike="noStrike">
                <a:solidFill>
                  <a:srgbClr val="c1ecf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7859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то, когда и почему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720" y="28548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ислите функции речи старшего дошкольника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85960" y="1999800"/>
            <a:ext cx="6400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служит для установления контактов с окружающими, привлечения внимания к себе, своим делам, переживан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служит важным источником знаний об окружающем мире, средством их фикс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— как область объективных отношений, которые позна­ет ребен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— как область удовлетворения деловых, познавательных, личностных потребностей ребенка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0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задачи познавательного развития в процессе воспитания патриотических чув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2960" y="1700280"/>
            <a:ext cx="850104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бщих познавательных способностей: наблюдать, описывать, строить предположения и предлагать способы их про­верки, делать вывод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к Родине, развитие чувства гордости за свой народ и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доброжелательного отношения к людям других национальностей, элементарной этики межнациональных отнош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 реш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00080" y="90756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спользовать создание проблемных ситуаций на занятиях и в свободное время, побуждающих к активизации мыслительной деятельности, познанию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развития познавательно-речевой активности детей использовать экскурсии, игры, формы элементарной поиск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_______...___представить свой опыт работы по познавательно-речевому развитию в методический каби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сем педагогам представить в методический кабинет собственные разработки развивающих игр, оформить выставку из этих и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Спасибо за участ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99760" y="1214280"/>
            <a:ext cx="71866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 знаний педагогов, компетентности в осуществлении ведущих задач учебного год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умения обсуждать и согласовывать предложенные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 за соблюдением педагогами правил культуры речевого общения, тактичного по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а иг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71400" y="1285920"/>
            <a:ext cx="73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ть слушать друг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рабатывать общее решение вопро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нимать активное участие в иг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 оспаривать оценку жю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блюдать культуру речи и тактич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держиваться регл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ид деятельности дошкольника наиболее благоприятен для развития социальной и познавательной актив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3929040" y="435780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24920" y="3920040"/>
            <a:ext cx="2450520" cy="946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159720" y="542916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 rot="18673800">
            <a:off x="1753200" y="355896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 rot="2946600">
            <a:off x="5311080" y="3464280"/>
            <a:ext cx="33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и природная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8229600" cy="13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в первую очередь влияет на формирование человеческой лич­ности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вори правильн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8244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lnSpc>
                <a:spcPct val="100000"/>
              </a:lnSpc>
              <a:spcBef>
                <a:spcPts val="1001"/>
              </a:spcBef>
              <a:buClr>
                <a:srgbClr val="16164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Лена искала булав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А булавка упала под лав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3ef19"/>
                </a:solidFill>
                <a:latin typeface="Times New Roman"/>
                <a:ea typeface="Times New Roman"/>
              </a:rPr>
              <a:t>Каковы основные достижения в речевом развитии старшего дошкольника?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8640" y="3857400"/>
            <a:ext cx="52578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1ecf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2640" y="928440"/>
            <a:ext cx="7543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вый план выдвигается общение со сверст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лог с товарищем приобретает характер скоординированных пред­метных и речевых действий, дети уже умеют привлекать к себе внима­ние соседа, интересуются его делами и высказываниям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2e55a4"/>
                </a:solidFill>
                <a:latin typeface="Times New Roman"/>
                <a:ea typeface="Times New Roman"/>
              </a:rPr>
              <a:t>Назовите главные задачи познавательного развития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2428560"/>
            <a:ext cx="7412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бщих познавательных способностей: умение наблю­дать, отбирать необходимую информацию, обобщать способы соб­ственной деятельност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4:40:18Z</dcterms:created>
  <dc:creator>Ильфат</dc:creator>
  <dc:description/>
  <dc:language>en-US</dc:language>
  <cp:lastModifiedBy>Айсылу</cp:lastModifiedBy>
  <dcterms:modified xsi:type="dcterms:W3CDTF">2012-02-07T11:47:47Z</dcterms:modified>
  <cp:revision>24</cp:revision>
  <dc:subject/>
  <dc:title>Деловая игра</dc:title>
</cp:coreProperties>
</file>