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5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2698-A319-476D-AC44-FA363EB98C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EAE5-7893-4E75-8BD8-F81A685050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31CA-411C-4999-A74C-5E0575330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598A-ADBC-4361-B553-35FDC72F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6F71-E90C-4F24-AF32-18981173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CC02-5CC4-4D1F-AD81-FD3017883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DC68-2FF7-485A-A19B-7E0712C0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E363-7D93-48C0-97C7-CB0EB28D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9638-1731-47A8-8135-D2CC9E4A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F886-5003-45A2-BAD6-52DF4C8C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0B7D-6C76-4A59-9845-80EBA9EE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273E-EEAA-45B6-8B73-22BF0C95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D6F8-94F5-4BAD-B312-222F06AB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F7BF-EB17-42F1-837B-4820F0F6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0ABE-D7BF-41DC-A662-99453DCD3A0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hw@lemitec.de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gif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ru/search?q=&#1102;&#1073;&#1082;&#1080;+&#1082;&#1072;&#1088;&#1090;&#1080;&#1085;&#1082;&#1080;&amp;hl=ru&amp;newwindow=1&amp;prmd=imvns&amp;tbm=isch&amp;tbo=u&amp;source=univ&amp;sa=X&amp;ei=DNMvT6iTBc3AtAbCnr3aDA&amp;sqi=2&amp;ved=0CD4QsAQ&amp;biw=1005&amp;bih=612" TargetMode="External"/><Relationship Id="rId2" Type="http://schemas.openxmlformats.org/officeDocument/2006/relationships/hyperlink" Target="http://www.google.ru/search?q=&#1082;&#1072;&#1088;&#1090;&#1080;&#1085;&#1082;&#1080;+&#1084;&#1086;&#1076;&#1077;&#1083;&#1100;&#1077;&#1088;&#1086;&#1074;&amp;hl=ru&amp;newwindow=1&amp;prmd=imvns&amp;tbm=isch&amp;tbo=u&amp;source=univ&amp;sa=X&amp;ei=MdQvT7ipII7Bswamo8ihDQ&amp;sqi=2&amp;ved=0CDAQsAQ&amp;biw=1005&amp;bih=612" TargetMode="External"/><Relationship Id="rId3" Type="http://schemas.openxmlformats.org/officeDocument/2006/relationships/hyperlink" Target="http://www.google.ru/search?q=&#1082;&#1072;&#1088;&#1090;&#1080;&#1085;&#1082;&#1080;+&#1084;&#1086;&#1076;&#1077;&#1083;&#1100;&#1077;&#1088;&#1086;&#1074;&amp;hl=ru&amp;newwindow=1&amp;prmd=imvns&amp;tbm=isch&amp;tbo=u&amp;source=univ&amp;sa=X&amp;ei=MdQvT7ipII7Bswamo8ihDQ&amp;sqi=2&amp;ved=0CDAQsAQ&amp;biw=1005&amp;bih=612#hl=ru&amp;newwindow=1&amp;tbm=isch&amp;sa=1&amp;q=&#1082;&#1072;&#1088;&#1090;&#1080;&#1085;&#1082;&#1080;+&#1079;&#1072;&#1082;&#1088;&#1086;&#1081;&#1097;&#1080;&#1082;&amp;pbx=1&amp;oq=&#1082;&#1072;&#1088;&#1090;&#1080;&#1085;&#1082;&#1080;+&#1079;&#1072;&#1082;&#1088;&#1086;&#1081;&#1097;&#1080;&#1082;&amp;aq=f&amp;aqi=&amp;aql=&amp;gs_sm=s&amp;gs_upl=89305l95310l0l100558l10l10l0l6l6l1l2109l4636l5-2.0.1.0.1l4l0&amp;bav=on.2,or.r_gc.r_pw.,cf.osb&amp;fp=63627bac8210682e&amp;biw=1005&amp;bih=612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56840"/>
            <a:ext cx="7772400" cy="22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d0dff"/>
                </a:solidFill>
                <a:latin typeface="Arial"/>
              </a:rPr>
              <a:t>Игра «Ателье»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3880" y="3285720"/>
            <a:ext cx="7858440" cy="23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1f2e"/>
                </a:solidFill>
                <a:latin typeface="Arial"/>
              </a:rPr>
              <a:t>Учитель техноло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1f2e"/>
                </a:solidFill>
                <a:latin typeface="Arial"/>
              </a:rPr>
              <a:t>МОУ СОШ с.Царевщ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1f2e"/>
                </a:solidFill>
                <a:latin typeface="Arial"/>
              </a:rPr>
              <a:t>Балтайского рай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1f2e"/>
                </a:solidFill>
                <a:latin typeface="Arial"/>
              </a:rPr>
              <a:t>Саратовской обл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ff"/>
                </a:solidFill>
                <a:latin typeface="Arial"/>
              </a:rPr>
              <a:t>Салина Светлана Александр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7429680" y="6286680"/>
            <a:ext cx="714240" cy="357120"/>
          </a:xfrm>
          <a:custGeom>
            <a:avLst/>
            <a:gdLst>
              <a:gd name="textAreaLeft" fmla="*/ 23040 w 714240"/>
              <a:gd name="textAreaRight" fmla="*/ 691200 w 7142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60597b"/>
          </a:solidFill>
          <a:ln w="25560">
            <a:solidFill>
              <a:srgbClr val="443f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042920" y="641988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дея перемещения объектов предложена Hans Werner Hofmann </a:t>
            </a:r>
            <a:r>
              <a:rPr b="0" lang="ru-RU" sz="1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w@lemitec.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Arial"/>
              </a:rPr>
              <a:t>Помоги модельеру выполнить заказ на изготовление юбки для деловой встречи</a:t>
            </a:r>
            <a:br>
              <a:rPr sz="2800"/>
            </a:b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(нажми на выбранную модель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C:\Documents and Settings\Admin\Мои документы\Мои рисунки\images (2).jpg"/>
          <p:cNvPicPr/>
          <p:nvPr/>
        </p:nvPicPr>
        <p:blipFill>
          <a:blip r:embed="rId2"/>
          <a:stretch/>
        </p:blipFill>
        <p:spPr>
          <a:xfrm>
            <a:off x="2643120" y="1857240"/>
            <a:ext cx="1214640" cy="2043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Documents and Settings\Admin\Мои документы\Мои рисунки\images (16).jpg"/>
          <p:cNvPicPr/>
          <p:nvPr/>
        </p:nvPicPr>
        <p:blipFill>
          <a:blip r:embed="rId3"/>
          <a:stretch/>
        </p:blipFill>
        <p:spPr>
          <a:xfrm>
            <a:off x="357120" y="4587840"/>
            <a:ext cx="1714680" cy="1841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C:\Documents and Settings\Admin\Мои документы\Мои рисунки\images (17).jpg"/>
          <p:cNvPicPr/>
          <p:nvPr/>
        </p:nvPicPr>
        <p:blipFill>
          <a:blip r:embed="rId4"/>
          <a:stretch/>
        </p:blipFill>
        <p:spPr>
          <a:xfrm>
            <a:off x="2714760" y="4572000"/>
            <a:ext cx="1530360" cy="1852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C:\Documents and Settings\Admin\Мои документы\Мои рисунки\images (18).jpg"/>
          <p:cNvPicPr/>
          <p:nvPr/>
        </p:nvPicPr>
        <p:blipFill>
          <a:blip r:embed="rId5"/>
          <a:stretch/>
        </p:blipFill>
        <p:spPr>
          <a:xfrm>
            <a:off x="7072200" y="4572000"/>
            <a:ext cx="1446480" cy="1928880"/>
          </a:xfrm>
          <a:prstGeom prst="rect">
            <a:avLst/>
          </a:prstGeom>
          <a:ln w="0">
            <a:noFill/>
          </a:ln>
        </p:spPr>
      </p:pic>
      <p:sp>
        <p:nvSpPr>
          <p:cNvPr id="57" name="Овал 8"/>
          <p:cNvSpPr/>
          <p:nvPr/>
        </p:nvSpPr>
        <p:spPr>
          <a:xfrm>
            <a:off x="4214880" y="1500120"/>
            <a:ext cx="2857320" cy="2786040"/>
          </a:xfrm>
          <a:prstGeom prst="ellipse">
            <a:avLst/>
          </a:prstGeom>
          <a:solidFill>
            <a:srgbClr val="c2c2ff"/>
          </a:solidFill>
          <a:ln w="25560">
            <a:solidFill>
              <a:srgbClr val="443f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9" descr="C:\Documents and Settings\Admin\Мои документы\Мои рисунки\знак вопроса.gif"/>
          <p:cNvPicPr/>
          <p:nvPr/>
        </p:nvPicPr>
        <p:blipFill>
          <a:blip r:embed="rId6"/>
          <a:stretch/>
        </p:blipFill>
        <p:spPr>
          <a:xfrm>
            <a:off x="4952880" y="2286000"/>
            <a:ext cx="1357560" cy="1357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C:\Documents and Settings\Admin\Мои документы\Мои рисунки\images (19).jpg"/>
          <p:cNvPicPr/>
          <p:nvPr/>
        </p:nvPicPr>
        <p:blipFill>
          <a:blip r:embed="rId7"/>
          <a:stretch/>
        </p:blipFill>
        <p:spPr>
          <a:xfrm>
            <a:off x="4857840" y="4572000"/>
            <a:ext cx="1452600" cy="1897200"/>
          </a:xfrm>
          <a:prstGeom prst="rect">
            <a:avLst/>
          </a:prstGeom>
          <a:ln w="0">
            <a:noFill/>
          </a:ln>
        </p:spPr>
      </p:pic>
      <p:sp>
        <p:nvSpPr>
          <p:cNvPr id="60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8286840" y="6286680"/>
            <a:ext cx="571320" cy="357120"/>
          </a:xfrm>
          <a:custGeom>
            <a:avLst/>
            <a:gdLst>
              <a:gd name="textAreaLeft" fmla="*/ 23040 w 571320"/>
              <a:gd name="textAreaRight" fmla="*/ 548280 w 5713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43" h="21600">
                <a:moveTo>
                  <a:pt x="0" y="0"/>
                </a:moveTo>
                <a:lnTo>
                  <a:pt x="34543" y="0"/>
                </a:lnTo>
                <a:lnTo>
                  <a:pt x="34543" y="21600"/>
                </a:lnTo>
                <a:lnTo>
                  <a:pt x="0" y="21600"/>
                </a:lnTo>
                <a:close/>
              </a:path>
              <a:path fill="lightenLess" w="34543" h="21600">
                <a:moveTo>
                  <a:pt x="0" y="0"/>
                </a:moveTo>
                <a:lnTo>
                  <a:pt x="34543" y="0"/>
                </a:lnTo>
                <a:lnTo>
                  <a:pt x="33143" y="1400"/>
                </a:lnTo>
                <a:lnTo>
                  <a:pt x="1400" y="1400"/>
                </a:lnTo>
                <a:close/>
              </a:path>
              <a:path fill="darken" w="34543" h="21600">
                <a:moveTo>
                  <a:pt x="34543" y="0"/>
                </a:moveTo>
                <a:lnTo>
                  <a:pt x="34543" y="21600"/>
                </a:lnTo>
                <a:lnTo>
                  <a:pt x="33143" y="20200"/>
                </a:lnTo>
                <a:lnTo>
                  <a:pt x="33143" y="1400"/>
                </a:lnTo>
                <a:close/>
              </a:path>
              <a:path fill="darkenLess" w="34543" h="21600">
                <a:moveTo>
                  <a:pt x="34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3" y="20200"/>
                </a:lnTo>
                <a:close/>
              </a:path>
              <a:path fill="lighten" w="34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3" h="21600">
                <a:moveTo>
                  <a:pt x="10265" y="3794"/>
                </a:moveTo>
                <a:lnTo>
                  <a:pt x="24278" y="10800"/>
                </a:lnTo>
                <a:lnTo>
                  <a:pt x="10265" y="17806"/>
                </a:lnTo>
                <a:close/>
              </a:path>
            </a:pathLst>
          </a:custGeom>
          <a:solidFill>
            <a:srgbClr val="60597b"/>
          </a:solidFill>
          <a:ln w="25560">
            <a:solidFill>
              <a:srgbClr val="443f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5.55556E-006 L -2.77778E-006 -0.378 E">
                                      <p:cBhvr>
                                        <p:cTn id="27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Arial"/>
              </a:rPr>
              <a:t>Подбери ткань для выбранной мод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8" descr="C:\Documents and Settings\Admin\Мои документы\Мои рисунки\images (19).jpg"/>
          <p:cNvPicPr/>
          <p:nvPr/>
        </p:nvPicPr>
        <p:blipFill>
          <a:blip r:embed="rId1"/>
          <a:stretch/>
        </p:blipFill>
        <p:spPr>
          <a:xfrm>
            <a:off x="3786120" y="1643040"/>
            <a:ext cx="1743120" cy="261936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6"/>
          <p:cNvSpPr/>
          <p:nvPr/>
        </p:nvSpPr>
        <p:spPr>
          <a:xfrm>
            <a:off x="1214280" y="1714680"/>
            <a:ext cx="1785960" cy="785520"/>
          </a:xfrm>
          <a:prstGeom prst="rect">
            <a:avLst/>
          </a:prstGeom>
          <a:solidFill>
            <a:srgbClr val="60597b"/>
          </a:solidFill>
          <a:ln w="25560">
            <a:solidFill>
              <a:srgbClr val="443f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Прямоугольник 7"/>
          <p:cNvSpPr/>
          <p:nvPr/>
        </p:nvSpPr>
        <p:spPr>
          <a:xfrm>
            <a:off x="6500880" y="1785960"/>
            <a:ext cx="1785960" cy="785880"/>
          </a:xfrm>
          <a:prstGeom prst="rect">
            <a:avLst/>
          </a:prstGeom>
          <a:solidFill>
            <a:srgbClr val="60597b"/>
          </a:solidFill>
          <a:ln w="25560">
            <a:solidFill>
              <a:srgbClr val="443f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т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Прямоугольник 8"/>
          <p:cNvSpPr/>
          <p:nvPr/>
        </p:nvSpPr>
        <p:spPr>
          <a:xfrm>
            <a:off x="1143000" y="3143160"/>
            <a:ext cx="1785960" cy="785880"/>
          </a:xfrm>
          <a:prstGeom prst="rect">
            <a:avLst/>
          </a:prstGeom>
          <a:solidFill>
            <a:srgbClr val="60597b"/>
          </a:solidFill>
          <a:ln w="25560">
            <a:solidFill>
              <a:srgbClr val="443f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ел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Прямоугольник 9"/>
          <p:cNvSpPr/>
          <p:nvPr/>
        </p:nvSpPr>
        <p:spPr>
          <a:xfrm>
            <a:off x="6572160" y="3071880"/>
            <a:ext cx="1785960" cy="785880"/>
          </a:xfrm>
          <a:prstGeom prst="rect">
            <a:avLst/>
          </a:prstGeom>
          <a:solidFill>
            <a:srgbClr val="60597b"/>
          </a:solidFill>
          <a:ln w="25560">
            <a:solidFill>
              <a:srgbClr val="443f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ер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Скругленный прямоугольник 10"/>
          <p:cNvSpPr/>
          <p:nvPr/>
        </p:nvSpPr>
        <p:spPr>
          <a:xfrm>
            <a:off x="2071800" y="5286240"/>
            <a:ext cx="54291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43f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Описание моде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1493 0.17847 E">
                                      <p:cBhvr>
                                        <p:cTn id="56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Arial"/>
              </a:rPr>
              <a:t>Помоги закройщику подобрать выкройку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2" descr="C:\Documents and Settings\Admin\Мои документы\Мои рисунки\images (15).jpg"/>
          <p:cNvPicPr/>
          <p:nvPr/>
        </p:nvPicPr>
        <p:blipFill>
          <a:blip r:embed="rId1"/>
          <a:stretch/>
        </p:blipFill>
        <p:spPr>
          <a:xfrm>
            <a:off x="1785960" y="1428840"/>
            <a:ext cx="2467080" cy="2143080"/>
          </a:xfrm>
          <a:prstGeom prst="rect">
            <a:avLst/>
          </a:prstGeom>
          <a:ln w="0">
            <a:noFill/>
          </a:ln>
        </p:spPr>
      </p:pic>
      <p:sp>
        <p:nvSpPr>
          <p:cNvPr id="70" name="Овал 8"/>
          <p:cNvSpPr/>
          <p:nvPr/>
        </p:nvSpPr>
        <p:spPr>
          <a:xfrm>
            <a:off x="6357960" y="4500720"/>
            <a:ext cx="2071800" cy="1271520"/>
          </a:xfrm>
          <a:prstGeom prst="ellipse">
            <a:avLst/>
          </a:prstGeom>
          <a:solidFill>
            <a:srgbClr val="c2c2ff"/>
          </a:solidFill>
          <a:ln w="25560">
            <a:solidFill>
              <a:srgbClr val="443f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МОЛОДЕЦ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" name="Группа 20"/>
          <p:cNvGrpSpPr/>
          <p:nvPr/>
        </p:nvGrpSpPr>
        <p:grpSpPr>
          <a:xfrm>
            <a:off x="500040" y="4000680"/>
            <a:ext cx="2214720" cy="2357280"/>
            <a:chOff x="500040" y="4000680"/>
            <a:chExt cx="2214720" cy="2357280"/>
          </a:xfrm>
        </p:grpSpPr>
        <p:sp>
          <p:nvSpPr>
            <p:cNvPr id="72" name="Прямоугольник 14"/>
            <p:cNvSpPr/>
            <p:nvPr/>
          </p:nvSpPr>
          <p:spPr>
            <a:xfrm>
              <a:off x="500040" y="4000680"/>
              <a:ext cx="2214720" cy="2357280"/>
            </a:xfrm>
            <a:prstGeom prst="rect">
              <a:avLst/>
            </a:prstGeom>
            <a:solidFill>
              <a:srgbClr val="c2c2d6"/>
            </a:solidFill>
            <a:ln w="25560">
              <a:solidFill>
                <a:srgbClr val="443f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3" name="Picture 3" descr="C:\Documents and Settings\Admin\Мои документы\Мои рисунки\Ю 1.jpg"/>
            <p:cNvPicPr/>
            <p:nvPr/>
          </p:nvPicPr>
          <p:blipFill>
            <a:blip r:embed="rId2"/>
            <a:stretch/>
          </p:blipFill>
          <p:spPr>
            <a:xfrm>
              <a:off x="642600" y="4143240"/>
              <a:ext cx="1929240" cy="204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" name="Группа 21"/>
          <p:cNvGrpSpPr/>
          <p:nvPr/>
        </p:nvGrpSpPr>
        <p:grpSpPr>
          <a:xfrm>
            <a:off x="2857680" y="3929040"/>
            <a:ext cx="3071520" cy="2428920"/>
            <a:chOff x="2857680" y="3929040"/>
            <a:chExt cx="3071520" cy="2428920"/>
          </a:xfrm>
        </p:grpSpPr>
        <p:sp>
          <p:nvSpPr>
            <p:cNvPr id="75" name="Прямоугольник 15"/>
            <p:cNvSpPr/>
            <p:nvPr/>
          </p:nvSpPr>
          <p:spPr>
            <a:xfrm>
              <a:off x="2857680" y="3929040"/>
              <a:ext cx="3071520" cy="2428920"/>
            </a:xfrm>
            <a:prstGeom prst="rect">
              <a:avLst/>
            </a:prstGeom>
            <a:solidFill>
              <a:srgbClr val="c2c2d6"/>
            </a:solidFill>
            <a:ln w="25560">
              <a:solidFill>
                <a:srgbClr val="443f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6" name="Picture 5" descr="C:\Documents and Settings\Admin\Мои документы\Мои рисунки\ю2.jpg"/>
            <p:cNvPicPr/>
            <p:nvPr/>
          </p:nvPicPr>
          <p:blipFill>
            <a:blip r:embed="rId3"/>
            <a:stretch/>
          </p:blipFill>
          <p:spPr>
            <a:xfrm>
              <a:off x="2928960" y="4000320"/>
              <a:ext cx="2871720" cy="220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" name="Прямоугольник 19"/>
          <p:cNvSpPr/>
          <p:nvPr/>
        </p:nvSpPr>
        <p:spPr>
          <a:xfrm>
            <a:off x="4572000" y="1428840"/>
            <a:ext cx="2500200" cy="2143080"/>
          </a:xfrm>
          <a:prstGeom prst="rect">
            <a:avLst/>
          </a:prstGeom>
          <a:solidFill>
            <a:srgbClr val="c2c2ff"/>
          </a:solidFill>
          <a:ln w="25560">
            <a:solidFill>
              <a:srgbClr val="443f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" name="Группа 25"/>
          <p:cNvGrpSpPr/>
          <p:nvPr/>
        </p:nvGrpSpPr>
        <p:grpSpPr>
          <a:xfrm>
            <a:off x="6000840" y="3929040"/>
            <a:ext cx="2786040" cy="2428920"/>
            <a:chOff x="6000840" y="3929040"/>
            <a:chExt cx="2786040" cy="2428920"/>
          </a:xfrm>
        </p:grpSpPr>
        <p:sp>
          <p:nvSpPr>
            <p:cNvPr id="79" name="Прямоугольник 26"/>
            <p:cNvSpPr/>
            <p:nvPr/>
          </p:nvSpPr>
          <p:spPr>
            <a:xfrm>
              <a:off x="6000840" y="3929040"/>
              <a:ext cx="2786040" cy="2428920"/>
            </a:xfrm>
            <a:prstGeom prst="rect">
              <a:avLst/>
            </a:prstGeom>
            <a:solidFill>
              <a:srgbClr val="c2c2d6"/>
            </a:solidFill>
            <a:ln w="25560">
              <a:solidFill>
                <a:srgbClr val="443f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0" name="Picture 4" descr="C:\Documents and Settings\Admin\Мои документы\Мои рисунки\Ю.jpg"/>
            <p:cNvPicPr/>
            <p:nvPr/>
          </p:nvPicPr>
          <p:blipFill>
            <a:blip r:embed="rId4"/>
            <a:stretch/>
          </p:blipFill>
          <p:spPr>
            <a:xfrm>
              <a:off x="6143400" y="4000320"/>
              <a:ext cx="2500560" cy="221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Управляющая кнопка: далее 16">
            <a:hlinkClick r:id="rId5" action="ppaction://hlinksldjump"/>
          </p:cNvPr>
          <p:cNvSpPr/>
          <p:nvPr/>
        </p:nvSpPr>
        <p:spPr>
          <a:xfrm>
            <a:off x="8286840" y="6429240"/>
            <a:ext cx="500040" cy="214560"/>
          </a:xfrm>
          <a:custGeom>
            <a:avLst/>
            <a:gdLst>
              <a:gd name="textAreaLeft" fmla="*/ 13680 w 500040"/>
              <a:gd name="textAreaRight" fmla="*/ 486360 w 50004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50291" h="21600">
                <a:moveTo>
                  <a:pt x="0" y="0"/>
                </a:moveTo>
                <a:lnTo>
                  <a:pt x="50291" y="0"/>
                </a:lnTo>
                <a:lnTo>
                  <a:pt x="50291" y="21600"/>
                </a:lnTo>
                <a:lnTo>
                  <a:pt x="0" y="21600"/>
                </a:lnTo>
                <a:close/>
              </a:path>
              <a:path fill="lightenLess" w="50291" h="21600">
                <a:moveTo>
                  <a:pt x="0" y="0"/>
                </a:moveTo>
                <a:lnTo>
                  <a:pt x="50291" y="0"/>
                </a:lnTo>
                <a:lnTo>
                  <a:pt x="48891" y="1400"/>
                </a:lnTo>
                <a:lnTo>
                  <a:pt x="1400" y="1400"/>
                </a:lnTo>
                <a:close/>
              </a:path>
              <a:path fill="darken" w="50291" h="21600">
                <a:moveTo>
                  <a:pt x="50291" y="0"/>
                </a:moveTo>
                <a:lnTo>
                  <a:pt x="50291" y="21600"/>
                </a:lnTo>
                <a:lnTo>
                  <a:pt x="48891" y="20200"/>
                </a:lnTo>
                <a:lnTo>
                  <a:pt x="48891" y="1400"/>
                </a:lnTo>
                <a:close/>
              </a:path>
              <a:path fill="darkenLess" w="50291" h="21600">
                <a:moveTo>
                  <a:pt x="502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891" y="20200"/>
                </a:lnTo>
                <a:close/>
              </a:path>
              <a:path fill="lighten" w="502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291" h="21600">
                <a:moveTo>
                  <a:pt x="18139" y="3794"/>
                </a:moveTo>
                <a:lnTo>
                  <a:pt x="32152" y="10800"/>
                </a:lnTo>
                <a:lnTo>
                  <a:pt x="18139" y="17806"/>
                </a:lnTo>
                <a:close/>
              </a:path>
            </a:pathLst>
          </a:custGeom>
          <a:solidFill>
            <a:srgbClr val="60597b"/>
          </a:solidFill>
          <a:ln w="25560">
            <a:solidFill>
              <a:srgbClr val="443f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23 -0.11343 L -0.15886 -0.37593 E">
                                      <p:cBhvr>
                                        <p:cTn id="72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1fd3"/>
                </a:solidFill>
                <a:latin typeface="Arial"/>
              </a:rPr>
              <a:t>Описание мод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Arial"/>
              </a:rPr>
              <a:t>Юбка прямая в классическом стиле, сшита из тонкой шерсти. Модель зауженная к низу, с разрезом впереди-сбоку. Вертикальная застежка сзад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Arial"/>
              </a:rPr>
              <a:t>Модель является неотъемлемым элемент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61616"/>
                </a:solidFill>
                <a:latin typeface="Arial"/>
              </a:rPr>
              <a:t>делового костюм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Arial"/>
              </a:rPr>
              <a:t>Моделирование длины и ширины юбки позволяет подчеркнуть  строгость и оригиналь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Управляющая кнопка: назад 5">
            <a:hlinkClick r:id="rId1" action="ppaction://hlinksldjump"/>
          </p:cNvPr>
          <p:cNvSpPr/>
          <p:nvPr/>
        </p:nvSpPr>
        <p:spPr>
          <a:xfrm>
            <a:off x="7000920" y="5715000"/>
            <a:ext cx="714240" cy="357120"/>
          </a:xfrm>
          <a:custGeom>
            <a:avLst/>
            <a:gdLst>
              <a:gd name="textAreaLeft" fmla="*/ 23040 w 714240"/>
              <a:gd name="textAreaRight" fmla="*/ 691200 w 7142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60597b"/>
          </a:solidFill>
          <a:ln w="25560">
            <a:solidFill>
              <a:srgbClr val="443f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Arial"/>
              </a:rPr>
              <a:t>Собери три модели делового костю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C:\Documents and Settings\Admin\Рабочий стол\classic1-small1.jpg"/>
          <p:cNvPicPr/>
          <p:nvPr/>
        </p:nvPicPr>
        <p:blipFill>
          <a:blip r:embed="rId1"/>
          <a:stretch/>
        </p:blipFill>
        <p:spPr>
          <a:xfrm>
            <a:off x="4286160" y="1500120"/>
            <a:ext cx="1214640" cy="1187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C:\Documents and Settings\Admin\Рабочий стол\Копия classic1-small1.jpg"/>
          <p:cNvPicPr/>
          <p:nvPr/>
        </p:nvPicPr>
        <p:blipFill>
          <a:blip r:embed="rId2"/>
          <a:stretch/>
        </p:blipFill>
        <p:spPr>
          <a:xfrm>
            <a:off x="2428920" y="4786200"/>
            <a:ext cx="1214280" cy="1009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Documents and Settings\Admin\Рабочий стол\Копия (2) classic1-small1.jpg"/>
          <p:cNvPicPr/>
          <p:nvPr/>
        </p:nvPicPr>
        <p:blipFill>
          <a:blip r:embed="rId3"/>
          <a:stretch/>
        </p:blipFill>
        <p:spPr>
          <a:xfrm>
            <a:off x="2428920" y="3071880"/>
            <a:ext cx="1214280" cy="1104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C:\Documents and Settings\Admin\Рабочий стол\Копия art0063.png"/>
          <p:cNvPicPr/>
          <p:nvPr/>
        </p:nvPicPr>
        <p:blipFill>
          <a:blip r:embed="rId4"/>
          <a:stretch/>
        </p:blipFill>
        <p:spPr>
          <a:xfrm>
            <a:off x="2376360" y="1459080"/>
            <a:ext cx="1282680" cy="1385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C:\Documents and Settings\Admin\Рабочий стол\Копия Копия art0063.png"/>
          <p:cNvPicPr/>
          <p:nvPr/>
        </p:nvPicPr>
        <p:blipFill>
          <a:blip r:embed="rId5"/>
          <a:stretch/>
        </p:blipFill>
        <p:spPr>
          <a:xfrm>
            <a:off x="6000840" y="3214800"/>
            <a:ext cx="1282680" cy="1130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C:\Documents and Settings\Admin\Рабочий стол\Копия Копия Копия art0063.png"/>
          <p:cNvPicPr/>
          <p:nvPr/>
        </p:nvPicPr>
        <p:blipFill>
          <a:blip r:embed="rId6"/>
          <a:stretch/>
        </p:blipFill>
        <p:spPr>
          <a:xfrm>
            <a:off x="4071960" y="3143160"/>
            <a:ext cx="1282680" cy="1028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C:\Documents and Settings\Admin\Рабочий стол\art0063.png"/>
          <p:cNvPicPr/>
          <p:nvPr/>
        </p:nvPicPr>
        <p:blipFill>
          <a:blip r:embed="rId7"/>
          <a:stretch/>
        </p:blipFill>
        <p:spPr>
          <a:xfrm>
            <a:off x="5786280" y="1500120"/>
            <a:ext cx="1320840" cy="1130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C:\Documents and Settings\Admin\Рабочий стол\Копия (2) art0063.png"/>
          <p:cNvPicPr/>
          <p:nvPr/>
        </p:nvPicPr>
        <p:blipFill>
          <a:blip r:embed="rId8"/>
          <a:stretch/>
        </p:blipFill>
        <p:spPr>
          <a:xfrm>
            <a:off x="6000840" y="4643280"/>
            <a:ext cx="1320840" cy="1143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C:\Documents and Settings\Admin\Рабочий стол\Копия (3) art0063.png"/>
          <p:cNvPicPr/>
          <p:nvPr/>
        </p:nvPicPr>
        <p:blipFill>
          <a:blip r:embed="rId9"/>
          <a:stretch/>
        </p:blipFill>
        <p:spPr>
          <a:xfrm>
            <a:off x="4098960" y="4502160"/>
            <a:ext cx="1320840" cy="1282680"/>
          </a:xfrm>
          <a:prstGeom prst="rect">
            <a:avLst/>
          </a:prstGeom>
          <a:ln w="0">
            <a:noFill/>
          </a:ln>
        </p:spPr>
      </p:pic>
      <p:sp>
        <p:nvSpPr>
          <p:cNvPr id="95" name="Управляющая кнопка: в начало 12">
            <a:hlinkClick r:id="" action="ppaction://hlinkshowjump?jump=endshow"/>
          </p:cNvPr>
          <p:cNvSpPr/>
          <p:nvPr/>
        </p:nvSpPr>
        <p:spPr>
          <a:xfrm>
            <a:off x="7858080" y="6143760"/>
            <a:ext cx="1000080" cy="471240"/>
          </a:xfrm>
          <a:custGeom>
            <a:avLst/>
            <a:gdLst>
              <a:gd name="textAreaLeft" fmla="*/ 30240 w 1000080"/>
              <a:gd name="textAreaRight" fmla="*/ 969840 w 1000080"/>
              <a:gd name="textAreaTop" fmla="*/ 30240 h 471240"/>
              <a:gd name="textAreaBottom" fmla="*/ 441000 h 471240"/>
            </a:gdLst>
            <a:ahLst/>
            <a:rect l="textAreaLeft" t="textAreaTop" r="textAreaRight" b="textAreaBottom"/>
            <a:pathLst>
              <a:path w="45822" h="21600">
                <a:moveTo>
                  <a:pt x="0" y="0"/>
                </a:moveTo>
                <a:lnTo>
                  <a:pt x="45822" y="0"/>
                </a:lnTo>
                <a:lnTo>
                  <a:pt x="45822" y="21600"/>
                </a:lnTo>
                <a:lnTo>
                  <a:pt x="0" y="21600"/>
                </a:lnTo>
                <a:close/>
              </a:path>
              <a:path fill="lightenLess" w="45822" h="21600">
                <a:moveTo>
                  <a:pt x="0" y="0"/>
                </a:moveTo>
                <a:lnTo>
                  <a:pt x="45822" y="0"/>
                </a:lnTo>
                <a:lnTo>
                  <a:pt x="44422" y="1400"/>
                </a:lnTo>
                <a:lnTo>
                  <a:pt x="1400" y="1400"/>
                </a:lnTo>
                <a:close/>
              </a:path>
              <a:path fill="darken" w="45822" h="21600">
                <a:moveTo>
                  <a:pt x="45822" y="0"/>
                </a:moveTo>
                <a:lnTo>
                  <a:pt x="45822" y="21600"/>
                </a:lnTo>
                <a:lnTo>
                  <a:pt x="44422" y="20200"/>
                </a:lnTo>
                <a:lnTo>
                  <a:pt x="44422" y="1400"/>
                </a:lnTo>
                <a:close/>
              </a:path>
              <a:path fill="darkenLess" w="45822" h="21600">
                <a:moveTo>
                  <a:pt x="458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22" y="20200"/>
                </a:lnTo>
                <a:close/>
              </a:path>
              <a:path fill="lighten" w="458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822" h="21600">
                <a:moveTo>
                  <a:pt x="19412" y="10800"/>
                </a:moveTo>
                <a:lnTo>
                  <a:pt x="29917" y="3794"/>
                </a:lnTo>
                <a:lnTo>
                  <a:pt x="29917" y="17806"/>
                </a:lnTo>
                <a:close/>
              </a:path>
              <a:path fill="darken" w="45822" h="21600">
                <a:moveTo>
                  <a:pt x="15904" y="3794"/>
                </a:moveTo>
                <a:lnTo>
                  <a:pt x="17567" y="3794"/>
                </a:lnTo>
                <a:lnTo>
                  <a:pt x="17567" y="17806"/>
                </a:lnTo>
                <a:lnTo>
                  <a:pt x="15904" y="17806"/>
                </a:lnTo>
                <a:close/>
              </a:path>
            </a:pathLst>
          </a:custGeom>
          <a:solidFill>
            <a:srgbClr val="60597b"/>
          </a:solidFill>
          <a:ln w="25560">
            <a:solidFill>
              <a:srgbClr val="443f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Arial"/>
              </a:rPr>
              <a:t>Используемые материал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5"/>
              </a:spcBef>
              <a:buClr>
                <a:srgbClr val="1f1f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f1fd3"/>
                </a:solidFill>
                <a:latin typeface="Arial"/>
              </a:rPr>
              <a:t>Юбки </a:t>
            </a:r>
            <a:r>
              <a:rPr b="0" lang="en-US" sz="11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www.google.ru/search?q=%D1%8E%D0%B1%D0%BA%D0%B8+%D0%BA%D0%B0%D1%80%D1%82%D0%B8%D0%BD%D0%BA%D0%B8&amp;hl=ru&amp;newwindow=1&amp;prmd=imvns&amp;tbm=isch&amp;tbo=u&amp;source=univ&amp;sa=X&amp;ei=DNMvT6iTBc3AtAbCnr3aDA&amp;sqi=2&amp;ved=0CD4QsAQ&amp;biw=1005&amp;bih=61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1f1f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f1fd3"/>
                </a:solidFill>
                <a:latin typeface="Arial"/>
              </a:rPr>
              <a:t>Модельер  </a:t>
            </a:r>
            <a:r>
              <a:rPr b="0" lang="en-US" sz="11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http://www.google.ru/search?q=%D0%BA%D0%B0%D1%80%D1%82%D0%B8%D0%BD%D0%BA%D0%B8+%D0%BC%D0%BE%D0%B4%D0%B5%D0%BB%D1%8C%D0%B5%D1%80%D0%BE%D0%B2&amp;hl=ru&amp;newwindow=1&amp;prmd=imvns&amp;tbm=isch&amp;tbo=u&amp;source=univ&amp;sa=X&amp;ei=MdQvT7ipII7Bswamo8ihDQ&amp;sqi=2&amp;ved=0CDAQsAQ&amp;biw=1005&amp;bih=61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1f1f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f1fd3"/>
                </a:solidFill>
                <a:latin typeface="Arial"/>
              </a:rPr>
              <a:t>Закройщик </a:t>
            </a:r>
            <a:r>
              <a:rPr b="0" lang="en-US" sz="11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http://www.google.ru/search?q=%D0%BA%D0%B0%D1%80%D1%82%D0%B8%D0%BD%D0%BA%D0%B8+%D0%BC%D0%BE%D0%B4%D0%B5%D0%BB%D1%8C%D0%B5%D1%80%D0%BE%D0%B2&amp;hl=ru&amp;newwindow=1&amp;prmd=imvns&amp;tbm=isch&amp;tbo=u&amp;source=univ&amp;sa=X&amp;ei=MdQvT7ipII7Bswamo8ihDQ&amp;sqi=2&amp;ved=0CDAQsAQ&amp;biw=1005&amp;bih=612#hl=ru&amp;newwindow=1&amp;tbm=isch&amp;sa=1&amp;q=%D0%BA%D0%B0%D1%80%D1%82%D0%B8%D0%BD%D0%BA%D0%B8+%D0%B7%D0%B0%D0%BA%D1%80%D0%BE%D0%B9%D1%89%D0%B8%D0%BA&amp;pbx=1&amp;oq=%D0%BA%D0%B0%D1%80%D1%82%D0%B8%D0%BD%D0%BA%D0%B8+%D0%B7%D0%B0%D0%BA%D1%80%D0%BE%D0%B9%D1%89%D0%B8%D0%BA&amp;aq=f&amp;aqi=&amp;aql=&amp;gs_sm=s&amp;gs_upl=89305l95310l0l100558l10l10l0l6l6l1l2109l4636l5-2.0.1.0.1l4l0&amp;bav=on.2,or.r_gc.r_pw.,cf.osb&amp;fp=63627bac8210682e&amp;biw=1005&amp;bih=61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1f1f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f1fd3"/>
                </a:solidFill>
                <a:latin typeface="Arial"/>
              </a:rPr>
              <a:t>Костюмы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http://www.google.ru/search?q=%D0%BA%D0%B0%D1%80%D1%82%D0%B8%D0%BD%D0%BA%D0%B8+%D0%BC%D0%BE%D0%B4%D0%B5%D0%BB%D1%8C%D0%B5%D1%80%D0%BE%D0%B2&amp;hl=ru&amp;newwindow=1&amp;prmd=imvns&amp;tbm=isch&amp;tbo=u&amp;source=univ&amp;sa=X&amp;ei=MdQvT7ipII7Bswamo8ihDQ&amp;sqi=2&amp;ved=0CDAQsAQ&amp;biw=1005&amp;bih=612#hl=ru&amp;newwindow=1&amp;tbm=isch&amp;sa=1&amp;q=%D0%BA%D0%B0%D1%80%D1%82%D0%B8%D0%BD%D0%BA%D0%B8+%D0%BA%D0%BB%D0%B0%D1%81%D1%81%D0%B8%D1%87%D0%B5%D1%81%D0%BA%D0%B8%D0%B9+%D1%81%D1%82%D0%B8%D0%BB%D1%8C+%D0%B2+%D0%BE%D0%B4%D0%B5%D0%B6%D0%B4%D0%B5&amp;pbx=1&amp;oq=%D0%BA%D0%B0%D1%80%D1%82%D0%B8%D0%BD%D0%BA%D0%B8+%D0%BA%D0%BB%D0%B0%D1%81%D1%81%D0%B8%D1%87%D0%B5%D1%81%D0%BA%D0%B8%D0%B9+%D1%81%D1%82%D0%B8%D0%BB%D1%8C+%D0%B2+%D0%BE%D0%B4%D0%B5%D0%B6%D0%B4%D0%B5&amp;aq=f&amp;aqi=&amp;aql=&amp;gs_sm=s&amp;gs_upl=30058l41102l0l43472l28l28l0l18l18l2l886l5107l5-3.4l7l0&amp;bav=on.2,or.r_gc.r_pw.,cf.osb&amp;fp=63627bac8210682e&amp;biw=1005&amp;bih=56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Admin</cp:lastModifiedBy>
  <dcterms:modified xsi:type="dcterms:W3CDTF">2012-02-06T13:32:03Z</dcterms:modified>
  <cp:revision>62</cp:revision>
  <dc:subject/>
  <dc:title>Слайд 1</dc:title>
</cp:coreProperties>
</file>