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555-F06B-4066-B855-16A12AE5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F25-19CB-49F1-AB08-BD2E5B04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B17-C295-4DCC-8AC3-59CB9ADE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ADB-6624-45F0-8ACF-C1B48FCC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316F-4C33-46F8-A66A-107130C0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9BC2-E9DB-4E33-A033-C66721AF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271F-B403-4A6D-AC21-6D384E1D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28B6-C810-42BC-9EA4-C03CCA05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D502-7B81-46F9-9616-0E4FD24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C149-1535-4D0E-AF1B-89BA913F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9CE0-884B-4D1D-B3B0-02A6F4B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623-FE31-4274-91C4-B1C45D29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30CF-9C9E-4418-91C2-7E3E096C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D55E-EFBE-4CD4-812F-74CF7CC4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3DFA-F7BB-4418-937E-DADB35DE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8426-5693-4067-ACAA-2CEE0A93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6660-7DFA-46A5-83C1-2D0A1AD1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81C-2CD2-4F78-93B6-DE0B6A45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5D1-FAEB-49B8-8052-E98A3C86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87F-1212-4BEB-8893-73D9A362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662-E340-491D-9C67-B9E350EE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F1A-0FE2-44FC-B4BB-8D5662F7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22D-F088-4D1E-9B24-6157C73E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C3D-77E6-49F6-9A6B-2C54C0F7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862F-851C-49C5-8490-5EFC5112EA4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3348-BC6C-480A-AAE5-372CC2639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D103-9C20-4F4B-A935-23D7B08953E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1C42-1975-4DD1-B893-F7003271C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098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ff"/>
                </a:solidFill>
                <a:latin typeface="Arial"/>
              </a:rPr>
              <a:t>Как </a:t>
            </a:r>
            <a:br>
              <a:rPr sz="5400"/>
            </a:br>
            <a:r>
              <a:rPr b="1" i="1" lang="ru-RU" sz="5400" spc="-1" strike="noStrike">
                <a:solidFill>
                  <a:srgbClr val="0066ff"/>
                </a:solidFill>
                <a:latin typeface="Arial"/>
              </a:rPr>
              <a:t>человек использует богатства природ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окружающего мир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17B6-4C6A-4685-B39A-A896557ACF7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FE31E92-45B2-475B-B786-8EC9772256E8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60320" y="939960"/>
            <a:ext cx="7621560" cy="497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F5C-85D4-41BF-B9F0-4754D9C18A03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719A2-3292-4303-8589-102E819B3925}" type="datetime1">
              <a:rPr lang="en-US"/>
              <a:t>07/30/26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ите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Много леса – не губ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Мало леса – берег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Нет леса – поса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C19-F2D4-4BAA-A551-18BEAA21E0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52D77-D006-47B9-B6E3-CFA83C4DBC6E}" type="datetime1">
              <a:rPr lang="en-US"/>
              <a:t>07/30/26</a:t>
            </a:fld>
          </a:p>
        </p:txBody>
      </p:sp>
    </p:spTree>
  </p:cSld>
  <p:transition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Что я могу сделать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для охраны приро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297080" y="1600200"/>
            <a:ext cx="3198600" cy="2179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198600" cy="2179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1297080" y="3946680"/>
            <a:ext cx="3198600" cy="2179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648320" y="3946680"/>
            <a:ext cx="3198600" cy="21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352-DDD2-4788-BF9C-430CAFB4665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6A310-7232-4455-BF66-A9E551A9C165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38224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Будем же беречь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  наш прекрасный общий дом – нашу землю,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 нашу природ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BC1-CBDA-4A5A-BEBC-5F216D484B2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363C5-D6CE-4149-8D6E-133A550E6D34}" type="datetime1">
              <a:rPr lang="en-US"/>
              <a:t>07/30/26</a:t>
            </a:fld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2289240" cy="2548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2819160" cy="2254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334120" y="41911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55B-D8E2-48F6-AC6B-DE2CEB053F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7F33B-B60D-4B49-9D0B-D03273863BD3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36800" y="3946680"/>
            <a:ext cx="2879640" cy="2179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791320" y="3946680"/>
            <a:ext cx="1771560" cy="2168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181480" y="1600200"/>
            <a:ext cx="2793960" cy="2093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990720" y="1600200"/>
            <a:ext cx="2819160" cy="21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75A-6817-4E3A-B323-386BF4F5993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E8274-060D-478F-8F42-0DD49EC4BD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Проверочный</a:t>
            </a: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при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33840" y="2178000"/>
            <a:ext cx="62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акая бывает приро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7560" y="2844720"/>
            <a:ext cx="67820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то относится к неживы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родным богатства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86400" y="4127400"/>
            <a:ext cx="82612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живым природным богатства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ся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29880" y="5256360"/>
            <a:ext cx="7998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Живые природные богат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 неживых отличаются тем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224-9838-4484-B942-31FB9C424B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6F1F3-478F-434B-9C23-D089DCA8DFE3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Богатств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339920" y="1600200"/>
            <a:ext cx="64641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52E-7CC0-4FA7-97B1-88AB0EBE1F1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DE5E8-2249-4042-892A-E24FC9F0C69D}" type="datetime1">
              <a:rPr lang="en-US"/>
              <a:t>07/30/26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Группы природных богат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ые природные богат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живые природные богат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ы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uzzle5"/>
          <p:cNvSpPr/>
          <p:nvPr/>
        </p:nvSpPr>
        <p:spPr>
          <a:xfrm>
            <a:off x="6019920" y="4327560"/>
            <a:ext cx="1828800" cy="120636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uzzle2"/>
          <p:cNvSpPr/>
          <p:nvPr/>
        </p:nvSpPr>
        <p:spPr>
          <a:xfrm>
            <a:off x="4876920" y="5486400"/>
            <a:ext cx="2495520" cy="947880"/>
          </a:xfrm>
          <a:prstGeom prst="pie">
            <a:avLst/>
          </a:prstGeom>
          <a:solidFill>
            <a:srgbClr val="a4b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чение р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uzzle3"/>
          <p:cNvSpPr/>
          <p:nvPr/>
        </p:nvSpPr>
        <p:spPr>
          <a:xfrm>
            <a:off x="6324480" y="5105520"/>
            <a:ext cx="1828800" cy="132696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земные клад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uzzle4"/>
          <p:cNvSpPr/>
          <p:nvPr/>
        </p:nvSpPr>
        <p:spPr>
          <a:xfrm>
            <a:off x="5438880" y="4297320"/>
            <a:ext cx="1038240" cy="157500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uzzle5"/>
          <p:cNvSpPr/>
          <p:nvPr/>
        </p:nvSpPr>
        <p:spPr>
          <a:xfrm>
            <a:off x="4038480" y="4332240"/>
            <a:ext cx="1752840" cy="1206720"/>
          </a:xfrm>
          <a:prstGeom prst="pie">
            <a:avLst/>
          </a:prstGeom>
          <a:solidFill>
            <a:srgbClr val="a4b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uzzle3"/>
          <p:cNvSpPr/>
          <p:nvPr/>
        </p:nvSpPr>
        <p:spPr>
          <a:xfrm>
            <a:off x="3733920" y="5086440"/>
            <a:ext cx="1771560" cy="132696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нечный св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uzzle2"/>
          <p:cNvSpPr/>
          <p:nvPr/>
        </p:nvSpPr>
        <p:spPr>
          <a:xfrm>
            <a:off x="5126040" y="3741840"/>
            <a:ext cx="1523880" cy="94752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uzzle3"/>
          <p:cNvSpPr/>
          <p:nvPr/>
        </p:nvSpPr>
        <p:spPr>
          <a:xfrm>
            <a:off x="6324480" y="3352680"/>
            <a:ext cx="1629000" cy="1327320"/>
          </a:xfrm>
          <a:prstGeom prst="pie">
            <a:avLst/>
          </a:prstGeom>
          <a:solidFill>
            <a:srgbClr val="a4b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uzzle3"/>
          <p:cNvSpPr/>
          <p:nvPr/>
        </p:nvSpPr>
        <p:spPr>
          <a:xfrm>
            <a:off x="4114800" y="3357720"/>
            <a:ext cx="1392120" cy="132696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0CB-DF33-4039-B53C-4CA058AA49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22EDB-716A-4375-B87F-2E58165BF32B}" type="datetime1">
              <a:rPr lang="en-US"/>
              <a:t>07/30/26</a:t>
            </a:fld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йди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600200"/>
            <a:ext cx="8381880" cy="42670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543800" cy="40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EA7-1939-4C59-A51C-1AE0C2B2A2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4F32F-819A-4E10-A037-6242A70D2FCF}" type="datetime1">
              <a:rPr lang="en-US"/>
              <a:t>07/30/26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360520" y="1600200"/>
            <a:ext cx="4648320" cy="4525920"/>
            <a:chOff x="2360520" y="1600200"/>
            <a:chExt cx="4648320" cy="45259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2360520" y="1600200"/>
              <a:ext cx="46483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 txBox="1"/>
            <p:nvPr/>
          </p:nvSpPr>
          <p:spPr>
            <a:xfrm>
              <a:off x="2360520" y="1600200"/>
              <a:ext cx="464832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A69-0401-433C-8175-45B4B492E1B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A7B20-9138-4363-B868-6E6D75F36E49}" type="datetime1">
              <a:rPr lang="en-US"/>
              <a:t>07/30/26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133720" y="1674720"/>
            <a:ext cx="480060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375-A5E1-4C1F-9855-DE96E75C5D5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35907-EF7A-47DC-BB3A-B442F281D86C}" type="datetime1">
              <a:rPr lang="en-US"/>
              <a:t>07/30/26</a:t>
            </a:fld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2-02-06T12:48:23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