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164-2257-49CE-8466-F765B50B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3AA-F33D-4C19-A867-409C7752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E01-43F3-47C0-AB68-DD37C8D0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F7A-824C-4084-BEDC-F9F88F7C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5CE5-549E-4BAB-856B-EC75120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B472-C8CB-440F-8F96-8EE4C2A7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08C-C362-4335-8E4B-AD56E318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29AB-896C-482A-8B46-393FAB31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4973-EEC7-4668-B59B-476F3D24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9622-E3CD-4437-8B69-4D39318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FE63-A109-490E-954C-F420D63D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48F-F22C-4497-8B50-5E8B335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849-DB48-4531-A66A-32AFF20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E320-2758-49A3-94F4-C202A20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67C-462F-42F0-A2E8-C6970C7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0A7-AF7A-466D-A684-777C8B62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A344-653B-4047-A9EE-656EF832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3EE-AB38-4809-AB2E-033B9B00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EE2-860E-4A23-BA56-D2609845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8E1-E617-40A0-913C-F332F299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B2A-A37C-4151-9A26-DE38CF7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C04-10B4-4B5A-9691-1FEBC47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8E2-687B-4541-B15D-62B31BC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F1D-2086-4BFD-834A-B56079B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644-EC5E-4D8E-AF98-85EF895C8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9F94-4082-431C-BFB3-8153D0C13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Наше творчество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Narrow"/>
              </a:rPr>
              <a:t>Книги, прочитанные летом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Narrow"/>
              </a:rPr>
              <a:t>2008-2009 уч.год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33520"/>
            <a:ext cx="2971800" cy="1295280"/>
          </a:xfrm>
          <a:prstGeom prst="ellipse">
            <a:avLst/>
          </a:prstGeom>
          <a:solidFill>
            <a:srgbClr val="b389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Ш №2 р.п.Самойлов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3657600" cy="609480"/>
          </a:xfrm>
          <a:prstGeom prst="rect">
            <a:avLst/>
          </a:prstGeom>
          <a:solidFill>
            <a:srgbClr val="b389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киенко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Дронов Олег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339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Голубчикова Софь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6000840" y="-5829480"/>
            <a:ext cx="3433680" cy="3007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Гончарова Саш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373536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32040" y="2057400"/>
            <a:ext cx="8211960" cy="3228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Меньшин Никит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9-08T10:02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