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47CED-AF48-4C6A-B78A-D0837B687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54242-C730-43CD-BF43-25676132A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691DF-479C-4518-BDDC-247734099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FBA88-FA90-407F-8469-E69E46918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06966EB-5663-480B-A57A-B25C75DD7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2A4E44-D235-4C21-B612-4E69B933B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27C004-5ABC-4BEF-81A3-284322E38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07512B-7654-41F9-B610-46D28F76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6C8D51-1C28-4FB7-9C0F-F15F2A49A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F12983-7858-4685-B3B7-D11D09A56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5180A6-195D-4744-AF48-4A3F3B83B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C1097-EA56-4FCB-A1CE-8CBF32B83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F9ABD9-99B7-4FE6-B8D4-5B36A13B4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B4E121-E657-4E60-B4B8-4B6168B0F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FCE8DC-BA2B-499F-B7C2-54A96E08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609BEE-F016-4FF8-8726-622383BBC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C9B8D2-25F7-486D-B0F5-008A7277E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0423B-4F57-49A8-AD1B-D9598C37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5E9B-5F46-40DF-8A1E-C409CDB06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052F-43EB-4DA8-B1E8-88812553F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5507F-1F79-4AA1-9B4F-7F3F5FC1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7C08-E388-4F1E-B0DD-704BFCE3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7C74-9018-44E5-BF61-DC779A8E5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2F44-51D2-4DCD-8A0D-DBD17048C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563E-AD6D-4E3C-B14B-3348171FFBC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133C-DC31-43D2-A8B5-64247C4F2DC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371600" y="1413000"/>
            <a:ext cx="6400800" cy="2952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Мамонты на территории Республики Башкортостан»</a:t>
            </a:r>
            <a:endParaRPr b="0" lang="en-US" sz="3200" spc="-1" strike="noStrike">
              <a:solidFill>
                <a:srgbClr val="ffffff"/>
              </a:solidFill>
              <a:latin typeface="Arial"/>
            </a:endParaRPr>
          </a:p>
        </p:txBody>
      </p:sp>
      <p:pic>
        <p:nvPicPr>
          <p:cNvPr id="123" name="Рисунок 1" descr="http://www.mk.ru/f/b/mk/80/045059/mam.jpg"/>
          <p:cNvPicPr/>
          <p:nvPr/>
        </p:nvPicPr>
        <p:blipFill>
          <a:blip r:embed="rId1"/>
          <a:stretch/>
        </p:blipFill>
        <p:spPr>
          <a:xfrm>
            <a:off x="684360" y="2421000"/>
            <a:ext cx="5400360" cy="4059000"/>
          </a:xfrm>
          <a:prstGeom prst="rect">
            <a:avLst/>
          </a:prstGeom>
          <a:ln w="0">
            <a:noFill/>
          </a:ln>
        </p:spPr>
      </p:pic>
      <p:sp>
        <p:nvSpPr>
          <p:cNvPr id="124" name=""/>
          <p:cNvSpPr/>
          <p:nvPr/>
        </p:nvSpPr>
        <p:spPr>
          <a:xfrm>
            <a:off x="6012000" y="3716280"/>
            <a:ext cx="286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1800" spc="-1" strike="noStrike">
                <a:solidFill>
                  <a:srgbClr val="ffffff"/>
                </a:solidFill>
                <a:latin typeface="Arial"/>
              </a:rPr>
              <a:t>Выполнила</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рманцева Альфина Азамато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БОУ СОШ с.Аючево им. Рима Янгузина,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 dur="2000"/>
                                        <p:tgtEl>
                                          <p:spTgt spid="122">
                                            <p:txEl>
                                              <p:pRg st="0" end="0"/>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123"/>
                                        </p:tgtEl>
                                        <p:attrNameLst>
                                          <p:attrName>style.visibility</p:attrName>
                                        </p:attrNameLst>
                                      </p:cBhvr>
                                      <p:to>
                                        <p:strVal val="visible"/>
                                      </p:to>
                                    </p:set>
                                    <p:animEffect filter="diamond(in)" transition="in">
                                      <p:cBhvr additive="repl">
                                        <p:cTn id="1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187280" y="333360"/>
            <a:ext cx="6767640" cy="5075280"/>
          </a:xfrm>
          <a:prstGeom prst="rect">
            <a:avLst/>
          </a:prstGeom>
          <a:ln w="0">
            <a:noFill/>
          </a:ln>
        </p:spPr>
      </p:pic>
      <p:sp>
        <p:nvSpPr>
          <p:cNvPr id="136" name=""/>
          <p:cNvSpPr/>
          <p:nvPr/>
        </p:nvSpPr>
        <p:spPr>
          <a:xfrm>
            <a:off x="900000" y="5464800"/>
            <a:ext cx="720108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Фото: Бивень мамонта, с.Аючево, Стерлитамакский район Республики Башкортостан, р.Ашкадар. Найдено 2007 году летом.</a:t>
            </a:r>
            <a:endParaRPr b="0" lang="en-US" sz="2000" spc="-1" strike="noStrike">
              <a:solidFill>
                <a:srgbClr val="ffffff"/>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5"/>
                                        </p:tgtEl>
                                        <p:attrNameLst>
                                          <p:attrName>style.visibility</p:attrName>
                                        </p:attrNameLst>
                                      </p:cBhvr>
                                      <p:to>
                                        <p:strVal val="visible"/>
                                      </p:to>
                                    </p:set>
                                    <p:animEffect filter="checkerboard(across)" transition="in">
                                      <p:cBhvr additive="repl">
                                        <p:cTn id="101" dur="500"/>
                                        <p:tgtEl>
                                          <p:spTgt spid="135"/>
                                        </p:tgtEl>
                                      </p:cBhvr>
                                    </p:animEffect>
                                  </p:childTnLst>
                                </p:cTn>
                              </p:par>
                              <p:par>
                                <p:cTn id="102" nodeType="withEffect" fill="hold" presetClass="entr" presetID="13" presetSubtype="16">
                                  <p:stCondLst>
                                    <p:cond delay="0"/>
                                  </p:stCondLst>
                                  <p:childTnLst>
                                    <p:set>
                                      <p:cBhvr>
                                        <p:cTn id="103" dur="1" fill="hold">
                                          <p:stCondLst>
                                            <p:cond delay="0"/>
                                          </p:stCondLst>
                                        </p:cTn>
                                        <p:tgtEl>
                                          <p:spTgt spid="136"/>
                                        </p:tgtEl>
                                        <p:attrNameLst>
                                          <p:attrName>style.visibility</p:attrName>
                                        </p:attrNameLst>
                                      </p:cBhvr>
                                      <p:to>
                                        <p:strVal val="visible"/>
                                      </p:to>
                                    </p:set>
                                    <p:animEffect filter="plus(in)" transition="in">
                                      <p:cBhvr additive="repl">
                                        <p:cTn id="10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нец плейстоцена знаменуется глубокими изменениями ландшафтно-климатической обстановки на просторах Евразии. Общее потепление климата и увеличение влажности вызвало вымирание или отступание к северу ряда плейстоценовых видов. В голоцене (10 тыс.лет) широкое распространение получают леса. Значительное воздействие на животный мир оказал и человек. Полностью вымирают мамонт, шерстистый носорог, широкопалая лошадь пещерный медведь. На север отступили северный олень, овцебык.  На территории Башкортостана костные остатки плейстоценовых млекопитающих достаточно часто обнаруживаются при проведении земляных работ, вымываются из береговых уступов больших и малых рек. </a:t>
            </a:r>
            <a:endParaRPr b="0" lang="en-US" sz="2800" spc="-1" strike="noStrike">
              <a:solidFill>
                <a:srgbClr val="ffffff"/>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iterate type="lt">
                                    <p:tmAbs val="50"/>
                                  </p:iterate>
                                  <p:childTnLst>
                                    <p:set>
                                      <p:cBhvr>
                                        <p:cTn id="11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1" dur="500">
                                          <p:stCondLst>
                                            <p:cond delay="0"/>
                                          </p:stCondLst>
                                        </p:cTn>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Часто кости встречаются и в русловых галечных отложениях рек и в пещерах. На Южном Урале известно несколько скоплений костей связанных с деятельностью палеолитического человека. Это Горновская стоянка обнаружена в 1959 г. около г.Уфы на р.Белой. Вместе с артефактами из отложений извлечены остатки длиннорогого и короткорогого бизонов, первобытного тура , архара, лося, благородного оленя, кулана, лошади и верблюда. У деревни Табулда Стерлибашевского района Республики Башкортостан в 1982 г. были обнаружены при земляных работах кости мамонта, причем, конечностей были сложены палеолитическими охотниками колодцем и ориентированы по сторонам света. </a:t>
            </a:r>
            <a:endParaRPr b="0" lang="en-US" sz="2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iterate type="lt">
                                    <p:tmAbs val="50"/>
                                  </p:iterate>
                                  <p:childTnLst>
                                    <p:set>
                                      <p:cBhvr>
                                        <p:cTn id="11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8" dur="500">
                                          <p:stCondLst>
                                            <p:cond delay="0"/>
                                          </p:stCondLst>
                                        </p:cTn>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сти пещерного медведя найдены во многих южноуральских пещерах, например в пещерах «Победа» (1975 г.) и «Заповедная» (1980 г.). В подрусловых отложениях рек Южного Предуралья на глубине более 10 м имеется костеностный горизонт, из которого при добычи гравия и песка постоянно извлекаются костные остатки ранне- и среднеплейстоценовые крупных млекопитающих - трогонтериевого слона, большерогого оленя, эласмотерия сибирского, длиннорогого бизона, хазарского мамонта, носорога. </a:t>
            </a:r>
            <a:endParaRPr b="0" lang="en-US" sz="2800" spc="-1" strike="noStrike">
              <a:solidFill>
                <a:srgbClr val="ffffff"/>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iterate type="lt">
                                    <p:tmAbs val="50"/>
                                  </p:iterate>
                                  <p:childTnLst>
                                    <p:set>
                                      <p:cBhvr>
                                        <p:cTn id="12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25" dur="500">
                                          <p:stCondLst>
                                            <p:cond delay="0"/>
                                          </p:stCondLst>
                                        </p:cTn>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Стерлитамакском районе возле села Аючево (см.карту) летом 2007 году братьями Рахим и Рамиль Шафиковами в реке Ашкадар был найден бивень мамонта длиной около 3 метров и весом около 70 кг. Бивень лежал в воде в галечном отложение реки. Рахим Шафиков 2009 году передал элементы бивня мамонта в школьный музей МБОУ СОШ с. Аючево.  По словам жителей села это не первый случай. До этого 2002 году был найден останки бивня мамонта, примерно длиной 50 см.</a:t>
            </a:r>
            <a:endParaRPr b="0" lang="en-US" sz="28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iterate type="lt">
                                    <p:tmAbs val="50"/>
                                  </p:iterate>
                                  <p:childTnLst>
                                    <p:set>
                                      <p:cBhvr>
                                        <p:cTn id="131"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2" dur="500">
                                          <p:stCondLst>
                                            <p:cond delay="0"/>
                                          </p:stCondLst>
                                        </p:cTn>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5589720"/>
            <a:ext cx="8229600" cy="79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ка Ашкадар.       Приблизительное место находки бивня мамонта.</a:t>
            </a:r>
            <a:endParaRPr b="0" lang="en-US" sz="2800" spc="-1" strike="noStrike">
              <a:solidFill>
                <a:srgbClr val="ffffff"/>
              </a:solidFill>
              <a:latin typeface="Arial"/>
            </a:endParaRPr>
          </a:p>
        </p:txBody>
      </p:sp>
      <p:pic>
        <p:nvPicPr>
          <p:cNvPr id="142" name="Рисунок 1" descr=""/>
          <p:cNvPicPr/>
          <p:nvPr/>
        </p:nvPicPr>
        <p:blipFill>
          <a:blip r:embed="rId1"/>
          <a:stretch/>
        </p:blipFill>
        <p:spPr>
          <a:xfrm>
            <a:off x="826920" y="620640"/>
            <a:ext cx="7704360" cy="4873680"/>
          </a:xfrm>
          <a:prstGeom prst="rect">
            <a:avLst/>
          </a:prstGeom>
          <a:ln w="0">
            <a:noFill/>
          </a:ln>
        </p:spPr>
      </p:pic>
      <p:sp>
        <p:nvSpPr>
          <p:cNvPr id="143" name=""/>
          <p:cNvSpPr/>
          <p:nvPr/>
        </p:nvSpPr>
        <p:spPr>
          <a:xfrm flipH="1">
            <a:off x="1402920" y="4508640"/>
            <a:ext cx="2286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4" name="Рисунок 1" descr="http://www.mk.ru/f/b/mk/80/045059/mam.jpg"/>
          <p:cNvPicPr/>
          <p:nvPr/>
        </p:nvPicPr>
        <p:blipFill>
          <a:blip r:embed="rId2"/>
          <a:stretch/>
        </p:blipFill>
        <p:spPr>
          <a:xfrm>
            <a:off x="1835280" y="4292640"/>
            <a:ext cx="936360" cy="73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Исследование и изучение бивня мамонта.</a:t>
            </a:r>
            <a:endParaRPr b="0" lang="en-US" sz="3200" spc="-1" strike="noStrike">
              <a:solidFill>
                <a:srgbClr val="e3e3ff"/>
              </a:solidFill>
              <a:latin typeface="Arial"/>
            </a:endParaRPr>
          </a:p>
        </p:txBody>
      </p:sp>
      <p:pic>
        <p:nvPicPr>
          <p:cNvPr id="146" name="" descr=""/>
          <p:cNvPicPr/>
          <p:nvPr/>
        </p:nvPicPr>
        <p:blipFill>
          <a:blip r:embed="rId1"/>
          <a:stretch/>
        </p:blipFill>
        <p:spPr>
          <a:xfrm>
            <a:off x="826920" y="1341360"/>
            <a:ext cx="7288560" cy="4443480"/>
          </a:xfrm>
          <a:prstGeom prst="rect">
            <a:avLst/>
          </a:prstGeom>
          <a:ln w="0">
            <a:noFill/>
          </a:ln>
        </p:spPr>
      </p:pic>
      <p:sp>
        <p:nvSpPr>
          <p:cNvPr id="147" name=""/>
          <p:cNvSpPr/>
          <p:nvPr/>
        </p:nvSpPr>
        <p:spPr>
          <a:xfrm>
            <a:off x="2195640" y="5733000"/>
            <a:ext cx="6480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Основная часть бивня. Длиной 1м 20 см.</a:t>
            </a:r>
            <a:endParaRPr b="0" lang="en-US" sz="20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8" presetSubtype="16">
                                  <p:stCondLst>
                                    <p:cond delay="0"/>
                                  </p:stCondLst>
                                  <p:childTnLst>
                                    <p:set>
                                      <p:cBhvr>
                                        <p:cTn id="138" dur="1" fill="hold">
                                          <p:stCondLst>
                                            <p:cond delay="0"/>
                                          </p:stCondLst>
                                        </p:cTn>
                                        <p:tgtEl>
                                          <p:spTgt spid="146"/>
                                        </p:tgtEl>
                                        <p:attrNameLst>
                                          <p:attrName>style.visibility</p:attrName>
                                        </p:attrNameLst>
                                      </p:cBhvr>
                                      <p:to>
                                        <p:strVal val="visible"/>
                                      </p:to>
                                    </p:set>
                                    <p:animEffect filter="diamond(in)" transition="in">
                                      <p:cBhvr additive="repl">
                                        <p:cTn id="139"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55640" y="549360"/>
            <a:ext cx="7272360" cy="5454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900000" y="333360"/>
            <a:ext cx="7488360" cy="5373720"/>
          </a:xfrm>
          <a:prstGeom prst="rect">
            <a:avLst/>
          </a:prstGeom>
          <a:ln w="0">
            <a:noFill/>
          </a:ln>
        </p:spPr>
      </p:pic>
      <p:sp>
        <p:nvSpPr>
          <p:cNvPr id="150" name=""/>
          <p:cNvSpPr/>
          <p:nvPr/>
        </p:nvSpPr>
        <p:spPr>
          <a:xfrm>
            <a:off x="681840" y="5660280"/>
            <a:ext cx="7363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На данной фотографии видны кольца жизни мамонта.</a:t>
            </a:r>
            <a:endParaRPr b="0" lang="en-US" sz="2000" spc="-1" strike="noStrike">
              <a:solidFill>
                <a:srgbClr val="ffffff"/>
              </a:solidFill>
              <a:latin typeface="Arial"/>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 presetSubtype="16">
                                  <p:stCondLst>
                                    <p:cond delay="0"/>
                                  </p:stCondLst>
                                  <p:childTnLst>
                                    <p:set>
                                      <p:cBhvr>
                                        <p:cTn id="145" dur="1" fill="hold">
                                          <p:stCondLst>
                                            <p:cond delay="0"/>
                                          </p:stCondLst>
                                        </p:cTn>
                                        <p:tgtEl>
                                          <p:spTgt spid="149"/>
                                        </p:tgtEl>
                                        <p:attrNameLst>
                                          <p:attrName>style.visibility</p:attrName>
                                        </p:attrNameLst>
                                      </p:cBhvr>
                                      <p:to>
                                        <p:strVal val="visible"/>
                                      </p:to>
                                    </p:set>
                                    <p:animEffect filter="box(in)" transition="in">
                                      <p:cBhvr additive="repl">
                                        <p:cTn id="14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Заключение</a:t>
            </a:r>
            <a:endParaRPr b="0" lang="en-US" sz="4400" spc="-1" strike="noStrike">
              <a:solidFill>
                <a:srgbClr val="e3e3ff"/>
              </a:solidFill>
              <a:latin typeface="Arial"/>
            </a:endParaRPr>
          </a:p>
        </p:txBody>
      </p:sp>
      <p:sp>
        <p:nvSpPr>
          <p:cNvPr id="152" name="PlaceHolder 2"/>
          <p:cNvSpPr>
            <a:spLocks noGrp="1"/>
          </p:cNvSpPr>
          <p:nvPr>
            <p:ph/>
          </p:nvPr>
        </p:nvSpPr>
        <p:spPr>
          <a:xfrm>
            <a:off x="-360" y="1196640"/>
            <a:ext cx="8697960" cy="5257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сле максимума последнего сильного оледенения 20 тыс.лет назад климат северной части Евразии постепенно становился более теплым и влажным, в результате чего сильно сократилась область распространения холодных тундровых степей. С этим и связано сокращение количества мамонтов. К тому же в районы, где обитал мамонт, проникли люди. И это тоже могло послужить причиной вымирания мамонтов. На территории Республики Башкортостан имеется уникальная пещера Шульган-Таш, более известная как Капова, расположена на Южном Урале в долине р. Белая. </a:t>
            </a:r>
            <a:endParaRPr b="0" lang="en-US" sz="2800" spc="-1" strike="noStrike">
              <a:solidFill>
                <a:srgbClr val="ffffff"/>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iterate type="lt">
                                    <p:tmAbs val="100"/>
                                  </p:iterate>
                                  <p:childTnLst>
                                    <p:set>
                                      <p:cBhvr>
                                        <p:cTn id="152" dur="1" fill="hold">
                                          <p:stCondLst>
                                            <p:cond delay="0"/>
                                          </p:stCondLst>
                                        </p:cTn>
                                        <p:tgtEl>
                                          <p:spTgt spid="151"/>
                                        </p:tgtEl>
                                        <p:attrNameLst>
                                          <p:attrName>style.visibility</p:attrName>
                                        </p:attrNameLst>
                                      </p:cBhvr>
                                      <p:to>
                                        <p:strVal val="visible"/>
                                      </p:to>
                                    </p:set>
                                    <p:animEffect filter="fade" transition="in">
                                      <p:cBhvr additive="repl">
                                        <p:cTn id="153" dur="1000">
                                          <p:stCondLst>
                                            <p:cond delay="0"/>
                                          </p:stCondLst>
                                        </p:cTn>
                                        <p:tgtEl>
                                          <p:spTgt spid="15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iterate type="lt">
                                    <p:tmAbs val="50"/>
                                  </p:iterate>
                                  <p:childTnLst>
                                    <p:set>
                                      <p:cBhvr>
                                        <p:cTn id="15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58" dur="500">
                                          <p:stCondLst>
                                            <p:cond delay="0"/>
                                          </p:stCondLst>
                                        </p:cTn>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ведение</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пор о том, кто погубил мамонтов – постепенное изменение климата или люди – продолжается уже десятки лет. Шерстистые мамонты были безобидными травоядными млекопитающими, обитавшими в прохладных и сухих тундрах северного полушария Земли, начиная со среднего плейстоценового периода (300 тысяч лет назад), а возможно, даже и раньше. Считается, что этот вид окончательно вымер примерно три с половиной тысячи лет назад на острове Врангеля в Чукотском море. </a:t>
            </a:r>
            <a:endParaRPr b="0" lang="en-US" sz="28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25"/>
                                        </p:tgtEl>
                                        <p:attrNameLst>
                                          <p:attrName>style.visibility</p:attrName>
                                        </p:attrNameLst>
                                      </p:cBhvr>
                                      <p:to>
                                        <p:strVal val="visible"/>
                                      </p:to>
                                    </p:set>
                                    <p:animEffect filter="fade" transition="in">
                                      <p:cBhvr additive="repl">
                                        <p:cTn id="17" dur="1000">
                                          <p:stCondLst>
                                            <p:cond delay="0"/>
                                          </p:stCondLst>
                                        </p:cTn>
                                        <p:tgtEl>
                                          <p:spTgt spid="12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2" dur="500">
                                          <p:stCondLst>
                                            <p:cond delay="0"/>
                                          </p:stCondLst>
                                        </p:cTn>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Изображения животных на стенах Каповой пещеры были открыты в 1959 году сотрудником Башкирского заповедника А.В. Рюминым. Они представляли собой контурные и силуэтные рисунки, выполненные на стенах пещеры красной охрой на основе животного клея. Возраст рисунков датируется величиной 14680 ( 150 лет. Результаты спелеологических работ, в последние годы проходящих под руководством Ю.С. Ляхницкого.)  На стенах пещеры в настоящее время обнаружено 14 рисунков животных. Среди них: мамонтов - 8, лошадей - 4, носорогов - 1, бизонов - 1. Большинство изображений животных сосредоточено в Зале Рисунков. </a:t>
            </a:r>
            <a:endParaRPr b="0" lang="en-US" sz="28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iterate type="lt">
                                    <p:tmAbs val="50"/>
                                  </p:iterate>
                                  <p:childTnLst>
                                    <p:set>
                                      <p:cBhvr>
                                        <p:cTn id="16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65" dur="500">
                                          <p:stCondLst>
                                            <p:cond delay="0"/>
                                          </p:stCondLst>
                                        </p:cTn>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идовая принадлежность большинства изображенных животных не вызывает сомнения, поскольку в позднем неоплейстоцене на территории Урала многие роды крупных млекопитающих были представлены только единственными видами. Это относится и к мамонту. Возраст изображений Каповой пещеры может оказаться одной из наиболее поздних датировок существования этого животного на Южном Урале, которыми сейчас располагают специалисты. Найденные останки бивня мамонта в с.Аючево Стерлитамакского района   еще раз доказывают о том, что  на территории нашей республики жили мамонты. </a:t>
            </a:r>
            <a:endParaRPr b="0" lang="en-US" sz="2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iterate type="lt">
                                    <p:tmAbs val="50"/>
                                  </p:iterate>
                                  <p:childTnLst>
                                    <p:set>
                                      <p:cBhvr>
                                        <p:cTn id="17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72" dur="500">
                                          <p:stCondLst>
                                            <p:cond delay="0"/>
                                          </p:stCondLst>
                                        </p:cTn>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78920" y="404640"/>
            <a:ext cx="8713800" cy="64533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Первоначально мамонты были очень многочисленны, так как более 100 тысяч лет – начиная с середины последнего межледникового периода и до последнего ледникового максимума – климат Земли становился все суше и холоднее. Мамонтам такой погодный режим хорошо подходил, и уменьшаться их поголовье начало лишь 20 тысяч лет назад, когда потепление и увлажнение климата начало приводить к сокращению их пастбищ. Палеонтологи уже давно показали, что мамонты пережили не одно потепление климата, в ходе которого их среда обитания сокращался в десятки раз, неизменно восстанавливая популяцию через тысячи и десятки тысяч лет. Единственное, что отличает последний эпизод – появление человека.</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9" dur="500">
                                          <p:stCondLst>
                                            <p:cond delay="0"/>
                                          </p:stCondLst>
                                        </p:cTn>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Именно на этом и основываются сторонники антропогенной теории исчезновения мамонтов. Большинство учёных полагают, что в тот период человек разумный уже активно охотился на шерстистых гигантов, хотя до сих пор находятся и противники этой гипотезы, считающие охоту на мамонтов прерогативой исключительно вымерших видов древних людей. Тем не менее, у мамонтов был шанс, однако люди не преминули возможностью довершить дело истребления животных, начатое природой. </a:t>
            </a:r>
            <a:endParaRPr b="0" lang="en-US" sz="28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6" dur="5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0000"/>
                </a:solidFill>
                <a:latin typeface="Arial"/>
              </a:rPr>
              <a:t>Целью</a:t>
            </a:r>
            <a:r>
              <a:rPr b="1" lang="ru-RU" sz="3200" spc="-1" strike="noStrike">
                <a:solidFill>
                  <a:srgbClr val="ffffff"/>
                </a:solidFill>
                <a:latin typeface="Arial"/>
              </a:rPr>
              <a:t> </a:t>
            </a:r>
            <a:r>
              <a:rPr b="0" lang="ru-RU" sz="3200" spc="-1" strike="noStrike">
                <a:solidFill>
                  <a:srgbClr val="ffffff"/>
                </a:solidFill>
                <a:latin typeface="Arial"/>
              </a:rPr>
              <a:t>данной работы является</a:t>
            </a:r>
            <a:r>
              <a:rPr b="1" lang="ru-RU" sz="3200" spc="-1" strike="noStrike">
                <a:solidFill>
                  <a:srgbClr val="ffffff"/>
                </a:solidFill>
                <a:latin typeface="Arial"/>
              </a:rPr>
              <a:t> </a:t>
            </a:r>
            <a:r>
              <a:rPr b="0" lang="ru-RU" sz="3200" spc="-1" strike="noStrike">
                <a:solidFill>
                  <a:srgbClr val="ffffff"/>
                </a:solidFill>
                <a:latin typeface="Arial"/>
              </a:rPr>
              <a:t>то, что  мамонты обитали и в территории Республики Башкортоста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ля выполнения нашей работы мы поставили  </a:t>
            </a:r>
            <a:r>
              <a:rPr b="1" lang="ru-RU" sz="3200" spc="-1" strike="noStrike">
                <a:solidFill>
                  <a:srgbClr val="ffffff"/>
                </a:solidFill>
                <a:latin typeface="Arial"/>
              </a:rPr>
              <a:t>задачу</a:t>
            </a:r>
            <a:r>
              <a:rPr b="0" lang="ru-RU" sz="3200" spc="-1" strike="noStrike">
                <a:solidFill>
                  <a:srgbClr val="ffffff"/>
                </a:solidFill>
                <a:latin typeface="Arial"/>
              </a:rPr>
              <a:t> изучить бивень мамонта, найденного на территор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Аючево.</a:t>
            </a:r>
            <a:endParaRPr b="0" lang="en-US" sz="32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iterate type="lt">
                                    <p:tmAbs val="50"/>
                                  </p:iterate>
                                  <p:childTnLst>
                                    <p:set>
                                      <p:cBhvr>
                                        <p:cTn id="42"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3" dur="500">
                                          <p:stCondLst>
                                            <p:cond delay="0"/>
                                          </p:stCondLst>
                                        </p:cTn>
                                        <p:tgtEl>
                                          <p:spTgt spid="129">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iterate type="lt">
                                    <p:tmAbs val="50"/>
                                  </p:iterate>
                                  <p:childTnLst>
                                    <p:set>
                                      <p:cBhvr>
                                        <p:cTn id="4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8" dur="500">
                                          <p:stCondLst>
                                            <p:cond delay="0"/>
                                          </p:stCondLst>
                                        </p:cTn>
                                        <p:tgtEl>
                                          <p:spTgt spid="129">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iterate type="lt">
                                    <p:tmAbs val="50"/>
                                  </p:iterate>
                                  <p:childTnLst>
                                    <p:set>
                                      <p:cBhvr>
                                        <p:cTn id="5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53" dur="500">
                                          <p:stCondLst>
                                            <p:cond delay="0"/>
                                          </p:stCondLst>
                                        </p:cTn>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507520" cy="61214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400" spc="-1" strike="noStrike">
                <a:solidFill>
                  <a:srgbClr val="ffffff"/>
                </a:solidFill>
                <a:latin typeface="Arial"/>
              </a:rPr>
              <a:t>(Elephas primigenius) — вымершее животное четвертичного периода  По строению скелета Мамонта представляет значительное сходство с ныне живущим индейским слоном, которого несколько превосходил величиной, достигая 5,5 м длины и 3,1 м высоты. Громадные бивни Мамонтов, до 4 м в длину, весом до 100 кг, были вставлены в верхнюю челюсть, выставлялись вперед, загибались кверху и расходились в стороны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ренные зубы, которых у Мамонта было по одному в каждой половине челюсти, несколько шире, чем у слона и отличаются большим количеством и твердостью пластинчатых эмалевых коробочек, заполненных зубным веществом.</a:t>
            </a: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жа Мамонта была покрыта густой шерстью, среди которой выдавались грубые, длинные, щетинистые волосы; на шее и задней части головы эти волосы вырастали в гриву, спускавшуюся почти до колен</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iterate type="lt">
                                    <p:tmAbs val="50"/>
                                  </p:iterate>
                                  <p:childTnLst>
                                    <p:set>
                                      <p:cBhvr>
                                        <p:cTn id="5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0" dur="500">
                                          <p:stCondLst>
                                            <p:cond delay="0"/>
                                          </p:stCondLst>
                                        </p:cTn>
                                        <p:tgtEl>
                                          <p:spTgt spid="130">
                                            <p:txEl>
                                              <p:pRg st="0" end="0"/>
                                            </p:txEl>
                                          </p:spTgt>
                                        </p:tgtEl>
                                      </p:cBhvr>
                                    </p:animEffect>
                                  </p:childTnLst>
                                </p:cTn>
                              </p:par>
                            </p:childTnLst>
                          </p:cTn>
                        </p:par>
                        <p:par>
                          <p:cTn id="61" fill="hold">
                            <p:stCondLst>
                              <p:cond delay="17400"/>
                            </p:stCondLst>
                            <p:childTnLst>
                              <p:par>
                                <p:cTn id="62" nodeType="afterEffect" fill="hold" presetClass="entr" presetID="10">
                                  <p:stCondLst>
                                    <p:cond delay="0"/>
                                  </p:stCondLst>
                                  <p:iterate type="lt">
                                    <p:tmAbs val="50"/>
                                  </p:iterate>
                                  <p:childTnLst>
                                    <p:set>
                                      <p:cBhvr>
                                        <p:cTn id="63"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4" dur="500">
                                          <p:stCondLst>
                                            <p:cond delay="0"/>
                                          </p:stCondLst>
                                        </p:cTn>
                                        <p:tgtEl>
                                          <p:spTgt spid="130">
                                            <p:txEl>
                                              <p:pRg st="1" end="1"/>
                                            </p:txEl>
                                          </p:spTgt>
                                        </p:tgtEl>
                                      </p:cBhvr>
                                    </p:animEffect>
                                  </p:childTnLst>
                                </p:cTn>
                              </p:par>
                            </p:childTnLst>
                          </p:cTn>
                        </p:par>
                        <p:par>
                          <p:cTn id="65" fill="hold">
                            <p:stCondLst>
                              <p:cond delay="27000"/>
                            </p:stCondLst>
                            <p:childTnLst>
                              <p:par>
                                <p:cTn id="66" nodeType="afterEffect" fill="hold" presetClass="entr" presetID="10">
                                  <p:stCondLst>
                                    <p:cond delay="0"/>
                                  </p:stCondLst>
                                  <p:iterate type="lt">
                                    <p:tmAbs val="50"/>
                                  </p:iterate>
                                  <p:childTnLst>
                                    <p:set>
                                      <p:cBhvr>
                                        <p:cTn id="6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68" dur="500">
                                          <p:stCondLst>
                                            <p:cond delay="0"/>
                                          </p:stCondLst>
                                        </p:cTn>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Arial"/>
              </a:rPr>
              <a:t>Эпоха великих оледенений</a:t>
            </a:r>
            <a:endParaRPr b="0" lang="en-US" sz="2400" spc="-1" strike="noStrike">
              <a:solidFill>
                <a:srgbClr val="e3e3ff"/>
              </a:solidFill>
              <a:latin typeface="Arial"/>
            </a:endParaRPr>
          </a:p>
        </p:txBody>
      </p:sp>
      <p:sp>
        <p:nvSpPr>
          <p:cNvPr id="132"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В начале плейстоцена под влиянием космических и планетарных причин в Северном полушарии началось заметное похолодание климата. Европейские субтропические вечнозеленые леса третичного периода постепенно замещаются листопадными и хвойными лесами, а на водоразделах формируются саваны и степи. В горных областях, находящихся на севере Европы, начали накапливаться массы льда, которые периодически распространялись на равнины, образуя покровные оледенения. С изменением климата менялся растительный и животный мир. </a:t>
            </a:r>
            <a:endParaRPr b="0" lang="en-US" sz="24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iterate type="lt">
                                    <p:tmAbs val="100"/>
                                  </p:iterate>
                                  <p:childTnLst>
                                    <p:set>
                                      <p:cBhvr>
                                        <p:cTn id="74" dur="1" fill="hold">
                                          <p:stCondLst>
                                            <p:cond delay="0"/>
                                          </p:stCondLst>
                                        </p:cTn>
                                        <p:tgtEl>
                                          <p:spTgt spid="131"/>
                                        </p:tgtEl>
                                        <p:attrNameLst>
                                          <p:attrName>style.visibility</p:attrName>
                                        </p:attrNameLst>
                                      </p:cBhvr>
                                      <p:to>
                                        <p:strVal val="visible"/>
                                      </p:to>
                                    </p:set>
                                    <p:animEffect filter="fade" transition="in">
                                      <p:cBhvr additive="repl">
                                        <p:cTn id="75" dur="1000">
                                          <p:stCondLst>
                                            <p:cond delay="0"/>
                                          </p:stCondLst>
                                        </p:cTn>
                                        <p:tgtEl>
                                          <p:spTgt spid="13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0" dur="500">
                                          <p:stCondLst>
                                            <p:cond delay="0"/>
                                          </p:stCondLst>
                                        </p:cTn>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первой трети плейстоцена волны похолоданий были не значительны. Листопадные и хвойные леса полностью заменили вечнозеленую растительность. В Европе сформировалась близкая к современной широтная поясность ландшафтов - с пустынями, степями, лесостепями и лесами - широколиственными, смешанными и хвойными. Степи были заселены лошадьми,  верблюдами, быками. В лесостепях обитали слоны - лесной и трогонтериевый, эласмотерии, носороги. Средний плейстоцен характеризуется серией значительных похолоданий климата, но похолодания (оледенения) были периодическими и сменялись относительно теплыми и влажными межледниковьями. </a:t>
            </a:r>
            <a:endParaRPr b="0" lang="en-US" sz="28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87" dur="5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это время на территории Южного Предуралья простирались высокотравные луговые лесостепи, которые давали обильные корма крупным лошадям, куланам длиннорогим бизонам, верблюдам, оленям, носорогам.  В пойменных лесах по долинам рек паслись “ранние” или хазарские мамонты.     В последней трети плейстоцена в Евразии начинается последнее глобальное похолодание климата. На равнинах Южного Предуралья в тундростепях обитали мамонты шерстистые носороги, северные олени, сайгаки, лошади, первобытные бизоны , благородные  и гигантские  олени. В это время сформировалась и процветала так называемая поздняя мамонтовая фауна.</a:t>
            </a:r>
            <a:endParaRPr b="0" lang="en-US" sz="2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iterate type="lt">
                                    <p:tmAbs val="50"/>
                                  </p:iterate>
                                  <p:childTnLst>
                                    <p:set>
                                      <p:cBhvr>
                                        <p:cTn id="9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4" dur="500">
                                          <p:stCondLst>
                                            <p:cond delay="0"/>
                                          </p:stCondLst>
                                        </p:cTn>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19:36:32Z</dcterms:created>
  <dc:creator>XP GAME 2007</dc:creator>
  <dc:description/>
  <dc:language>en-US</dc:language>
  <cp:lastModifiedBy>XP GAME 2007</cp:lastModifiedBy>
  <dcterms:modified xsi:type="dcterms:W3CDTF">2012-02-08T15:54:14Z</dcterms:modified>
  <cp:revision>10</cp:revision>
  <dc:subject/>
  <dc:title>Олимпиада школьников  по геологии</dc:title>
</cp:coreProperties>
</file>