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C67E92-21A9-4C93-A35E-67BBF6AE28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5CA3E5-6EEC-4B01-B898-3656283746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A6BC50-DAC4-4E7B-B4DB-6167F01FAA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77082F-656D-4830-9688-19143FD66D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E449CB-8733-4C3A-A33D-440898BA7E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764DFA-93AF-42E1-8A6F-24858449F4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D71337-35BF-4122-BFDA-AA9D5732FB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A32827-ED11-446C-821E-E703E01BE1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BE37C1-6B66-4A59-86CE-BF9899F410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8B060-7E46-43A2-88EF-320C271E4D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4FF96-AE71-436B-AECB-FC8166ACEB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9415A-858A-4861-A3B8-5E52CE2E22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83DF9-1CB4-474F-A6F3-5E27D5F036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533520" y="228600"/>
            <a:ext cx="8229600" cy="6351480"/>
          </a:xfrm>
          <a:prstGeom prst="rect">
            <a:avLst/>
          </a:prstGeom>
          <a:ln w="0">
            <a:noFill/>
          </a:ln>
        </p:spPr>
      </p:pic>
      <p:pic>
        <p:nvPicPr>
          <p:cNvPr id="42" name="" descr=""/>
          <p:cNvPicPr/>
          <p:nvPr/>
        </p:nvPicPr>
        <p:blipFill>
          <a:blip r:embed="rId2"/>
          <a:stretch/>
        </p:blipFill>
        <p:spPr>
          <a:xfrm>
            <a:off x="110328120" y="105732360"/>
            <a:ext cx="7272360" cy="7307280"/>
          </a:xfrm>
          <a:prstGeom prst="rect">
            <a:avLst/>
          </a:prstGeom>
          <a:ln w="0">
            <a:noFill/>
          </a:ln>
        </p:spPr>
      </p:pic>
      <p:pic>
        <p:nvPicPr>
          <p:cNvPr id="43" name="" descr=""/>
          <p:cNvPicPr/>
          <p:nvPr/>
        </p:nvPicPr>
        <p:blipFill>
          <a:blip r:embed="rId3"/>
          <a:stretch/>
        </p:blipFill>
        <p:spPr>
          <a:xfrm>
            <a:off x="110480400" y="105884640"/>
            <a:ext cx="7272360" cy="7307280"/>
          </a:xfrm>
          <a:prstGeom prst="rect">
            <a:avLst/>
          </a:prstGeom>
          <a:ln w="0">
            <a:noFill/>
          </a:ln>
        </p:spPr>
      </p:pic>
      <p:sp>
        <p:nvSpPr>
          <p:cNvPr id="44" name=""/>
          <p:cNvSpPr txBox="1"/>
          <p:nvPr/>
        </p:nvSpPr>
        <p:spPr>
          <a:xfrm>
            <a:off x="3657600" y="4724280"/>
            <a:ext cx="4286160" cy="1320840"/>
          </a:xfrm>
          <a:prstGeom prst="rect">
            <a:avLst/>
          </a:prstGeom>
        </p:spPr>
        <p:txBody>
          <a:bodyPr wrap="none" lIns="36360" rIns="36360" tIns="36360" bIns="3636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Мечтатель</a:t>
            </a:r>
            <a:endParaRPr b="0" lang="en-US" sz="72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
        <p:nvSpPr>
          <p:cNvPr id="45" name=""/>
          <p:cNvSpPr txBox="1"/>
          <p:nvPr/>
        </p:nvSpPr>
        <p:spPr>
          <a:xfrm>
            <a:off x="6019920" y="3505320"/>
            <a:ext cx="2847960" cy="1162080"/>
          </a:xfrm>
          <a:prstGeom prst="rect">
            <a:avLst/>
          </a:prstGeom>
        </p:spPr>
        <p:txBody>
          <a:bodyPr wrap="none" lIns="36360" rIns="36360" tIns="36360" bIns="3636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gradFill rotWithShape="0">
                  <a:gsLst>
                    <a:gs pos="0">
                      <a:srgbClr val="ffffff"/>
                    </a:gs>
                    <a:gs pos="100000">
                      <a:srgbClr val="ffffff"/>
                    </a:gs>
                  </a:gsLst>
                  <a:lin ang="5400000"/>
                </a:gradFill>
                <a:latin typeface="Times New Roman"/>
              </a:rPr>
              <a:t>Выпуск 1</a:t>
            </a:r>
            <a:endParaRPr b="0" lang="en-US" sz="40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gradFill rotWithShape="0">
                  <a:gsLst>
                    <a:gs pos="0">
                      <a:srgbClr val="ffffff"/>
                    </a:gs>
                    <a:gs pos="100000">
                      <a:srgbClr val="ffffff"/>
                    </a:gs>
                  </a:gsLst>
                  <a:lin ang="5400000"/>
                </a:gradFill>
                <a:latin typeface="Times New Roman"/>
              </a:rPr>
              <a:t>октябрь 2010</a:t>
            </a:r>
            <a:endParaRPr b="0" lang="en-US" sz="40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pic>
        <p:nvPicPr>
          <p:cNvPr id="46" name="" descr=""/>
          <p:cNvPicPr/>
          <p:nvPr/>
        </p:nvPicPr>
        <p:blipFill>
          <a:blip r:embed="rId4"/>
          <a:stretch/>
        </p:blipFill>
        <p:spPr>
          <a:xfrm>
            <a:off x="110633040" y="106036920"/>
            <a:ext cx="7272000" cy="7307280"/>
          </a:xfrm>
          <a:prstGeom prst="rect">
            <a:avLst/>
          </a:prstGeom>
          <a:ln w="0">
            <a:noFill/>
          </a:ln>
        </p:spPr>
      </p:pic>
      <p:pic>
        <p:nvPicPr>
          <p:cNvPr id="47" name="" descr=""/>
          <p:cNvPicPr/>
          <p:nvPr/>
        </p:nvPicPr>
        <p:blipFill>
          <a:blip r:embed="rId5"/>
          <a:stretch/>
        </p:blipFill>
        <p:spPr>
          <a:xfrm>
            <a:off x="109967760" y="105408360"/>
            <a:ext cx="7272360" cy="7307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5e5e75"/>
            </a:gs>
          </a:gsLst>
          <a:lin ang="5400000"/>
        </a:gradFill>
      </p:bgPr>
    </p:bg>
    <p:spTree>
      <p:nvGrpSpPr>
        <p:cNvPr id="1" name=""/>
        <p:cNvGrpSpPr/>
        <p:nvPr/>
      </p:nvGrpSpPr>
      <p:grpSpPr>
        <a:xfrm>
          <a:off x="0" y="0"/>
          <a:ext cx="0" cy="0"/>
          <a:chOff x="0" y="0"/>
          <a:chExt cx="0" cy="0"/>
        </a:xfrm>
      </p:grpSpPr>
      <p:sp>
        <p:nvSpPr>
          <p:cNvPr id="85" name=""/>
          <p:cNvSpPr/>
          <p:nvPr/>
        </p:nvSpPr>
        <p:spPr>
          <a:xfrm>
            <a:off x="103524120" y="105732360"/>
            <a:ext cx="5759280" cy="8891640"/>
          </a:xfrm>
          <a:prstGeom prst="rect">
            <a:avLst/>
          </a:prstGeom>
          <a:no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Письмо</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исьмо вазе от тарелки</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орогая ваза!</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Я, тарелка, приглашаю тебя на свой День рождения, он состоится </a:t>
            </a:r>
            <a:r>
              <a:rPr b="0" lang="en-US" sz="1200" spc="-1" strike="noStrike">
                <a:solidFill>
                  <a:srgbClr val="000000"/>
                </a:solidFill>
                <a:latin typeface="Times New Roman"/>
              </a:rPr>
              <a:t>18 </a:t>
            </a:r>
            <a:r>
              <a:rPr b="0" lang="ru-RU" sz="1200" spc="-1" strike="noStrike">
                <a:solidFill>
                  <a:srgbClr val="000000"/>
                </a:solidFill>
                <a:latin typeface="Times New Roman"/>
              </a:rPr>
              <a:t>августа </a:t>
            </a:r>
            <a:r>
              <a:rPr b="0" lang="en-US" sz="1200" spc="-1" strike="noStrike">
                <a:solidFill>
                  <a:srgbClr val="000000"/>
                </a:solidFill>
                <a:latin typeface="Times New Roman"/>
              </a:rPr>
              <a:t>1983 </a:t>
            </a:r>
            <a:r>
              <a:rPr b="0" lang="ru-RU" sz="1200" spc="-1" strike="noStrike">
                <a:solidFill>
                  <a:srgbClr val="000000"/>
                </a:solidFill>
                <a:latin typeface="Times New Roman"/>
              </a:rPr>
              <a:t>года в </a:t>
            </a:r>
            <a:r>
              <a:rPr b="0" lang="en-US" sz="1200" spc="-1" strike="noStrike">
                <a:solidFill>
                  <a:srgbClr val="000000"/>
                </a:solidFill>
                <a:latin typeface="Times New Roman"/>
              </a:rPr>
              <a:t>18.0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прашиваешь, почему в </a:t>
            </a:r>
            <a:r>
              <a:rPr b="0" lang="en-US" sz="1200" spc="-1" strike="noStrike">
                <a:solidFill>
                  <a:srgbClr val="000000"/>
                </a:solidFill>
                <a:latin typeface="Times New Roman"/>
              </a:rPr>
              <a:t>1983 </a:t>
            </a:r>
            <a:r>
              <a:rPr b="0" lang="ru-RU" sz="1200" spc="-1" strike="noStrike">
                <a:solidFill>
                  <a:srgbClr val="000000"/>
                </a:solidFill>
                <a:latin typeface="Times New Roman"/>
              </a:rPr>
              <a:t>году? Отвечаю: </a:t>
            </a:r>
            <a:r>
              <a:rPr b="0" lang="en-US" sz="1200" spc="-1" strike="noStrike">
                <a:solidFill>
                  <a:srgbClr val="000000"/>
                </a:solidFill>
                <a:latin typeface="Times New Roman"/>
              </a:rPr>
              <a:t>«</a:t>
            </a:r>
            <a:r>
              <a:rPr b="0" lang="ru-RU" sz="1200" spc="-1" strike="noStrike">
                <a:solidFill>
                  <a:srgbClr val="000000"/>
                </a:solidFill>
                <a:latin typeface="Times New Roman"/>
              </a:rPr>
              <a:t>Так захотелось</a:t>
            </a:r>
            <a:r>
              <a:rPr b="0" lang="en-US" sz="1200" spc="-1" strike="noStrike">
                <a:solidFill>
                  <a:srgbClr val="000000"/>
                </a:solidFill>
                <a:latin typeface="Times New Roman"/>
              </a:rPr>
              <a:t>». </a:t>
            </a:r>
            <a:r>
              <a:rPr b="0" lang="ru-RU" sz="1200" spc="-1" strike="noStrike">
                <a:solidFill>
                  <a:srgbClr val="000000"/>
                </a:solidFill>
                <a:latin typeface="Times New Roman"/>
              </a:rPr>
              <a:t>Так что купи машину времени и айда в </a:t>
            </a:r>
            <a:r>
              <a:rPr b="0" lang="en-US" sz="1200" spc="-1" strike="noStrike">
                <a:solidFill>
                  <a:srgbClr val="000000"/>
                </a:solidFill>
                <a:latin typeface="Times New Roman"/>
              </a:rPr>
              <a:t>1983 </a:t>
            </a:r>
            <a:r>
              <a:rPr b="0" lang="ru-RU" sz="1200" spc="-1" strike="noStrike">
                <a:solidFill>
                  <a:srgbClr val="000000"/>
                </a:solidFill>
                <a:latin typeface="Times New Roman"/>
              </a:rPr>
              <a:t>год. Не забудь подарок. Жду.</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Фарфоровая тарелка.</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ам никогда не попадалось такое письмо? Нет? А вот мне попалось. Я очень удивилась и подумала то, что надо мною пошутила мама. Но мама как два дня в командировке, а написано </a:t>
            </a:r>
            <a:r>
              <a:rPr b="0" lang="en-US" sz="1200" spc="-1" strike="noStrike">
                <a:solidFill>
                  <a:srgbClr val="000000"/>
                </a:solidFill>
                <a:latin typeface="Times New Roman"/>
              </a:rPr>
              <a:t>23 </a:t>
            </a:r>
            <a:r>
              <a:rPr b="0" lang="ru-RU" sz="1200" spc="-1" strike="noStrike">
                <a:solidFill>
                  <a:srgbClr val="000000"/>
                </a:solidFill>
                <a:latin typeface="Times New Roman"/>
              </a:rPr>
              <a:t>июля и даже штамп стоит!</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нтересно, какой же вазе адресовано это письмо? У нас дома очень много ваз. Мама их коллекционирует. Каких у нас только нет :  и с кошками, и с цветами, а мне нравится ваза с балериной, она стоит на вазе с устремленным вверх взглядом и рукой, и еще есть мамина любимая - в форме лилии, такой нежно-розовой, а в её середину ставят цветы.</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ак, мне кажется, я немного отвлеклась. Какой же вазе написано это письмо… Я начала ходить по квартире и спрашивать у каждой вазы: </a:t>
            </a:r>
            <a:r>
              <a:rPr b="0" lang="en-US" sz="1200" spc="-1" strike="noStrike">
                <a:solidFill>
                  <a:srgbClr val="000000"/>
                </a:solidFill>
                <a:latin typeface="Times New Roman"/>
              </a:rPr>
              <a:t>«</a:t>
            </a:r>
            <a:r>
              <a:rPr b="0" lang="ru-RU" sz="1200" spc="-1" strike="noStrike">
                <a:solidFill>
                  <a:srgbClr val="000000"/>
                </a:solidFill>
                <a:latin typeface="Times New Roman"/>
              </a:rPr>
              <a:t>Это тебе?</a:t>
            </a:r>
            <a:r>
              <a:rPr b="0" lang="en-US" sz="1200" spc="-1" strike="noStrike">
                <a:solidFill>
                  <a:srgbClr val="000000"/>
                </a:solidFill>
                <a:latin typeface="Times New Roman"/>
              </a:rPr>
              <a:t>». </a:t>
            </a:r>
            <a:r>
              <a:rPr b="0" lang="ru-RU" sz="1200" spc="-1" strike="noStrike">
                <a:solidFill>
                  <a:srgbClr val="000000"/>
                </a:solidFill>
                <a:latin typeface="Times New Roman"/>
              </a:rPr>
              <a:t>Но ни одна ваза не откликнулась. </a:t>
            </a:r>
            <a:r>
              <a:rPr b="0" lang="en-US" sz="1200" spc="-1" strike="noStrike">
                <a:solidFill>
                  <a:srgbClr val="000000"/>
                </a:solidFill>
                <a:latin typeface="Times New Roman"/>
              </a:rPr>
              <a:t>«</a:t>
            </a:r>
            <a:r>
              <a:rPr b="0" lang="ru-RU" sz="1200" spc="-1" strike="noStrike">
                <a:solidFill>
                  <a:srgbClr val="000000"/>
                </a:solidFill>
                <a:latin typeface="Times New Roman"/>
              </a:rPr>
              <a:t>Боже мой!</a:t>
            </a:r>
            <a:r>
              <a:rPr b="0" lang="en-US" sz="1200" spc="-1" strike="noStrike">
                <a:solidFill>
                  <a:srgbClr val="000000"/>
                </a:solidFill>
                <a:latin typeface="Times New Roman"/>
              </a:rPr>
              <a:t>»- </a:t>
            </a:r>
            <a:r>
              <a:rPr b="0" lang="ru-RU" sz="1200" spc="-1" strike="noStrike">
                <a:solidFill>
                  <a:srgbClr val="000000"/>
                </a:solidFill>
                <a:latin typeface="Times New Roman"/>
              </a:rPr>
              <a:t>подумала я. Я же с ума схожу! Я легла на диван, положила письмо рядом и незаметно для себя уснула.</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осыпаюсь от какого-то шума. Открываю глаза и вижу довольно странную картину: с потока валит теплый пушистый снег, по квартире шныряют зайцы, а по кухне- крокодил. Залез в наш холодильник и слопал все наши продукты! Протираю глаза, вроде все в порядке, как обычно. Протираю еще раз, опять вижу снег, зайцев и крокодила. А! Забыла сказать, в коридоре водят хоровод вазы, а в середине танцует моя любимая балерина.</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ru-RU" sz="1200" spc="-1" strike="noStrike">
                <a:solidFill>
                  <a:srgbClr val="000000"/>
                </a:solidFill>
                <a:latin typeface="Times New Roman"/>
              </a:rPr>
              <a:t>Ай-яй-яй! –Ля-ля-ля! Пара-пара пам!</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Т этого ужасного шума у  меня закружилась голова и … я проснулась!</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ru-RU" sz="1200" spc="-1" strike="noStrike">
                <a:solidFill>
                  <a:srgbClr val="000000"/>
                </a:solidFill>
                <a:latin typeface="Times New Roman"/>
              </a:rPr>
              <a:t>Это был только сон</a:t>
            </a:r>
            <a:r>
              <a:rPr b="0" lang="en-US" sz="1200" spc="-1" strike="noStrike">
                <a:solidFill>
                  <a:srgbClr val="000000"/>
                </a:solidFill>
                <a:latin typeface="Times New Roman"/>
              </a:rPr>
              <a:t>»- </a:t>
            </a:r>
            <a:r>
              <a:rPr b="0" lang="ru-RU" sz="1200" spc="-1" strike="noStrike">
                <a:solidFill>
                  <a:srgbClr val="000000"/>
                </a:solidFill>
                <a:latin typeface="Times New Roman"/>
              </a:rPr>
              <a:t>с облегчением вздохнула я.</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ru-RU" sz="1200" spc="-1" strike="noStrike">
                <a:solidFill>
                  <a:srgbClr val="000000"/>
                </a:solidFill>
                <a:latin typeface="Times New Roman"/>
              </a:rPr>
              <a:t>Я посмотрела  на то место, где лежало письмо, там оно до сих пор и лежит, только написано другому.</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аре от Кати</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орогая Варя!</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Я приглашаю тебя на свой День рождения. Оно состоится </a:t>
            </a:r>
            <a:r>
              <a:rPr b="0" lang="en-US" sz="1200" spc="-1" strike="noStrike">
                <a:solidFill>
                  <a:srgbClr val="000000"/>
                </a:solidFill>
                <a:latin typeface="Times New Roman"/>
              </a:rPr>
              <a:t>18 </a:t>
            </a:r>
            <a:r>
              <a:rPr b="0" lang="ru-RU" sz="1200" spc="-1" strike="noStrike">
                <a:solidFill>
                  <a:srgbClr val="000000"/>
                </a:solidFill>
                <a:latin typeface="Times New Roman"/>
              </a:rPr>
              <a:t>августа </a:t>
            </a:r>
            <a:r>
              <a:rPr b="0" lang="en-US" sz="1200" spc="-1" strike="noStrike">
                <a:solidFill>
                  <a:srgbClr val="000000"/>
                </a:solidFill>
                <a:latin typeface="Times New Roman"/>
              </a:rPr>
              <a:t>2010 </a:t>
            </a:r>
            <a:r>
              <a:rPr b="0" lang="ru-RU" sz="1200" spc="-1" strike="noStrike">
                <a:solidFill>
                  <a:srgbClr val="000000"/>
                </a:solidFill>
                <a:latin typeface="Times New Roman"/>
              </a:rPr>
              <a:t>года в </a:t>
            </a:r>
            <a:r>
              <a:rPr b="0" lang="en-US" sz="1200" spc="-1" strike="noStrike">
                <a:solidFill>
                  <a:srgbClr val="000000"/>
                </a:solidFill>
                <a:latin typeface="Times New Roman"/>
              </a:rPr>
              <a:t>18.00. </a:t>
            </a:r>
            <a:r>
              <a:rPr b="0" lang="ru-RU" sz="1200" spc="-1" strike="noStrike">
                <a:solidFill>
                  <a:srgbClr val="000000"/>
                </a:solidFill>
                <a:latin typeface="Times New Roman"/>
              </a:rPr>
              <a:t>Не забудь про подарок. Жду!  Твоя подруга Катя.</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Вот такая история.</a:t>
            </a:r>
            <a:endParaRPr b="0" lang="en-US" sz="1200" spc="-1" strike="noStrike">
              <a:solidFill>
                <a:srgbClr val="000000"/>
              </a:solidFill>
              <a:latin typeface="Arial"/>
            </a:endParaRPr>
          </a:p>
        </p:txBody>
      </p:sp>
      <p:sp>
        <p:nvSpPr>
          <p:cNvPr id="86" name=""/>
          <p:cNvSpPr/>
          <p:nvPr/>
        </p:nvSpPr>
        <p:spPr>
          <a:xfrm>
            <a:off x="152280" y="533520"/>
            <a:ext cx="8839440" cy="5843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исьмо</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исьмо вазе от тарелки</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рогая ваза!</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Я, тарелка, приглашаю тебя на свой День рождения, он состоится </a:t>
            </a:r>
            <a:r>
              <a:rPr b="0" lang="en" sz="1200" spc="-1" strike="noStrike">
                <a:solidFill>
                  <a:srgbClr val="000000"/>
                </a:solidFill>
                <a:latin typeface="Arial"/>
              </a:rPr>
              <a:t>18 </a:t>
            </a:r>
            <a:r>
              <a:rPr b="0" lang="ru-RU" sz="1200" spc="-1" strike="noStrike">
                <a:solidFill>
                  <a:srgbClr val="000000"/>
                </a:solidFill>
                <a:latin typeface="Arial"/>
              </a:rPr>
              <a:t>августа </a:t>
            </a:r>
            <a:r>
              <a:rPr b="0" lang="en" sz="1200" spc="-1" strike="noStrike">
                <a:solidFill>
                  <a:srgbClr val="000000"/>
                </a:solidFill>
                <a:latin typeface="Arial"/>
              </a:rPr>
              <a:t>1983 </a:t>
            </a:r>
            <a:r>
              <a:rPr b="0" lang="ru-RU" sz="1200" spc="-1" strike="noStrike">
                <a:solidFill>
                  <a:srgbClr val="000000"/>
                </a:solidFill>
                <a:latin typeface="Arial"/>
              </a:rPr>
              <a:t>года в </a:t>
            </a:r>
            <a:r>
              <a:rPr b="0" lang="en" sz="1200" spc="-1" strike="noStrike">
                <a:solidFill>
                  <a:srgbClr val="000000"/>
                </a:solidFill>
                <a:latin typeface="Arial"/>
              </a:rPr>
              <a:t>18.0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рашиваешь, почему в </a:t>
            </a:r>
            <a:r>
              <a:rPr b="0" lang="en" sz="1200" spc="-1" strike="noStrike">
                <a:solidFill>
                  <a:srgbClr val="000000"/>
                </a:solidFill>
                <a:latin typeface="Arial"/>
              </a:rPr>
              <a:t>1983 </a:t>
            </a:r>
            <a:r>
              <a:rPr b="0" lang="ru-RU" sz="1200" spc="-1" strike="noStrike">
                <a:solidFill>
                  <a:srgbClr val="000000"/>
                </a:solidFill>
                <a:latin typeface="Arial"/>
              </a:rPr>
              <a:t>году? Отвечаю: </a:t>
            </a:r>
            <a:r>
              <a:rPr b="0" lang="en" sz="1200" spc="-1" strike="noStrike">
                <a:solidFill>
                  <a:srgbClr val="000000"/>
                </a:solidFill>
                <a:latin typeface="Arial"/>
              </a:rPr>
              <a:t>«</a:t>
            </a:r>
            <a:r>
              <a:rPr b="0" lang="ru-RU" sz="1200" spc="-1" strike="noStrike">
                <a:solidFill>
                  <a:srgbClr val="000000"/>
                </a:solidFill>
                <a:latin typeface="Arial"/>
              </a:rPr>
              <a:t>Так захотелось</a:t>
            </a:r>
            <a:r>
              <a:rPr b="0" lang="en" sz="1200" spc="-1" strike="noStrike">
                <a:solidFill>
                  <a:srgbClr val="000000"/>
                </a:solidFill>
                <a:latin typeface="Arial"/>
              </a:rPr>
              <a:t>». </a:t>
            </a:r>
            <a:r>
              <a:rPr b="0" lang="ru-RU" sz="1200" spc="-1" strike="noStrike">
                <a:solidFill>
                  <a:srgbClr val="000000"/>
                </a:solidFill>
                <a:latin typeface="Arial"/>
              </a:rPr>
              <a:t>Так что купи машину времени и айда в </a:t>
            </a:r>
            <a:r>
              <a:rPr b="0" lang="en" sz="1200" spc="-1" strike="noStrike">
                <a:solidFill>
                  <a:srgbClr val="000000"/>
                </a:solidFill>
                <a:latin typeface="Arial"/>
              </a:rPr>
              <a:t>1983 </a:t>
            </a:r>
            <a:r>
              <a:rPr b="0" lang="ru-RU" sz="1200" spc="-1" strike="noStrike">
                <a:solidFill>
                  <a:srgbClr val="000000"/>
                </a:solidFill>
                <a:latin typeface="Arial"/>
              </a:rPr>
              <a:t>год. Не забудь подарок. Жду.</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рфоровая тарелка.</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 </a:t>
            </a:r>
            <a:r>
              <a:rPr b="0" lang="ru-RU" sz="1200" spc="-1" strike="noStrike">
                <a:solidFill>
                  <a:srgbClr val="000000"/>
                </a:solidFill>
                <a:latin typeface="Arial"/>
              </a:rPr>
              <a:t>Вам никогда не попадалось такое письмо? Нет? А вот мне попалось. Я очень удивилась и подумала то, что надо мною пошутила мама. Но мама как два дня в командировке, а написано </a:t>
            </a:r>
            <a:r>
              <a:rPr b="0" lang="en" sz="1200" spc="-1" strike="noStrike">
                <a:solidFill>
                  <a:srgbClr val="000000"/>
                </a:solidFill>
                <a:latin typeface="Arial"/>
              </a:rPr>
              <a:t>23 </a:t>
            </a:r>
            <a:r>
              <a:rPr b="0" lang="ru-RU" sz="1200" spc="-1" strike="noStrike">
                <a:solidFill>
                  <a:srgbClr val="000000"/>
                </a:solidFill>
                <a:latin typeface="Arial"/>
              </a:rPr>
              <a:t>июля и даже штамп стоит!</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тересно, какой же вазе адресовано это письмо? У нас дома очень много ваз.</a:t>
            </a:r>
            <a:r>
              <a:rPr b="0" lang="ru-RU" sz="1800" spc="-1" strike="noStrike">
                <a:solidFill>
                  <a:srgbClr val="000000"/>
                </a:solidFill>
                <a:latin typeface="Arial"/>
              </a:rPr>
              <a:t> </a:t>
            </a:r>
            <a:r>
              <a:rPr b="0" lang="ru-RU" sz="1200" spc="-1" strike="noStrike">
                <a:solidFill>
                  <a:srgbClr val="000000"/>
                </a:solidFill>
                <a:latin typeface="Arial"/>
              </a:rPr>
              <a:t>Мама их коллекционирует. Каких у нас только нет :  и с кошками, и с цветами, а мне нравится ваза с балериной, она стоит на вазе с устремленным вверх взглядом и рукой, и еще есть мамина любимая - в форме лилии, такой нежно-розовой, а в её середину ставят цвет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 мне кажется, я немного отвлеклась. Какой же вазе написано это письмо… Я начала ходить по квартире и спрашивать у каждой вазы: </a:t>
            </a:r>
            <a:r>
              <a:rPr b="0" lang="en" sz="1200" spc="-1" strike="noStrike">
                <a:solidFill>
                  <a:srgbClr val="000000"/>
                </a:solidFill>
                <a:latin typeface="Arial"/>
              </a:rPr>
              <a:t>«</a:t>
            </a:r>
            <a:r>
              <a:rPr b="0" lang="ru-RU" sz="1200" spc="-1" strike="noStrike">
                <a:solidFill>
                  <a:srgbClr val="000000"/>
                </a:solidFill>
                <a:latin typeface="Arial"/>
              </a:rPr>
              <a:t>Это тебе?</a:t>
            </a:r>
            <a:r>
              <a:rPr b="0" lang="en" sz="1200" spc="-1" strike="noStrike">
                <a:solidFill>
                  <a:srgbClr val="000000"/>
                </a:solidFill>
                <a:latin typeface="Arial"/>
              </a:rPr>
              <a:t>». </a:t>
            </a:r>
            <a:r>
              <a:rPr b="0" lang="ru-RU" sz="1200" spc="-1" strike="noStrike">
                <a:solidFill>
                  <a:srgbClr val="000000"/>
                </a:solidFill>
                <a:latin typeface="Arial"/>
              </a:rPr>
              <a:t>Но ни одна ваза не откликнулась. </a:t>
            </a:r>
            <a:r>
              <a:rPr b="0" lang="en" sz="1200" spc="-1" strike="noStrike">
                <a:solidFill>
                  <a:srgbClr val="000000"/>
                </a:solidFill>
                <a:latin typeface="Arial"/>
              </a:rPr>
              <a:t>«</a:t>
            </a:r>
            <a:r>
              <a:rPr b="0" lang="ru-RU" sz="1200" spc="-1" strike="noStrike">
                <a:solidFill>
                  <a:srgbClr val="000000"/>
                </a:solidFill>
                <a:latin typeface="Arial"/>
              </a:rPr>
              <a:t>Боже мой!</a:t>
            </a:r>
            <a:r>
              <a:rPr b="0" lang="en" sz="1200" spc="-1" strike="noStrike">
                <a:solidFill>
                  <a:srgbClr val="000000"/>
                </a:solidFill>
                <a:latin typeface="Arial"/>
              </a:rPr>
              <a:t>»- </a:t>
            </a:r>
            <a:r>
              <a:rPr b="0" lang="ru-RU" sz="1200" spc="-1" strike="noStrike">
                <a:solidFill>
                  <a:srgbClr val="000000"/>
                </a:solidFill>
                <a:latin typeface="Arial"/>
              </a:rPr>
              <a:t>подумала я. Я же с ума схожу! Я легла на диван, положила письмо рядом и незаметно для себя уснул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сыпаюсь от какого-то шума. Открываю глаза и вижу довольно странную картину: с потока валит теплый пушистый снег, по квартире шныряют зайцы, а по кухне- крокодил. Залез в наш холодильник и слопал все наши продукты! Протираю глаза, вроде все в порядке, как обычно. Протираю еще раз, опять вижу снег, зайцев и крокодила. А! Забыла сказать, в коридоре водят хоровод вазы, а в середине танцует моя любимая балерин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a:t>
            </a:r>
            <a:r>
              <a:rPr b="0" lang="ru-RU" sz="1200" spc="-1" strike="noStrike">
                <a:solidFill>
                  <a:srgbClr val="000000"/>
                </a:solidFill>
                <a:latin typeface="Arial"/>
              </a:rPr>
              <a:t>Ай-яй-яй! –Ля-ля-ля! Пара-пара пам!</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 этого ужасного шума у  меня закружилась голова и … я проснулас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a:t>
            </a:r>
            <a:r>
              <a:rPr b="0" lang="ru-RU" sz="1200" spc="-1" strike="noStrike">
                <a:solidFill>
                  <a:srgbClr val="000000"/>
                </a:solidFill>
                <a:latin typeface="Arial"/>
              </a:rPr>
              <a:t>Это был только сон</a:t>
            </a:r>
            <a:r>
              <a:rPr b="0" lang="en" sz="1200" spc="-1" strike="noStrike">
                <a:solidFill>
                  <a:srgbClr val="000000"/>
                </a:solidFill>
                <a:latin typeface="Arial"/>
              </a:rPr>
              <a:t>»- </a:t>
            </a:r>
            <a:r>
              <a:rPr b="0" lang="ru-RU" sz="1200" spc="-1" strike="noStrike">
                <a:solidFill>
                  <a:srgbClr val="000000"/>
                </a:solidFill>
                <a:latin typeface="Arial"/>
              </a:rPr>
              <a:t>с облегчением вздохнула я.</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 </a:t>
            </a:r>
            <a:r>
              <a:rPr b="0" lang="ru-RU" sz="1200" spc="-1" strike="noStrike">
                <a:solidFill>
                  <a:srgbClr val="000000"/>
                </a:solidFill>
                <a:latin typeface="Arial"/>
              </a:rPr>
              <a:t>Я посмотрела  на то место, где лежало письмо, там оно до сих пор и лежит, только написано другому.</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ре от Кати</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орогая Варя!</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Я приглашаю тебя на свой День рождения. Оно состоится </a:t>
            </a:r>
            <a:r>
              <a:rPr b="0" lang="en" sz="1200" spc="-1" strike="noStrike">
                <a:solidFill>
                  <a:srgbClr val="000000"/>
                </a:solidFill>
                <a:latin typeface="Arial"/>
              </a:rPr>
              <a:t>18 </a:t>
            </a:r>
            <a:r>
              <a:rPr b="0" lang="ru-RU" sz="1200" spc="-1" strike="noStrike">
                <a:solidFill>
                  <a:srgbClr val="000000"/>
                </a:solidFill>
                <a:latin typeface="Arial"/>
              </a:rPr>
              <a:t>августа </a:t>
            </a:r>
            <a:r>
              <a:rPr b="0" lang="en" sz="1200" spc="-1" strike="noStrike">
                <a:solidFill>
                  <a:srgbClr val="000000"/>
                </a:solidFill>
                <a:latin typeface="Arial"/>
              </a:rPr>
              <a:t>2010 </a:t>
            </a:r>
            <a:r>
              <a:rPr b="0" lang="ru-RU" sz="1200" spc="-1" strike="noStrike">
                <a:solidFill>
                  <a:srgbClr val="000000"/>
                </a:solidFill>
                <a:latin typeface="Arial"/>
              </a:rPr>
              <a:t>года в </a:t>
            </a:r>
            <a:r>
              <a:rPr b="0" lang="en" sz="1200" spc="-1" strike="noStrike">
                <a:solidFill>
                  <a:srgbClr val="000000"/>
                </a:solidFill>
                <a:latin typeface="Arial"/>
              </a:rPr>
              <a:t>18.00. </a:t>
            </a:r>
            <a:r>
              <a:rPr b="0" lang="ru-RU" sz="1200" spc="-1" strike="noStrike">
                <a:solidFill>
                  <a:srgbClr val="000000"/>
                </a:solidFill>
                <a:latin typeface="Arial"/>
              </a:rPr>
              <a:t>Не забудь про подарок. Жду!  Твоя подруга Катя.</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от такая история.</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 </a:t>
            </a:r>
            <a:endParaRPr b="0" lang="en-US" sz="1200" spc="-1" strike="noStrike">
              <a:solidFill>
                <a:srgbClr val="000000"/>
              </a:solidFill>
              <a:latin typeface="Arial"/>
            </a:endParaRPr>
          </a:p>
        </p:txBody>
      </p:sp>
      <p:sp>
        <p:nvSpPr>
          <p:cNvPr id="87" name=""/>
          <p:cNvSpPr/>
          <p:nvPr/>
        </p:nvSpPr>
        <p:spPr>
          <a:xfrm>
            <a:off x="5867280" y="6248520"/>
            <a:ext cx="2660760" cy="36036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Блохина Варвара,7в класс</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d8d8ac"/>
            </a:gs>
          </a:gsLst>
          <a:path path="rect">
            <a:fillToRect l="50000" t="50000" r="50000" b="50000"/>
          </a:path>
        </a:gradFill>
      </p:bgPr>
    </p:bg>
    <p:spTree>
      <p:nvGrpSpPr>
        <p:cNvPr id="1" name=""/>
        <p:cNvGrpSpPr/>
        <p:nvPr/>
      </p:nvGrpSpPr>
      <p:grpSpPr>
        <a:xfrm>
          <a:off x="0" y="0"/>
          <a:ext cx="0" cy="0"/>
          <a:chOff x="0" y="0"/>
          <a:chExt cx="0" cy="0"/>
        </a:xfrm>
      </p:grpSpPr>
      <p:sp>
        <p:nvSpPr>
          <p:cNvPr id="88" name=""/>
          <p:cNvSpPr/>
          <p:nvPr/>
        </p:nvSpPr>
        <p:spPr>
          <a:xfrm>
            <a:off x="111083760" y="105732360"/>
            <a:ext cx="3203640" cy="730728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ru-RU" sz="1200" spc="-1" strike="noStrike">
                <a:solidFill>
                  <a:srgbClr val="000000"/>
                </a:solidFill>
                <a:latin typeface="Times New Roman"/>
              </a:rPr>
              <a:t>Счастье</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Что такое счастье?</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тветьте мне,</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не нужно точное понятье,</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 не то, что вы скажете в суете.</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Хорошая работа, семья,</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Жизнь без потерь</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 шикарные друзья</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верное, это все на сегодняшний день.</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ы думаем, что это счастье и есть,</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о оно доступно не всем.</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 не каждому судьба принесет хорошую весть</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Что бед не будет совсем.</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то-то на судьбу полагается,</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ичего не делает, чтобы стать счастливым,</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умает все само собой получается,</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 в этой ситуации счастье редко встречается.</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частье понятие не простое.</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упайте по жизни и ответите,</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о сделайте, чтобы будущее было лучистое</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 всю жизнь свою осветите.</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 name=""/>
          <p:cNvSpPr/>
          <p:nvPr/>
        </p:nvSpPr>
        <p:spPr>
          <a:xfrm>
            <a:off x="111236040" y="105884640"/>
            <a:ext cx="3203640" cy="730728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ru-RU" sz="1200" spc="-1" strike="noStrike">
                <a:solidFill>
                  <a:srgbClr val="000000"/>
                </a:solidFill>
                <a:latin typeface="Times New Roman"/>
              </a:rPr>
              <a:t>Счастье</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Что такое счастье?</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тветьте мне,</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не нужно точное понятье,</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 не то, что вы скажете в суете.</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Хорошая работа, семья,</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Жизнь без потерь</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 шикарные друзья</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верное, это все на сегодняшний день.</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ы думаем, что это счастье и есть,</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о оно доступно не всем.</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 не каждому судьба принесет хорошую весть</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Что бед не будет совсем.</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то-то на судьбу полагается,</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ичего не делает, чтобы стать счастливым,</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умает все само собой получается,</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 в этой ситуации счастье редко встречается.</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частье понятие не простое.</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упайте по жизни и ответите,</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о сделайте, чтобы будущее было лучистое</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 всю жизнь свою осветите.</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 name=""/>
          <p:cNvSpPr/>
          <p:nvPr/>
        </p:nvSpPr>
        <p:spPr>
          <a:xfrm>
            <a:off x="228600" y="228600"/>
            <a:ext cx="3886200" cy="648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Счастье</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Что такое счастье?</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тветьте мне,</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Мне нужно точное понятье,</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 не то, что вы скажете в суете.</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Хорошая работа, семья,</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Жизнь без потерь</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 шикарные друзья</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аверное, это все на сегодняшний день.</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Мы думаем, что это счастье и есть,</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о оно доступно не всем.</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 не каждому судьба принесет хорошую весть</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Что бед не будет совсем.</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то-то на судьбу полагается,</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ичего не делает, чтобы стать счастливым,</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умает все само собой получается,</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 в этой ситуации счастье редко встречается.</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частье понятие не простое.</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тупайте по жизни и ответите,</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о сделайте, чтобы будущее было лучистое</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 всю жизнь свою осветите.</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Arial"/>
              </a:rPr>
              <a:t> </a:t>
            </a:r>
            <a:endParaRPr b="0" lang="en-US" sz="1400" spc="-1" strike="noStrike">
              <a:solidFill>
                <a:srgbClr val="000000"/>
              </a:solidFill>
              <a:latin typeface="Arial"/>
            </a:endParaRPr>
          </a:p>
        </p:txBody>
      </p:sp>
      <p:sp>
        <p:nvSpPr>
          <p:cNvPr id="91" name=""/>
          <p:cNvSpPr/>
          <p:nvPr/>
        </p:nvSpPr>
        <p:spPr>
          <a:xfrm>
            <a:off x="4343400" y="1600200"/>
            <a:ext cx="4114800" cy="432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Нелегкая учеб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rPr>
              <a:t> </a:t>
            </a:r>
            <a:r>
              <a:rPr b="0" lang="ru-RU" sz="1400" spc="-1" strike="noStrike">
                <a:solidFill>
                  <a:srgbClr val="000000"/>
                </a:solidFill>
                <a:latin typeface="Arial"/>
              </a:rPr>
              <a:t>Осень, слякоть, моросит…</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Arial"/>
              </a:rPr>
              <a:t>«</a:t>
            </a:r>
            <a:r>
              <a:rPr b="0" lang="ru-RU" sz="1400" spc="-1" strike="noStrike">
                <a:solidFill>
                  <a:srgbClr val="000000"/>
                </a:solidFill>
                <a:latin typeface="Arial"/>
              </a:rPr>
              <a:t>Бабье лето</a:t>
            </a:r>
            <a:r>
              <a:rPr b="0" lang="en" sz="1400" spc="-1" strike="noStrike">
                <a:solidFill>
                  <a:srgbClr val="000000"/>
                </a:solidFill>
                <a:latin typeface="Arial"/>
              </a:rPr>
              <a:t>» </a:t>
            </a:r>
            <a:r>
              <a:rPr b="0" lang="ru-RU" sz="1400" spc="-1" strike="noStrike">
                <a:solidFill>
                  <a:srgbClr val="000000"/>
                </a:solidFill>
                <a:latin typeface="Arial"/>
              </a:rPr>
              <a:t>загрустило,</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Улиц неприглядный вид,</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Мне в окошке все не мило…</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Я хочу обратно к морю,</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горы, в лес, в тенистый сад,</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о звенит звонок по школе,</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Я плетусь обратно в клас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друг мальчишка незнакомый</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Улыбнулся на ходу:</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Arial"/>
              </a:rPr>
              <a:t>«</a:t>
            </a:r>
            <a:r>
              <a:rPr b="0" lang="ru-RU" sz="1400" spc="-1" strike="noStrike">
                <a:solidFill>
                  <a:srgbClr val="000000"/>
                </a:solidFill>
                <a:latin typeface="Arial"/>
              </a:rPr>
              <a:t>Эй, подруга, нос не вешай,</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се нам будет по плечу!</a:t>
            </a:r>
            <a:r>
              <a:rPr b="0" lang="en"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Мне смешно и чуть полегче,</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Я бегу скорее в клас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елегкая учеба начинается у на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rPr>
              <a:t> </a:t>
            </a:r>
            <a:endParaRPr b="0" lang="en-US" sz="1800" spc="-1" strike="noStrike">
              <a:solidFill>
                <a:srgbClr val="000000"/>
              </a:solidFill>
              <a:latin typeface="Arial"/>
            </a:endParaRPr>
          </a:p>
        </p:txBody>
      </p:sp>
      <p:sp>
        <p:nvSpPr>
          <p:cNvPr id="92" name=""/>
          <p:cNvSpPr/>
          <p:nvPr/>
        </p:nvSpPr>
        <p:spPr>
          <a:xfrm>
            <a:off x="6095880" y="685800"/>
            <a:ext cx="2667240" cy="43164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Степанова Аглая,7в класс</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7546"/>
            </a:gs>
            <a:gs pos="100000">
              <a:srgbClr val="ccff99"/>
            </a:gs>
          </a:gsLst>
          <a:lin ang="5400000"/>
        </a:gradFill>
      </p:bgPr>
    </p:bg>
    <p:spTree>
      <p:nvGrpSpPr>
        <p:cNvPr id="1" name=""/>
        <p:cNvGrpSpPr/>
        <p:nvPr/>
      </p:nvGrpSpPr>
      <p:grpSpPr>
        <a:xfrm>
          <a:off x="0" y="0"/>
          <a:ext cx="0" cy="0"/>
          <a:chOff x="0" y="0"/>
          <a:chExt cx="0" cy="0"/>
        </a:xfrm>
      </p:grpSpPr>
      <p:sp>
        <p:nvSpPr>
          <p:cNvPr id="93" name=""/>
          <p:cNvSpPr/>
          <p:nvPr/>
        </p:nvSpPr>
        <p:spPr>
          <a:xfrm>
            <a:off x="111083760" y="105732360"/>
            <a:ext cx="5759280" cy="8891640"/>
          </a:xfrm>
          <a:prstGeom prst="rect">
            <a:avLst/>
          </a:prstGeom>
          <a:noFill/>
          <a:ln w="0">
            <a:noFill/>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94" name=""/>
          <p:cNvSpPr/>
          <p:nvPr/>
        </p:nvSpPr>
        <p:spPr>
          <a:xfrm>
            <a:off x="152280" y="228600"/>
            <a:ext cx="8839440" cy="627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У бабушки в деревне.</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ак-то раз я случайно услышал разговор  родителей о том, что я поеду к бабушке в деревню на целый месяц. Я был так рад, что не выдержал, вбежал в гостиную и закричал: </a:t>
            </a:r>
            <a:r>
              <a:rPr b="0" lang="en" sz="1400" spc="-1" strike="noStrike">
                <a:solidFill>
                  <a:srgbClr val="000000"/>
                </a:solidFill>
                <a:latin typeface="Arial"/>
              </a:rPr>
              <a:t>«</a:t>
            </a:r>
            <a:r>
              <a:rPr b="0" lang="ru-RU" sz="1400" spc="-1" strike="noStrike">
                <a:solidFill>
                  <a:srgbClr val="000000"/>
                </a:solidFill>
                <a:latin typeface="Arial"/>
              </a:rPr>
              <a:t>Ура! К бабушке в деревню, к бабушке в деревню!</a:t>
            </a:r>
            <a:r>
              <a:rPr b="0" lang="en"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ы что подслушивал? - спросила мам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Нет, я просто случайно услышал,- отмазывался я.</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у, раз ты уже все знаешь, иди собирать вещи! – сказал пап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Я послушался. Через час вещи были собраны. Мама зашла посмотреть, все ли я собрал.</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лушай,- сказала она,- Возьми с собой Барсика, ему с тобой интереснее.</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Я подготовил сумку для кота и корм, вытащил все вещи в коридор, но мне сказали, что едем мы завтра. Я  все оставил и пошел спать.</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а следующий день мы сели в машину, положив Барсика мне на колени, и поехали.</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орога была длинной. Мы пару раз останавливались и через некоторое время приехали в деревню </a:t>
            </a:r>
            <a:r>
              <a:rPr b="0" lang="en" sz="1400" spc="-1" strike="noStrike">
                <a:solidFill>
                  <a:srgbClr val="000000"/>
                </a:solidFill>
                <a:latin typeface="Arial"/>
              </a:rPr>
              <a:t>«</a:t>
            </a:r>
            <a:r>
              <a:rPr b="0" lang="ru-RU" sz="1400" spc="-1" strike="noStrike">
                <a:solidFill>
                  <a:srgbClr val="000000"/>
                </a:solidFill>
                <a:latin typeface="Arial"/>
              </a:rPr>
              <a:t>Васильково</a:t>
            </a:r>
            <a:r>
              <a:rPr b="0" lang="en" sz="1400" spc="-1" strike="noStrike">
                <a:solidFill>
                  <a:srgbClr val="000000"/>
                </a:solidFill>
                <a:latin typeface="Arial"/>
              </a:rPr>
              <a:t>», </a:t>
            </a:r>
            <a:r>
              <a:rPr b="0" lang="ru-RU" sz="1400" spc="-1" strike="noStrike">
                <a:solidFill>
                  <a:srgbClr val="000000"/>
                </a:solidFill>
                <a:latin typeface="Arial"/>
              </a:rPr>
              <a:t>остановились у красивого старого дома с печью. Нас встречала бабушка в кухонных перчатках и фартуке. Я так был рад ее видеть. Оказалось, что она пекла нам блины ( у нее всегда такие вку-у-усные).</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сле еды мы выгрузили вещи из машины. Я пристроил кота на печи, где мне постелили, мама  и папа сказали, что им пора и уехали. А мы с бабушкой пошли спать.</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а следующий день я сделал все по дому, накормил кота, и мы пошли с ним гулять. На улице я познакомился с новыми  ребятами и Сережкой, который стал моим лучшим другом.</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д вечер я подрался с каким-то мальчишкой. Когда я пришел домой, на руках у меня сидел Барсик. Бабушка, не сказав ни слова, побежала на кухню за зеленкой. Я только  тогда заметил разбитые колени, на руках пять, нет, даже шесть ссадин, один здоровый синяк и пару царапин на лице. Подумаешь! Но бабушка измазала меня с головы до ног!</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се остальные дни я гулял с Сережкой. Мы ходили на речку, в лес. Как-то раз  решили из Барсика охотника сделать. Мы открыли воду в ванной, пустив небольшую струйку, позвали кота. Тот сначала лапой ловил ее, как рыбку, а потом как  свалится в воду! Как мы с Сережкой смеялись!</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95" name=""/>
          <p:cNvSpPr/>
          <p:nvPr/>
        </p:nvSpPr>
        <p:spPr>
          <a:xfrm>
            <a:off x="457200" y="609480"/>
            <a:ext cx="8381880" cy="34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том учили Барсика по деревьям лазить. Он зацепился за кору и не отпускает лапки. Тут ни с того ни с сего выбежала собачка ( совсем маленькая), а кот как запрыгнет на дерево, что даже нам было трудно его достать.</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ешили мы, что мал еще Барсик и перестали его учить.</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Много было у нас развлечений и всего смешного, правда, после этого нас ругали. К примеру: захотелось нам порисовать. Приготовили краски, побежали за водой, задели стол, а с него краски упали прямо на бабушкину кофту; сожгли мясо, которое нам брать не разрешали и много чего другого.</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ак жаль, что месяц пролетел незаметно. Но, увы! За мной приехали родители, пора собираться домой. Я попрощался с бабушкой и друзьями, взял кота, и мы поехали обратно.</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ак же было хорошо в деревне. Теперь я каждый год езжу к бабушке, но уже не один, а с мамой и папой, и, конечно с Барсиком.</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rPr>
              <a:t> </a:t>
            </a:r>
            <a:endParaRPr b="0" lang="en-US" sz="1800" spc="-1" strike="noStrike">
              <a:solidFill>
                <a:srgbClr val="000000"/>
              </a:solidFill>
              <a:latin typeface="Arial"/>
            </a:endParaRPr>
          </a:p>
        </p:txBody>
      </p:sp>
      <p:sp>
        <p:nvSpPr>
          <p:cNvPr id="96" name=""/>
          <p:cNvSpPr/>
          <p:nvPr/>
        </p:nvSpPr>
        <p:spPr>
          <a:xfrm>
            <a:off x="6095880" y="4800600"/>
            <a:ext cx="2590920" cy="396720"/>
          </a:xfrm>
          <a:prstGeom prst="rect">
            <a:avLst/>
          </a:prstGeom>
          <a:noFill/>
          <a:ln w="0">
            <a:noFill/>
          </a:ln>
        </p:spPr>
        <p:style>
          <a:lnRef idx="0"/>
          <a:fillRef idx="0"/>
          <a:effectRef idx="0"/>
          <a:fontRef idx="minor"/>
        </p:style>
        <p:txBody>
          <a:bodyPr lIns="36720" rIns="36720" tIns="36720" bIns="367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Бурутина Надежда,6б класс</a:t>
            </a:r>
            <a:endParaRPr b="0" lang="en-US" sz="1600" spc="-1" strike="noStrike">
              <a:solidFill>
                <a:srgbClr val="000000"/>
              </a:solidFill>
              <a:latin typeface="Arial"/>
            </a:endParaRPr>
          </a:p>
        </p:txBody>
      </p:sp>
      <p:pic>
        <p:nvPicPr>
          <p:cNvPr id="97" name="" descr=""/>
          <p:cNvPicPr/>
          <p:nvPr/>
        </p:nvPicPr>
        <p:blipFill>
          <a:blip r:embed="rId1"/>
          <a:stretch/>
        </p:blipFill>
        <p:spPr>
          <a:xfrm>
            <a:off x="609480" y="3733920"/>
            <a:ext cx="4114800" cy="2227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7c80"/>
            </a:gs>
            <a:gs pos="100000">
              <a:srgbClr val="c66063"/>
            </a:gs>
          </a:gsLst>
          <a:path path="rect">
            <a:fillToRect l="50000" t="50000" r="50000" b="50000"/>
          </a:path>
        </a:gradFill>
      </p:bgPr>
    </p:bg>
    <p:spTree>
      <p:nvGrpSpPr>
        <p:cNvPr id="1" name=""/>
        <p:cNvGrpSpPr/>
        <p:nvPr/>
      </p:nvGrpSpPr>
      <p:grpSpPr>
        <a:xfrm>
          <a:off x="0" y="0"/>
          <a:ext cx="0" cy="0"/>
          <a:chOff x="0" y="0"/>
          <a:chExt cx="0" cy="0"/>
        </a:xfrm>
      </p:grpSpPr>
      <p:sp>
        <p:nvSpPr>
          <p:cNvPr id="98" name=""/>
          <p:cNvSpPr/>
          <p:nvPr/>
        </p:nvSpPr>
        <p:spPr>
          <a:xfrm>
            <a:off x="103524120" y="105732360"/>
            <a:ext cx="3058920" cy="853128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Осен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Наступила осен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Листья пожелтел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тало холоднее,</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Птицы улетел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олнца стало меньше,</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Настроенья тоже.</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Дни стали короче,</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Ну а ночи дольше.</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Голые деревь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Лужи на асфальте,</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Это наша осен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В разноцветном платье.</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Огон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гонь горит, огонь угасает.</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гонь дымит, огонь убивает.</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гонь танцует, огонь красивы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верху оранжевый, снизу – сини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гонь горячий, он обжигает.</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гонь никогда не заживляет.</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гонь согревает, огонь тяготит,</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Но также пугает, когда нас манит.</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гонь грациозен – ведь это стихи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гню посвящаю  свои стихи я.</a:t>
            </a:r>
            <a:endParaRPr b="0" lang="en-US" sz="1400" spc="-1" strike="noStrike">
              <a:solidFill>
                <a:srgbClr val="000000"/>
              </a:solidFill>
              <a:latin typeface="Arial"/>
            </a:endParaRPr>
          </a:p>
        </p:txBody>
      </p:sp>
      <p:sp>
        <p:nvSpPr>
          <p:cNvPr id="99" name=""/>
          <p:cNvSpPr/>
          <p:nvPr/>
        </p:nvSpPr>
        <p:spPr>
          <a:xfrm>
            <a:off x="103676400" y="105884640"/>
            <a:ext cx="3059280" cy="853128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Осен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Наступила осен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Листья пожелтел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тало холоднее,</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Птицы улетел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олнца стало меньше,</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Настроенья тоже.</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Дни стали короче,</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Ну а ночи дольше.</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Голые деревь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Лужи на асфальте,</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Это наша осен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В разноцветном платье.</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Огон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гонь горит, огонь угасает.</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гонь дымит, огонь убивает.</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гонь танцует, огонь красивы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верху оранжевый, снизу – сини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гонь горячий, он обжигает.</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гонь никогда не заживляет.</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гонь согревает, огонь тяготит,</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Но также пугает, когда нас манит.</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гонь грациозен – ведь это стихи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гню посвящаю  свои стихи я.</a:t>
            </a:r>
            <a:endParaRPr b="0" lang="en-US" sz="1400" spc="-1" strike="noStrike">
              <a:solidFill>
                <a:srgbClr val="000000"/>
              </a:solidFill>
              <a:latin typeface="Arial"/>
            </a:endParaRPr>
          </a:p>
        </p:txBody>
      </p:sp>
      <p:sp>
        <p:nvSpPr>
          <p:cNvPr id="100" name=""/>
          <p:cNvSpPr/>
          <p:nvPr/>
        </p:nvSpPr>
        <p:spPr>
          <a:xfrm>
            <a:off x="304920" y="304920"/>
            <a:ext cx="3276360" cy="569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сень</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аступила осень,</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Листья пожелтели.</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тало холоднее,</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тицы улетели.</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олнца стало меньше,</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астроенья тоже.</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ни стали короче,</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у а ночи дольше.</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Голые деревья,</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Лужи на асфальте,</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Это наша осень</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разноцветном платье.</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гонь</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гонь горит, огонь угасает.</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гонь дымит, огонь убивает.</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гонь танцует, огонь красивый,</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верху оранжевый, снизу – синий.</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гонь горячий, он обжигает.</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гонь никогда не заживляет.</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гонь согревает, огонь тяготит,</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о также пугает, когда нас манит.</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гонь грациозен – ведь это стихия,</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гню посвящаю  свои стихи я.</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rPr>
              <a:t> </a:t>
            </a:r>
            <a:endParaRPr b="0" lang="en-US" sz="1800" spc="-1" strike="noStrike">
              <a:solidFill>
                <a:srgbClr val="000000"/>
              </a:solidFill>
              <a:latin typeface="Arial"/>
            </a:endParaRPr>
          </a:p>
        </p:txBody>
      </p:sp>
      <p:sp>
        <p:nvSpPr>
          <p:cNvPr id="101" name=""/>
          <p:cNvSpPr/>
          <p:nvPr/>
        </p:nvSpPr>
        <p:spPr>
          <a:xfrm>
            <a:off x="3200400" y="685800"/>
            <a:ext cx="4419720" cy="265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400" spc="-1" strike="noStrike">
                <a:solidFill>
                  <a:srgbClr val="000000"/>
                </a:solidFill>
                <a:latin typeface="Arial"/>
              </a:rPr>
              <a:t>*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Листик упал на плечо ветровки,</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Мне еще долго идти к остановке.</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ак хочется есть, было шесть уроков,</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о дома лежит  на столе Набоков.</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том на гитару,</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е терять время даром.</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 дальше по плану-</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Уроки, уборка, прогулк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е жизнь-</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осто скороговорк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Arial"/>
              </a:rPr>
              <a:t> </a:t>
            </a:r>
            <a:endParaRPr b="0" lang="en-US" sz="1400" spc="-1" strike="noStrike">
              <a:solidFill>
                <a:srgbClr val="000000"/>
              </a:solidFill>
              <a:latin typeface="Arial"/>
            </a:endParaRPr>
          </a:p>
        </p:txBody>
      </p:sp>
      <p:pic>
        <p:nvPicPr>
          <p:cNvPr id="102" name="" descr=""/>
          <p:cNvPicPr/>
          <p:nvPr/>
        </p:nvPicPr>
        <p:blipFill>
          <a:blip r:embed="rId1"/>
          <a:stretch/>
        </p:blipFill>
        <p:spPr>
          <a:xfrm>
            <a:off x="4114800" y="3733920"/>
            <a:ext cx="2895480" cy="2334960"/>
          </a:xfrm>
          <a:prstGeom prst="rect">
            <a:avLst/>
          </a:prstGeom>
          <a:ln w="0">
            <a:noFill/>
          </a:ln>
        </p:spPr>
      </p:pic>
      <p:sp>
        <p:nvSpPr>
          <p:cNvPr id="103" name=""/>
          <p:cNvSpPr/>
          <p:nvPr/>
        </p:nvSpPr>
        <p:spPr>
          <a:xfrm>
            <a:off x="6477120" y="609480"/>
            <a:ext cx="2286000" cy="37800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Озерова Арина,7в класс</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6c75"/>
            </a:gs>
            <a:gs pos="50000">
              <a:srgbClr val="ccecff"/>
            </a:gs>
            <a:gs pos="100000">
              <a:srgbClr val="5e6c75"/>
            </a:gs>
          </a:gsLst>
          <a:lin ang="10800000"/>
        </a:gradFill>
      </p:bgPr>
    </p:bg>
    <p:spTree>
      <p:nvGrpSpPr>
        <p:cNvPr id="1" name=""/>
        <p:cNvGrpSpPr/>
        <p:nvPr/>
      </p:nvGrpSpPr>
      <p:grpSpPr>
        <a:xfrm>
          <a:off x="0" y="0"/>
          <a:ext cx="0" cy="0"/>
          <a:chOff x="0" y="0"/>
          <a:chExt cx="0" cy="0"/>
        </a:xfrm>
      </p:grpSpPr>
      <p:sp>
        <p:nvSpPr>
          <p:cNvPr id="104" name=""/>
          <p:cNvSpPr/>
          <p:nvPr/>
        </p:nvSpPr>
        <p:spPr>
          <a:xfrm>
            <a:off x="228600" y="228600"/>
            <a:ext cx="3581280" cy="60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Школ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дет уже пятый уро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читаем за окном соро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корей же, быстрей –долгожданный звоно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ежим в соседний кабинет.</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ая досада! Учителя нет.</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как попасть нам в эту двер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ы Сорокину не вер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через стену не пройдет</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в класс в окно не попадет!</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ытался он уже не раз,</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шь получил синяк на глаз.</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венит звонок, а мы сидим.</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дверь кабинетную глядим.</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вот приходит к нам учител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с тактичным </a:t>
            </a:r>
            <a:r>
              <a:rPr b="0" lang="en" sz="1200" spc="-1" strike="noStrike">
                <a:solidFill>
                  <a:srgbClr val="000000"/>
                </a:solidFill>
                <a:latin typeface="Arial"/>
              </a:rPr>
              <a:t>«</a:t>
            </a:r>
            <a:r>
              <a:rPr b="0" lang="ru-RU" sz="1200" spc="-1" strike="noStrike">
                <a:solidFill>
                  <a:srgbClr val="000000"/>
                </a:solidFill>
                <a:latin typeface="Arial"/>
              </a:rPr>
              <a:t>извините</a:t>
            </a:r>
            <a:r>
              <a:rPr b="0" lang="en"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крывает класс, заходит.</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 квадраты тараторит,</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ет заданье на уро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чтобы сделали все в сро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олько закрылась дверь—галдет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a:t>
            </a:r>
            <a:r>
              <a:rPr b="0" lang="ru-RU" sz="1200" spc="-1" strike="noStrike">
                <a:solidFill>
                  <a:srgbClr val="000000"/>
                </a:solidFill>
                <a:latin typeface="Arial"/>
              </a:rPr>
              <a:t>Прекратите молодежь</a:t>
            </a:r>
            <a:r>
              <a:rPr b="0" lang="en" sz="1200" spc="-1" strike="noStrike">
                <a:solidFill>
                  <a:srgbClr val="000000"/>
                </a:solidFill>
                <a:latin typeface="Arial"/>
              </a:rPr>
              <a:t>»</a:t>
            </a:r>
            <a:r>
              <a:rPr b="0" lang="ru-RU"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ичит соседний кабинет</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вот о нет! Сейчас</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йдет учитель в класс!</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 нет, шаги проходят дальше</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с облегчением без фальши</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ы продолжаем свой уро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а, ура. Звенит звоно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семся с криком по всей школе</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мы с тобой уже на воле</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rPr>
              <a:t> </a:t>
            </a:r>
            <a:endParaRPr b="0" lang="en-US" sz="1800" spc="-1" strike="noStrike">
              <a:solidFill>
                <a:srgbClr val="000000"/>
              </a:solidFill>
              <a:latin typeface="Arial"/>
            </a:endParaRPr>
          </a:p>
        </p:txBody>
      </p:sp>
      <p:sp>
        <p:nvSpPr>
          <p:cNvPr id="105" name=""/>
          <p:cNvSpPr/>
          <p:nvPr/>
        </p:nvSpPr>
        <p:spPr>
          <a:xfrm>
            <a:off x="5562720" y="533520"/>
            <a:ext cx="3047760" cy="393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Бегемот</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У друзей завелся кот,</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олстый он как бегемот.</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н на кресло заползает,</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 другому не бывает.</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прыгнуть на пол он не может,</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олько он уж осторожен.</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трастил он свой живот,</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мог бы– выпил бы компот.</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а диету не садится</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 еда ему лишь снится.</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н мышей ловить не станет</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Брюхо к полу его тянет.</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ыгать, бегать он не может</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иетолог не поможет,</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тому любимый кот</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осит кличку Бегемот.</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Arial"/>
              </a:rPr>
              <a:t> </a:t>
            </a:r>
            <a:endParaRPr b="0" lang="en-US" sz="1400" spc="-1" strike="noStrike">
              <a:solidFill>
                <a:srgbClr val="000000"/>
              </a:solidFill>
              <a:latin typeface="Arial"/>
            </a:endParaRPr>
          </a:p>
        </p:txBody>
      </p:sp>
      <p:pic>
        <p:nvPicPr>
          <p:cNvPr id="106" name="" descr=""/>
          <p:cNvPicPr/>
          <p:nvPr/>
        </p:nvPicPr>
        <p:blipFill>
          <a:blip r:embed="rId1"/>
          <a:srcRect l="0" t="0" r="0" b="7055"/>
          <a:stretch/>
        </p:blipFill>
        <p:spPr>
          <a:xfrm>
            <a:off x="3048120" y="1523880"/>
            <a:ext cx="2292120" cy="2514600"/>
          </a:xfrm>
          <a:prstGeom prst="rect">
            <a:avLst/>
          </a:prstGeom>
          <a:ln w="0">
            <a:noFill/>
          </a:ln>
        </p:spPr>
      </p:pic>
      <p:sp>
        <p:nvSpPr>
          <p:cNvPr id="107" name=""/>
          <p:cNvSpPr/>
          <p:nvPr/>
        </p:nvSpPr>
        <p:spPr>
          <a:xfrm>
            <a:off x="4572000" y="5257800"/>
            <a:ext cx="3505320" cy="43164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Джинчарадзе Нонна,7в класс</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5e755e"/>
            </a:gs>
          </a:gsLst>
          <a:lin ang="10800000"/>
        </a:gradFill>
      </p:bgPr>
    </p:bg>
    <p:spTree>
      <p:nvGrpSpPr>
        <p:cNvPr id="1" name=""/>
        <p:cNvGrpSpPr/>
        <p:nvPr/>
      </p:nvGrpSpPr>
      <p:grpSpPr>
        <a:xfrm>
          <a:off x="0" y="0"/>
          <a:ext cx="0" cy="0"/>
          <a:chOff x="0" y="0"/>
          <a:chExt cx="0" cy="0"/>
        </a:xfrm>
      </p:grpSpPr>
      <p:sp>
        <p:nvSpPr>
          <p:cNvPr id="108" name=""/>
          <p:cNvSpPr/>
          <p:nvPr/>
        </p:nvSpPr>
        <p:spPr>
          <a:xfrm>
            <a:off x="228600" y="609480"/>
            <a:ext cx="3886200" cy="353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Люблю…</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Люблю, когда пахнет жасмино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Люблю я белую сирень,</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Люблю сидеть у камин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Завернувшись в теплую постель.</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Люблю зимой ловить снежинки,</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 в сугробе снежном сидеть.</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Люблю собирать ягоды – малинки</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 потом их с кем – нибудь есть.</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Люблю нашу русскую зим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а и лето, и осень, весн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Жизнь разноцветно одетую</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чень сильно люблю!</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rPr>
              <a:t> </a:t>
            </a:r>
            <a:endParaRPr b="0" lang="en-US" sz="1800" spc="-1" strike="noStrike">
              <a:solidFill>
                <a:srgbClr val="000000"/>
              </a:solidFill>
              <a:latin typeface="Arial"/>
            </a:endParaRPr>
          </a:p>
        </p:txBody>
      </p:sp>
      <p:sp>
        <p:nvSpPr>
          <p:cNvPr id="109" name=""/>
          <p:cNvSpPr/>
          <p:nvPr/>
        </p:nvSpPr>
        <p:spPr>
          <a:xfrm>
            <a:off x="5562720" y="990720"/>
            <a:ext cx="304776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Лето</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Огнем порыва, страсти цвет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И легкий шелест лепестк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И вот в окошко глянет лето,</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Одно названье- красот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Распустятся цветы, букашки</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Будут ползать по траве,</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А вот бабочки- милашки</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Дарят счастье детворе.</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И ярко светит солнышко</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В небе голубо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И едва повсюду веет</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Легким ветерком.</a:t>
            </a:r>
            <a:endParaRPr b="0" lang="en-US" sz="1600" spc="-1" strike="noStrike">
              <a:solidFill>
                <a:srgbClr val="000000"/>
              </a:solidFill>
              <a:latin typeface="Arial"/>
            </a:endParaRPr>
          </a:p>
        </p:txBody>
      </p:sp>
      <p:pic>
        <p:nvPicPr>
          <p:cNvPr id="110" name="" descr=""/>
          <p:cNvPicPr/>
          <p:nvPr/>
        </p:nvPicPr>
        <p:blipFill>
          <a:blip r:embed="rId1"/>
          <a:srcRect l="0" t="0" r="49915" b="0"/>
          <a:stretch/>
        </p:blipFill>
        <p:spPr>
          <a:xfrm>
            <a:off x="2971800" y="3733920"/>
            <a:ext cx="2633760" cy="2879640"/>
          </a:xfrm>
          <a:prstGeom prst="rect">
            <a:avLst/>
          </a:prstGeom>
          <a:ln w="0">
            <a:noFill/>
          </a:ln>
        </p:spPr>
      </p:pic>
      <p:sp>
        <p:nvSpPr>
          <p:cNvPr id="111" name=""/>
          <p:cNvSpPr/>
          <p:nvPr/>
        </p:nvSpPr>
        <p:spPr>
          <a:xfrm>
            <a:off x="5334120" y="457200"/>
            <a:ext cx="2819160" cy="32400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Кузнецова Анна, 8г класс</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ff"/>
            </a:gs>
            <a:gs pos="100000">
              <a:srgbClr val="9e76c6"/>
            </a:gs>
          </a:gsLst>
          <a:path path="rect">
            <a:fillToRect l="50000" t="50000" r="50000" b="50000"/>
          </a:path>
        </a:gra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152280" y="152280"/>
            <a:ext cx="8763120" cy="6400800"/>
          </a:xfrm>
          <a:prstGeom prst="rect">
            <a:avLst/>
          </a:prstGeom>
          <a:noFill/>
          <a:ln w="0">
            <a:noFill/>
          </a:ln>
        </p:spPr>
        <p:txBody>
          <a:bodyPr lIns="90000" rIns="90000" tIns="46800" bIns="46800" anchor="t">
            <a:normAutofit/>
          </a:bodyPr>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известная планета</a:t>
            </a:r>
            <a:endParaRPr b="0" lang="en-US" sz="1200" spc="-1" strike="noStrike">
              <a:solidFill>
                <a:srgbClr val="000000"/>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лог</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0" lang="ru-RU" sz="1200" spc="-1" strike="noStrike">
                <a:solidFill>
                  <a:srgbClr val="000000"/>
                </a:solidFill>
                <a:latin typeface="Arial"/>
              </a:rPr>
              <a:t>Послышался рокот двигателей. И вот на Новую Землю приземлился межзвездный корабль. Он приземлялся медленно и осторожно, чтобы ничего не задеть в этом новом, неизведанном мире. И вдруг…</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Юрий Сергеевич,- донеслось откуда-то снизу.</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корабле погас свет.</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Юрий Сергеевич, помогите , меня чем-то придавило!</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лчание.… Но вот вдруг вспыхнул яркий свет фонаря.</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лексей! Ну что тут у тебя? – спросил Юрий Сергеевич, подполковник Межзвездного флота Земли.</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 понимаете, Юрий Сергеевич.… Вроде бы все шло хорошо, почти приземлились…  А потом зеленая вспышка, погас свет, ну, в общем меня придавило пультом.</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е понятно, Макса не видел?</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же я мог..?</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у, да, ладно вставай. Андрей там пытается наладить свет.</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 успел Алексей подняться, как вдруг вспыхнул свет, так внезапно, что он чуть не повалился опять на спину.</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отсек зашел Алексей, худой человек, в костюме капитана дальнего плавания, лет двадцати пяти, но с  усталыми и мудрыми глазами. </a:t>
            </a:r>
            <a:r>
              <a:rPr b="0" lang="en" sz="1200" spc="-1" strike="noStrike">
                <a:solidFill>
                  <a:srgbClr val="000000"/>
                </a:solidFill>
                <a:latin typeface="Arial"/>
              </a:rPr>
              <a:t>«</a:t>
            </a:r>
            <a:r>
              <a:rPr b="0" lang="ru-RU" sz="1200" spc="-1" strike="noStrike">
                <a:solidFill>
                  <a:srgbClr val="000000"/>
                </a:solidFill>
                <a:latin typeface="Arial"/>
              </a:rPr>
              <a:t>С приземлением</a:t>
            </a:r>
            <a:r>
              <a:rPr b="0" lang="en" sz="1200" spc="-1" strike="noStrike">
                <a:solidFill>
                  <a:srgbClr val="000000"/>
                </a:solidFill>
                <a:latin typeface="Arial"/>
              </a:rPr>
              <a:t>»,- </a:t>
            </a:r>
            <a:r>
              <a:rPr b="0" lang="ru-RU" sz="1200" spc="-1" strike="noStrike">
                <a:solidFill>
                  <a:srgbClr val="000000"/>
                </a:solidFill>
                <a:latin typeface="Arial"/>
              </a:rPr>
              <a:t>коротко сказал он и вышел.</a:t>
            </a:r>
            <a:endParaRPr b="0" lang="en-US" sz="1200" spc="-1" strike="noStrike">
              <a:solidFill>
                <a:srgbClr val="000000"/>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лава </a:t>
            </a:r>
            <a:r>
              <a:rPr b="1" lang="en" sz="1200" spc="-1" strike="noStrike">
                <a:solidFill>
                  <a:srgbClr val="000000"/>
                </a:solidFill>
                <a:latin typeface="Arial"/>
              </a:rPr>
              <a:t>1</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ра все-таки рассказать, что же произошло. Пробы космических кораблей или детские забавы? И не то и не другое.</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тыре месяца назад по Земному времени поднялся с поверхности Луны и улетел в звездный поиск космолет </a:t>
            </a:r>
            <a:r>
              <a:rPr b="0" lang="en" sz="1200" spc="-1" strike="noStrike">
                <a:solidFill>
                  <a:srgbClr val="000000"/>
                </a:solidFill>
                <a:latin typeface="Arial"/>
              </a:rPr>
              <a:t>«</a:t>
            </a:r>
            <a:r>
              <a:rPr b="0" lang="ru-RU" sz="1200" spc="-1" strike="noStrike">
                <a:solidFill>
                  <a:srgbClr val="000000"/>
                </a:solidFill>
                <a:latin typeface="Arial"/>
              </a:rPr>
              <a:t>Барс</a:t>
            </a:r>
            <a:r>
              <a:rPr b="0" lang="en" sz="1200" spc="-1" strike="noStrike">
                <a:solidFill>
                  <a:srgbClr val="000000"/>
                </a:solidFill>
                <a:latin typeface="Arial"/>
              </a:rPr>
              <a:t>». </a:t>
            </a:r>
            <a:r>
              <a:rPr b="0" lang="ru-RU" sz="1200" spc="-1" strike="noStrike">
                <a:solidFill>
                  <a:srgbClr val="000000"/>
                </a:solidFill>
                <a:latin typeface="Arial"/>
              </a:rPr>
              <a:t>Капитаном дальнего поиска был молодой человек, двадцати шести лет отроду, Евгений Мартин. Он уже столько набороздил по Галактике, что  успел заработать себе кличку Горелый Дракон. Это произошло в созвездии Стрельца, когда на одной из планет, под названием Зик-зак, ему прожгло скафандр, и одна половина его лица навсегда осталась обожженной. С тех пор его называют Горелым Драконом, а к планете, хоть ее и называли, как и раньше, всегда прибавляли: </a:t>
            </a:r>
            <a:r>
              <a:rPr b="0" lang="en" sz="1200" spc="-1" strike="noStrike">
                <a:solidFill>
                  <a:srgbClr val="000000"/>
                </a:solidFill>
                <a:latin typeface="Arial"/>
              </a:rPr>
              <a:t>«</a:t>
            </a:r>
            <a:r>
              <a:rPr b="0" lang="ru-RU" sz="1200" spc="-1" strike="noStrike">
                <a:solidFill>
                  <a:srgbClr val="000000"/>
                </a:solidFill>
                <a:latin typeface="Arial"/>
              </a:rPr>
              <a:t>Горы Драконов</a:t>
            </a:r>
            <a:r>
              <a:rPr b="0" lang="en" sz="1200" spc="-1" strike="noStrike">
                <a:solidFill>
                  <a:srgbClr val="000000"/>
                </a:solidFill>
                <a:latin typeface="Arial"/>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вот на этот раз этому бывалому человеку поручили на вид уж совсем пустяковое задание. Евгений даже обиделся и сказал главному космоадменистратору на Фениксе (кстати, тоже не ахти какой планете, но тем не менее главной стартовой базе космофлота Земли): </a:t>
            </a:r>
            <a:r>
              <a:rPr b="0" lang="en" sz="1200" spc="-1" strike="noStrike">
                <a:solidFill>
                  <a:srgbClr val="000000"/>
                </a:solidFill>
                <a:latin typeface="Arial"/>
              </a:rPr>
              <a:t>«</a:t>
            </a:r>
            <a:r>
              <a:rPr b="0" lang="ru-RU" sz="1200" spc="-1" strike="noStrike">
                <a:solidFill>
                  <a:srgbClr val="000000"/>
                </a:solidFill>
                <a:latin typeface="Arial"/>
              </a:rPr>
              <a:t>Что же вы Александр Алексеевич, в отпуск меня, что ли отправляете?</a:t>
            </a:r>
            <a:r>
              <a:rPr b="0" lang="en" sz="1200" spc="-1" strike="noStrike">
                <a:solidFill>
                  <a:srgbClr val="000000"/>
                </a:solidFill>
                <a:latin typeface="Arial"/>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 нет, Горелый, понимаешь, как бы тебе сказать? Там может находиться что-нибудь живое или даже разумное…</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у да! Типа этих </a:t>
            </a:r>
            <a:r>
              <a:rPr b="0" lang="en" sz="1200" spc="-1" strike="noStrike">
                <a:solidFill>
                  <a:srgbClr val="000000"/>
                </a:solidFill>
                <a:latin typeface="Arial"/>
              </a:rPr>
              <a:t>«</a:t>
            </a:r>
            <a:r>
              <a:rPr b="0" lang="ru-RU" sz="1200" spc="-1" strike="noStrike">
                <a:solidFill>
                  <a:srgbClr val="000000"/>
                </a:solidFill>
                <a:latin typeface="Arial"/>
              </a:rPr>
              <a:t>разумных</a:t>
            </a:r>
            <a:r>
              <a:rPr b="0" lang="en" sz="1200" spc="-1" strike="noStrike">
                <a:solidFill>
                  <a:srgbClr val="000000"/>
                </a:solidFill>
                <a:latin typeface="Arial"/>
              </a:rPr>
              <a:t>» </a:t>
            </a:r>
            <a:r>
              <a:rPr b="0" lang="ru-RU" sz="1200" spc="-1" strike="noStrike">
                <a:solidFill>
                  <a:srgbClr val="000000"/>
                </a:solidFill>
                <a:latin typeface="Arial"/>
              </a:rPr>
              <a:t>черепах, которые ни  каких переводчиков понять не могут! Только плавают и смотрят на тебя!</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у историю с черепахами знали уже все. Евгений терпеть ее не мог, потому что именно тогда (по собственной оплошности) он утопил в водах Арии свою </a:t>
            </a:r>
            <a:r>
              <a:rPr b="0" lang="en" sz="1200" spc="-1" strike="noStrike">
                <a:solidFill>
                  <a:srgbClr val="000000"/>
                </a:solidFill>
                <a:latin typeface="Arial"/>
              </a:rPr>
              <a:t>«</a:t>
            </a:r>
            <a:r>
              <a:rPr b="0" lang="ru-RU" sz="1200" spc="-1" strike="noStrike">
                <a:solidFill>
                  <a:srgbClr val="000000"/>
                </a:solidFill>
                <a:latin typeface="Arial"/>
              </a:rPr>
              <a:t>Белку и Стрелку</a:t>
            </a:r>
            <a:r>
              <a:rPr b="0" lang="en" sz="1200" spc="-1" strike="noStrike">
                <a:solidFill>
                  <a:srgbClr val="000000"/>
                </a:solidFill>
                <a:latin typeface="Arial"/>
              </a:rPr>
              <a:t>». </a:t>
            </a:r>
            <a:r>
              <a:rPr b="0" lang="ru-RU" sz="1200" spc="-1" strike="noStrike">
                <a:solidFill>
                  <a:srgbClr val="000000"/>
                </a:solidFill>
                <a:latin typeface="Arial"/>
              </a:rPr>
              <a:t>Именно после этого случая ему выдали </a:t>
            </a:r>
            <a:r>
              <a:rPr b="0" lang="en" sz="1200" spc="-1" strike="noStrike">
                <a:solidFill>
                  <a:srgbClr val="000000"/>
                </a:solidFill>
                <a:latin typeface="Arial"/>
              </a:rPr>
              <a:t>«</a:t>
            </a:r>
            <a:r>
              <a:rPr b="0" lang="ru-RU" sz="1200" spc="-1" strike="noStrike">
                <a:solidFill>
                  <a:srgbClr val="000000"/>
                </a:solidFill>
                <a:latin typeface="Arial"/>
              </a:rPr>
              <a:t>Барса</a:t>
            </a:r>
            <a:r>
              <a:rPr b="0" lang="en" sz="1200" spc="-1" strike="noStrike">
                <a:solidFill>
                  <a:srgbClr val="000000"/>
                </a:solidFill>
                <a:latin typeface="Arial"/>
              </a:rPr>
              <a:t>». </a:t>
            </a:r>
            <a:r>
              <a:rPr b="0" lang="ru-RU" sz="1200" spc="-1" strike="noStrike">
                <a:solidFill>
                  <a:srgbClr val="000000"/>
                </a:solidFill>
                <a:latin typeface="Arial"/>
              </a:rPr>
              <a:t>Нет, с приземлением прошло все хорошо. А вот, когда откопали этих черепах в бездонных водах… Ну, взяли на обследование. Дежурный заснул…, а черепахе захотелось поползать…, проблески разума. Ползала, ползала… . Хотя никто на самом деле не знает, как убрались подпорки. Но вот результат. Впрочем, это другая история.</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у, надо, значит надо! С начальством не поспоришь. Пришлось лететь на эту планету</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ff"/>
            </a:gs>
            <a:gs pos="100000">
              <a:srgbClr val="5e4675"/>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228240" y="151920"/>
            <a:ext cx="8915400" cy="670572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 тут раз! И вместо  одного </a:t>
            </a:r>
            <a:r>
              <a:rPr b="0" lang="en" sz="1200" spc="-1" strike="noStrike">
                <a:solidFill>
                  <a:srgbClr val="000000"/>
                </a:solidFill>
                <a:latin typeface="Arial"/>
              </a:rPr>
              <a:t>«</a:t>
            </a:r>
            <a:r>
              <a:rPr b="0" lang="ru-RU" sz="1200" spc="-1" strike="noStrike">
                <a:solidFill>
                  <a:srgbClr val="000000"/>
                </a:solidFill>
                <a:latin typeface="Arial"/>
              </a:rPr>
              <a:t>Барса</a:t>
            </a:r>
            <a:r>
              <a:rPr b="0" lang="en" sz="1200" spc="-1" strike="noStrike">
                <a:solidFill>
                  <a:srgbClr val="000000"/>
                </a:solidFill>
                <a:latin typeface="Arial"/>
              </a:rPr>
              <a:t>» </a:t>
            </a:r>
            <a:r>
              <a:rPr b="0" lang="ru-RU" sz="1200" spc="-1" strike="noStrike">
                <a:solidFill>
                  <a:srgbClr val="000000"/>
                </a:solidFill>
                <a:latin typeface="Arial"/>
              </a:rPr>
              <a:t>у Евгения чуть не стало целых два.</a:t>
            </a:r>
            <a:endParaRPr b="0" lang="en-US" sz="1200" spc="-1" strike="noStrike">
              <a:solidFill>
                <a:srgbClr val="000000"/>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лава </a:t>
            </a:r>
            <a:r>
              <a:rPr b="1" lang="en" sz="1200" spc="-1" strike="noStrike">
                <a:solidFill>
                  <a:srgbClr val="000000"/>
                </a:solidFill>
                <a:latin typeface="Arial"/>
              </a:rPr>
              <a:t>2</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рез час после аварийной высадки, когда все более- менее встало на свои места, Евгений собрал совещание из тех, кто стоял на ногах. В нем приняли участие: Юрий Сергеевич (подполковник космофлота Земли, везущий на Плутон своего сына Макса), Алексей (навигатор, по совместительству радист), Андрей (механик), ну, и собственно виновник происшествия Евгений.</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вое, что мы должны сделать,- начал Евгений,- отправить известие о том, что здесь случилось на Фениксе, там уж пусть решают, что с нами делать. Андрей, ты говоришь поломка главного двигателя?</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 и еще…</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можешь починить?- прервал его Евгений.</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еще активное вещество испарилось, попало в воздух.</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начит без этих зануд – спасателей не обойтись. Стоп! А где Макс? Юрий Сергеевич?</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Я хотел вас об этом спросить,- прозвучал ответ.</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льше все пошло очень быстро. Алексей отослал  на Феникс радиограмму и через несколько минут получили ответ: </a:t>
            </a:r>
            <a:r>
              <a:rPr b="0" lang="en" sz="1200" spc="-1" strike="noStrike">
                <a:solidFill>
                  <a:srgbClr val="000000"/>
                </a:solidFill>
                <a:latin typeface="Arial"/>
              </a:rPr>
              <a:t>«</a:t>
            </a:r>
            <a:r>
              <a:rPr b="0" lang="ru-RU" sz="1200" spc="-1" strike="noStrike">
                <a:solidFill>
                  <a:srgbClr val="000000"/>
                </a:solidFill>
                <a:latin typeface="Arial"/>
              </a:rPr>
              <a:t>Ждите спасательную группу, они прилетят с задания  и полетят за вами. Действуйте по заданию. Об исследованиях доложите в обычном порядке</a:t>
            </a:r>
            <a:r>
              <a:rPr b="0" lang="en"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 на корабле обычного порядка не было – пропал один человек из экипажа. Человек не робот! Да еще и ребенок!  К тому времени, как Алексей получил ответ, Андрей и Юрий Сергеевич уже были в полной готовности к полету, даже ремни пристегнули. Евгений давал им последние указания.</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вым делом проверьте окрестности, он не мог далеко уйти (то, что Макс  сам убежал, все поняли сразу, как убедились, что его нет). Макс такой человек- без желания – никуда. К тому же пропала птица – переводчик, прозванная Оратором.</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Хорошо,- оборвал его на полуслове Юрий Сергеевич,- Как же он мог? Вот прилетим на Плутон…Это уже были мысли вслух, что-то там было такое: три месяца без </a:t>
            </a:r>
            <a:r>
              <a:rPr b="0" lang="en" sz="1200" spc="-1" strike="noStrike">
                <a:solidFill>
                  <a:srgbClr val="000000"/>
                </a:solidFill>
                <a:latin typeface="Arial"/>
              </a:rPr>
              <a:t>3-D </a:t>
            </a:r>
            <a:r>
              <a:rPr b="0" lang="ru-RU" sz="1200" spc="-1" strike="noStrike">
                <a:solidFill>
                  <a:srgbClr val="000000"/>
                </a:solidFill>
                <a:latin typeface="Arial"/>
              </a:rPr>
              <a:t>боев… Или что-то в этом роде.</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ндрей был очень расстроен, что первый выход на планету, новую планету был таким. Уж лучше бы землетрясение! А у Юрия Сергеевича мысли еще хуже: Собственный сын! Разве он так его воспитал? Ну, в общем да… Но Юрий Сергеевич не хотел себе в этом признаваться, как не хотел признаваться и в том, что сам был таким же в его пятнадцать лет: авантюристом, задорным выдумщиком…</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такими мыслями на борту антиграв скользил над поверхностью огромной степи. На краю виднелось что-то похожее на лиловые заросли и уж совсем за горизонтом виделись высоченные горы, раза в два выше нашего родного Олимпа на Марсе. Но горы были Юрию Сергеевичу не в новинку, тем более он высматривал Макса. Ох, чтобы он ему сейчас сделал!..  Да ничего бы не сделал, не смог бы. Ну. Обнял бы крепко, крепко, чтобы слезы выступили и все.</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 пока Юрий Сергеевич всматривается в пейзаж в поисках точки, на этой необъятной новой земле, я расскажу, что увидел Андрей. А посмотреть было на что!</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колько Андрей не летал по галактике, такого разнообразия красок не видел: на фоне вечернего неба светились три ярчайшие Луны. Одна была со светло-голубыми отливом и темнела к центру, на вторую было больно смотреть, она светили, как десять солнц, но тем не менее на этой неизведанной земле были сумерки. А третья…. Третьей бы вовсе не было  заметно, если бы не свет ее сестры.</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смотря на то, что воздух был уже темен, Земля светилась, как большой город вечером. Но это был не наш Земной свет. Он исходил не от фонарей, а от самой земли.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4675"/>
            </a:gs>
            <a:gs pos="100000">
              <a:srgbClr val="cc99ff"/>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152280" y="228240"/>
            <a:ext cx="8839440" cy="66294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будто тонкая оболочка – земная кора была полупрозрачной, и свет исходил от ядра планеты…</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 вот степь кончилась, начался лиловый лес. В лесу между деревьями, больше похожими на грибы, стояли длинные прозрачные домики со множеством небольших возвышений. Домики? Похоже, потерпевшие крушение тоже их заметили.</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Юрий Сергеевич, смотрите!- воскликнул Андрей.</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 Очень интересно! Я первый раз встречаю такой интеллект в нашей галактике. Это тебе не муравьи на Центральном рудокопе! У которых один ум на всю планету, да еще питаются и дышат аммиаком…,- Юрий Сергеевич говорил голосом натуралиста, которому представлялась честь видеть редкое насекомое. Его мысли были заняты Максом.</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у, а я вообще первый раз разумных вижу! – закричал уже неспособный сдерживаться Андрей.</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Жители?! – опомнился Юрий Сергеевич,- у них же Макс! Не спрашивай почему! Я знаю! Снижаемся!</a:t>
            </a:r>
            <a:endParaRPr b="0" lang="en-US" sz="1200" spc="-1" strike="noStrike">
              <a:solidFill>
                <a:srgbClr val="000000"/>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лава </a:t>
            </a:r>
            <a:r>
              <a:rPr b="1" lang="en" sz="1200" spc="-1" strike="noStrike">
                <a:solidFill>
                  <a:srgbClr val="000000"/>
                </a:solidFill>
                <a:latin typeface="Arial"/>
              </a:rPr>
              <a:t>3</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адка прошла очень быстро. В таком состоянии Юрий Сергеевич приобретал такую реакцию.… Тем более это касалось его сына. Вообще на посадку в неизвестном месте тратится минут тридцать, а сейчас планетарный катер приземлился чуть не за пять секунд.</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только до земли коснулась последняя подпорка, Юрий Сергеевич выпрыгнул из катера. Вы не подумайте, что он просто взял и выпрыгнул. Раз сто было все проверено, взят анализ воздуха… Все-таки Юрий Сергеевич был космонавтом, ему уже было далеко за тридцать. За ним  неспешно вышел Андрей.</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зору путешественников предстала такая картина: перед ними стояло строение, похожее на теплицу, размера примерно такого же. Чуть выше пояса находилась дверь (или окно), размером чуть больше арбуза. На фоне На фоне остального пейзажа дом выглядел примерно так, как если бы посреди какого- нибудь заповедника взяли и построили отель. Только пока этот отель еще не заселили. Хотя нет.  Вот, пожалуйста, и житель. Опять я забегаю вперед!</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ндрей и Юрий Сергеевич смотрели, как зачарованные. Из двери дома выплыл разноцветный шарик, похожий на нашу радугу, только контрастный. Выплыл и замигал всеми цветами.  И тут лицо Андрея преобразилось:</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Юрий Сергеевич, а вот и наш Оратор тоже светится!</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 удивлюсь, если здесь окажется Макс.</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тут из-за дерева – гриба вышел Макс. Под Максом громко хрюкал, слегка помахивал крылышками и висел в воздухе…</a:t>
            </a:r>
            <a:endParaRPr b="0" lang="en-US" sz="1200" spc="-1" strike="noStrike">
              <a:solidFill>
                <a:srgbClr val="000000"/>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лава </a:t>
            </a:r>
            <a:r>
              <a:rPr b="1" lang="en" sz="1200" spc="-1" strike="noStrike">
                <a:solidFill>
                  <a:srgbClr val="000000"/>
                </a:solidFill>
                <a:latin typeface="Arial"/>
              </a:rPr>
              <a:t>4</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ракон. Да-да. Наш Земной Змей Горыныч!</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лушай Макс, что случилось, а?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вот, что рассказал Макс.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ивилизация светящихся шариков появилась очень давно. Общаются они с помощью цвета, разной световой силы и электроволн. Как в радиоприемнике. Живут шарики в стеклянных куполах – городах. Лиловые леса-грибники – это на самом деле место для выращивания зеленых дракончиков (Оратор не смог перевести слово, потому что нет синонима в русском языке). При рождении (про рождение он не очень понял) у каждого Арана – так называют себя эти существа, появляется по своему дракончику, они вылупляются из верхушек грибов. Дракону остаются с Аранами и всю жизнь и заменяют им материальную оболочку. Проще говоря, дракон – это тело, а Аран – это душа.</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ле этого познавательного рассказа Юрий Сергеевич, Макс и Андрей пошли в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13500000"/>
        </a:gra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4648320" y="2819520"/>
            <a:ext cx="4114800" cy="3860640"/>
          </a:xfrm>
          <a:prstGeom prst="rect">
            <a:avLst/>
          </a:prstGeom>
          <a:ln w="0">
            <a:noFill/>
          </a:ln>
        </p:spPr>
      </p:pic>
      <p:sp>
        <p:nvSpPr>
          <p:cNvPr id="49" name=""/>
          <p:cNvSpPr/>
          <p:nvPr/>
        </p:nvSpPr>
        <p:spPr>
          <a:xfrm>
            <a:off x="457200" y="380880"/>
            <a:ext cx="8515440" cy="2438640"/>
          </a:xfrm>
          <a:prstGeom prst="rect">
            <a:avLst/>
          </a:prstGeom>
          <a:no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Дорогой читатель!</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          </a:t>
            </a:r>
            <a:r>
              <a:rPr b="1" lang="ru-RU" sz="1400" spc="-1" strike="noStrike">
                <a:solidFill>
                  <a:srgbClr val="000000"/>
                </a:solidFill>
                <a:latin typeface="Times New Roman"/>
              </a:rPr>
              <a:t>У Вас в руках новый выпуск журнала </a:t>
            </a:r>
            <a:r>
              <a:rPr b="1" lang="en-US" sz="1400" spc="-1" strike="noStrike">
                <a:solidFill>
                  <a:srgbClr val="000000"/>
                </a:solidFill>
                <a:latin typeface="Times New Roman"/>
              </a:rPr>
              <a:t>«</a:t>
            </a:r>
            <a:r>
              <a:rPr b="1" lang="ru-RU" sz="1400" spc="-1" strike="noStrike">
                <a:solidFill>
                  <a:srgbClr val="000000"/>
                </a:solidFill>
                <a:latin typeface="Times New Roman"/>
              </a:rPr>
              <a:t>Мечтатель</a:t>
            </a:r>
            <a:r>
              <a:rPr b="1" lang="en-US" sz="1400" spc="-1" strike="noStrike">
                <a:solidFill>
                  <a:srgbClr val="000000"/>
                </a:solidFill>
                <a:latin typeface="Times New Roman"/>
              </a:rPr>
              <a:t>». </a:t>
            </a:r>
            <a:r>
              <a:rPr b="1" lang="ru-RU" sz="1400" spc="-1" strike="noStrike">
                <a:solidFill>
                  <a:srgbClr val="000000"/>
                </a:solidFill>
                <a:latin typeface="Times New Roman"/>
              </a:rPr>
              <a:t>Он сделан из вдохновения и старания многих людей. Волшебство? Нет. Но несомненно в воздухе витает что -то необычное, чувствуете? Осень! Казалось бы обычное время года , лужи, сухие листья, холод… Но если приглядеться хотя бы к тем листьям-  что же заставляет их менять свой цвет с зеленого на золотой? Может быть, то самое волшебство, которого нам так не хватает?</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         </a:t>
            </a:r>
            <a:r>
              <a:rPr b="1" lang="ru-RU" sz="1400" spc="-1" strike="noStrike">
                <a:solidFill>
                  <a:srgbClr val="000000"/>
                </a:solidFill>
                <a:latin typeface="Times New Roman"/>
              </a:rPr>
              <a:t>В этом номере мы желаем Вам раскрыть осень в новых красках. Ну, а для того, чтобы это было легче сделать и создан этот номер!</a:t>
            </a:r>
            <a:endParaRPr b="0" lang="en-US" sz="1400" spc="-1" strike="noStrike">
              <a:solidFill>
                <a:srgbClr val="000000"/>
              </a:solidFill>
              <a:latin typeface="Arial"/>
            </a:endParaRPr>
          </a:p>
        </p:txBody>
      </p:sp>
      <p:sp>
        <p:nvSpPr>
          <p:cNvPr id="50" name=""/>
          <p:cNvSpPr/>
          <p:nvPr/>
        </p:nvSpPr>
        <p:spPr>
          <a:xfrm>
            <a:off x="228600" y="4495680"/>
            <a:ext cx="4419720" cy="213372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Автор идеи: </a:t>
            </a:r>
            <a:r>
              <a:rPr b="0" lang="ru-RU" sz="1400" spc="-1" strike="noStrike">
                <a:solidFill>
                  <a:srgbClr val="000000"/>
                </a:solidFill>
                <a:latin typeface="Times New Roman"/>
              </a:rPr>
              <a:t>учитель русского языка и литературы Мазурова Е. 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Главный редактор: </a:t>
            </a:r>
            <a:r>
              <a:rPr b="0" lang="ru-RU" sz="1400" spc="-1" strike="noStrike">
                <a:solidFill>
                  <a:srgbClr val="000000"/>
                </a:solidFill>
                <a:latin typeface="Times New Roman"/>
              </a:rPr>
              <a:t>Остромогильский Аркади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Творческая группа</a:t>
            </a:r>
            <a:r>
              <a:rPr b="0" lang="ru-RU" sz="1400" spc="-1" strike="noStrike">
                <a:solidFill>
                  <a:srgbClr val="000000"/>
                </a:solidFill>
                <a:latin typeface="Times New Roman"/>
              </a:rPr>
              <a:t>: </a:t>
            </a:r>
            <a:r>
              <a:rPr b="0" i="1" lang="ru-RU" sz="1400" spc="-1" strike="noStrike">
                <a:solidFill>
                  <a:srgbClr val="000000"/>
                </a:solidFill>
                <a:latin typeface="Times New Roman"/>
              </a:rPr>
              <a:t>учащиеся </a:t>
            </a:r>
            <a:r>
              <a:rPr b="0" i="1" lang="en-US" sz="1400" spc="-1" strike="noStrike">
                <a:solidFill>
                  <a:srgbClr val="000000"/>
                </a:solidFill>
                <a:latin typeface="Times New Roman"/>
              </a:rPr>
              <a:t>7 “</a:t>
            </a:r>
            <a:r>
              <a:rPr b="0" i="1" lang="ru-RU" sz="1400" spc="-1" strike="noStrike">
                <a:solidFill>
                  <a:srgbClr val="000000"/>
                </a:solidFill>
                <a:latin typeface="Times New Roman"/>
              </a:rPr>
              <a:t>В</a:t>
            </a:r>
            <a:r>
              <a:rPr b="0" i="1" lang="en-US" sz="1400" spc="-1" strike="noStrike">
                <a:solidFill>
                  <a:srgbClr val="000000"/>
                </a:solidFill>
                <a:latin typeface="Times New Roman"/>
              </a:rPr>
              <a:t>” </a:t>
            </a:r>
            <a:r>
              <a:rPr b="0" i="1" lang="ru-RU" sz="1400" spc="-1" strike="noStrike">
                <a:solidFill>
                  <a:srgbClr val="000000"/>
                </a:solidFill>
                <a:latin typeface="Times New Roman"/>
              </a:rPr>
              <a:t>класса МОУ </a:t>
            </a:r>
            <a:r>
              <a:rPr b="0" i="1" lang="en-US" sz="1400" spc="-1" strike="noStrike">
                <a:solidFill>
                  <a:srgbClr val="000000"/>
                </a:solidFill>
                <a:latin typeface="Times New Roman"/>
              </a:rPr>
              <a:t>«</a:t>
            </a:r>
            <a:r>
              <a:rPr b="0" i="1" lang="ru-RU" sz="1400" spc="-1" strike="noStrike">
                <a:solidFill>
                  <a:srgbClr val="000000"/>
                </a:solidFill>
                <a:latin typeface="Times New Roman"/>
              </a:rPr>
              <a:t>Гимназия им. Н. В. Пушкова</a:t>
            </a:r>
            <a:r>
              <a:rPr b="0" i="1" lang="en-US" sz="1400" spc="-1" strike="noStrike">
                <a:solidFill>
                  <a:srgbClr val="000000"/>
                </a:solidFill>
                <a:latin typeface="Times New Roman"/>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4675"/>
            </a:gs>
            <a:gs pos="100000">
              <a:srgbClr val="cc99ff"/>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152280" y="152280"/>
            <a:ext cx="8839440" cy="655344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ород. Шарик, который мы увидели первым, летел за ними. Когда открыватели пришли в город – купол, они поняли, как мало говорят слова. На самом деле купол – это золотисто- голубая завеса, очень плотная снизу и рассеивающаяся кверху. В куполе летало штук пятьдесят Аранов. По середине поляны, на которой был купол, возвышалось строение из голубого камня, похожее на Александрийский маяк и  Стоунхендж одновременно: по середине стояла высокая башня со множеством окон на разных уровнях. Только на самом верху окон не было. Вокруг башни раскидано много небольших валунов (примерно с половину машины) ярко-розового цвета. Валуны пульсировали, и от них шел свет. Оратор тем временем переводил Юрию Сергеевичу, что это такое.</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казывается, Араны питаются радиацией разной силы. Синие, например  - ультрафиолетом, а красные – радиоволнами. А эта камни пульсируют радиацией разной силы… Центральное здание – это своеобразная школа без учителей, со множеством учеников Вернее учителя там есть. Учителями являются…звезды.</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раны научились как-то направлять свет звезд на определенное место. Язык Аранов- это не что иное, как свет звезд.</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друг из большого здания вылетел светло-голубой Аран. Он замерцал так ярко, что ослепил глаза людей, хоть они и были защищены темными фильтрами.</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го, ничего себе,- воскликнул Андрей.</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такое?- испуганно спросил Юрий Сергеевич.</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 тут…</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диация зашкаливает. Гамма – излучение! – прервал Андрея Макс.</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Я смотрю у Аранов обеденный перерыв,- высказал догадку Юрий Сергеевич.</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правда, все камни засветились разными цветами радуги. И у каждого камня собралось по дюжине Аранов одного цвета.</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 было дивное зрелище. Золотая завеса купола сверкала всеми цветами радуги, отражая ярчайший свет. Казалось, цвет шел отовсюду, даже не шел, он просто был везде.</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 что там,- вдруг спросил Макс, указывая на какую-то скалу.</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ириус тебе в глотку! Это же корабль! – крикнул Юрий Сергеевич и бросился к скале.</a:t>
            </a:r>
            <a:endParaRPr b="0" lang="en-US" sz="1200" spc="-1" strike="noStrike">
              <a:solidFill>
                <a:srgbClr val="000000"/>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лава </a:t>
            </a:r>
            <a:r>
              <a:rPr b="1" lang="en" sz="1200" spc="-1" strike="noStrike">
                <a:solidFill>
                  <a:srgbClr val="000000"/>
                </a:solidFill>
                <a:latin typeface="Arial"/>
              </a:rPr>
              <a:t>5</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 это был космический корабль. С </a:t>
            </a:r>
            <a:r>
              <a:rPr b="0" lang="en" sz="1200" spc="-1" strike="noStrike">
                <a:solidFill>
                  <a:srgbClr val="000000"/>
                </a:solidFill>
                <a:latin typeface="Arial"/>
              </a:rPr>
              <a:t>«</a:t>
            </a:r>
            <a:r>
              <a:rPr b="0" lang="ru-RU" sz="1200" spc="-1" strike="noStrike">
                <a:solidFill>
                  <a:srgbClr val="000000"/>
                </a:solidFill>
                <a:latin typeface="Arial"/>
              </a:rPr>
              <a:t>Барса</a:t>
            </a:r>
            <a:r>
              <a:rPr b="0" lang="en" sz="1200" spc="-1" strike="noStrike">
                <a:solidFill>
                  <a:srgbClr val="000000"/>
                </a:solidFill>
                <a:latin typeface="Arial"/>
              </a:rPr>
              <a:t>» </a:t>
            </a:r>
            <a:r>
              <a:rPr b="0" lang="ru-RU" sz="1200" spc="-1" strike="noStrike">
                <a:solidFill>
                  <a:srgbClr val="000000"/>
                </a:solidFill>
                <a:latin typeface="Arial"/>
              </a:rPr>
              <a:t>был срочно вызван Евгений (специалист по инопланетянам). Его мечтой было найти жизнь, равную человеческой по разуму. И вот, наконец!</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ле продолжительных поисков люка Горелый убедился, что такого нет. Пришлось вырезать лазером. Попали путешественники, судя по всему, на капитанский мостик. Их глазам предстала такая картина: три величественных (в два человеческих роста) скелета стояли перед ними. Неведомые космонавты устремили свои глаза вверх, словно прощались. Прощались с этим миром, друг с другом… У них было по три глаза. Их глаза не сгнили. Это были девять алмазов, устремленных в вечность. Казалось, прикоснись к ним, и их скелеты обратятся в прах, а глаза так и останутся светиться немым блеском.</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льше всего они походили на ящеров – динозавров, ушедших с приходом метеорита, чтобы уступить место людям. У пришельцев был длинный хвост, мощные лапы и огромные глазницы с приподнятыми длинными бровями.</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стронавтов поразило то, что у этих существ почти не было рук! Были только жалки короткие отростки. Но глаза…</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питанский мостик представлял собой длинную полосу с бортиками, уставленную всевозможными геометрическими фигурами, которые  были приделаны друг к другу под разными углами.</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ff"/>
            </a:gs>
            <a:gs pos="100000">
              <a:srgbClr val="5e4675"/>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304920"/>
            <a:ext cx="8229600" cy="304776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200" spc="-1" strike="noStrike">
                <a:solidFill>
                  <a:srgbClr val="000000"/>
                </a:solidFill>
                <a:latin typeface="Arial"/>
              </a:rPr>
              <a:t>В центре красовалась объемная картина с изображением планеты пришельцев. Как она похожа на Землю! Как давно Женя не был на Земле, дома. Не гладил  зеленую траву…</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 вот слева другая картина. Да это же Араны! И дракончики… Это же строительство башен! И пришельцы тут! Но вот улыбки сошли у исследователей с лиц. На следующей картине изображалась комета Алая, с кровавым оттенком она неслась к этой цветущей планете. Сверху русскими буквами было написано </a:t>
            </a:r>
            <a:r>
              <a:rPr b="0" lang="en" sz="1200" spc="-1" strike="noStrike">
                <a:solidFill>
                  <a:srgbClr val="000000"/>
                </a:solidFill>
                <a:latin typeface="Arial"/>
              </a:rPr>
              <a:t>«</a:t>
            </a:r>
            <a:r>
              <a:rPr b="0" lang="ru-RU" sz="1200" spc="-1" strike="noStrike">
                <a:solidFill>
                  <a:srgbClr val="000000"/>
                </a:solidFill>
                <a:latin typeface="Arial"/>
              </a:rPr>
              <a:t>Барс</a:t>
            </a:r>
            <a:r>
              <a:rPr b="0" lang="en" sz="1200" spc="-1" strike="noStrike">
                <a:solidFill>
                  <a:srgbClr val="000000"/>
                </a:solidFill>
                <a:latin typeface="Arial"/>
              </a:rPr>
              <a:t>». </a:t>
            </a:r>
            <a:r>
              <a:rPr b="0" lang="ru-RU" sz="1200" spc="-1" strike="noStrike">
                <a:solidFill>
                  <a:srgbClr val="000000"/>
                </a:solidFill>
                <a:latin typeface="Arial"/>
              </a:rPr>
              <a:t>Послышался лязг, а потом грохот. Путешественники буквально выпрыгнули из корабля. Через секунду в него врезался первый метеорит. На красном небе показался еще один корабль. Нет, это был не </a:t>
            </a:r>
            <a:r>
              <a:rPr b="0" lang="en" sz="1200" spc="-1" strike="noStrike">
                <a:solidFill>
                  <a:srgbClr val="000000"/>
                </a:solidFill>
                <a:latin typeface="Arial"/>
              </a:rPr>
              <a:t>«</a:t>
            </a:r>
            <a:r>
              <a:rPr b="0" lang="ru-RU" sz="1200" spc="-1" strike="noStrike">
                <a:solidFill>
                  <a:srgbClr val="000000"/>
                </a:solidFill>
                <a:latin typeface="Arial"/>
              </a:rPr>
              <a:t>Барс</a:t>
            </a:r>
            <a:r>
              <a:rPr b="0" lang="en" sz="1200" spc="-1" strike="noStrike">
                <a:solidFill>
                  <a:srgbClr val="000000"/>
                </a:solidFill>
                <a:latin typeface="Arial"/>
              </a:rPr>
              <a:t>». </a:t>
            </a:r>
            <a:r>
              <a:rPr b="0" lang="ru-RU" sz="1200" spc="-1" strike="noStrike">
                <a:solidFill>
                  <a:srgbClr val="000000"/>
                </a:solidFill>
                <a:latin typeface="Arial"/>
              </a:rPr>
              <a:t>Это была пирамида  ярчайшего света, отливавшая всеми цветами радуги. Послышался крик, который был непереносим человеческому уху. После того, как команда </a:t>
            </a:r>
            <a:r>
              <a:rPr b="0" lang="en" sz="1200" spc="-1" strike="noStrike">
                <a:solidFill>
                  <a:srgbClr val="000000"/>
                </a:solidFill>
                <a:latin typeface="Arial"/>
              </a:rPr>
              <a:t>«</a:t>
            </a:r>
            <a:r>
              <a:rPr b="0" lang="ru-RU" sz="1200" spc="-1" strike="noStrike">
                <a:solidFill>
                  <a:srgbClr val="000000"/>
                </a:solidFill>
                <a:latin typeface="Arial"/>
              </a:rPr>
              <a:t>Барса</a:t>
            </a:r>
            <a:r>
              <a:rPr b="0" lang="en" sz="1200" spc="-1" strike="noStrike">
                <a:solidFill>
                  <a:srgbClr val="000000"/>
                </a:solidFill>
                <a:latin typeface="Arial"/>
              </a:rPr>
              <a:t>» </a:t>
            </a:r>
            <a:r>
              <a:rPr b="0" lang="ru-RU" sz="1200" spc="-1" strike="noStrike">
                <a:solidFill>
                  <a:srgbClr val="000000"/>
                </a:solidFill>
                <a:latin typeface="Arial"/>
              </a:rPr>
              <a:t>опомнилась, над неведомой землей снижался , взмахивая исполинскими крыльями, Змей Горыныч. Глаза у него были красными, как у людей, после долгого плача. Если бы не он, от людей ничего не осталось…</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 вот уже </a:t>
            </a:r>
            <a:r>
              <a:rPr b="0" lang="en" sz="1200" spc="-1" strike="noStrike">
                <a:solidFill>
                  <a:srgbClr val="000000"/>
                </a:solidFill>
                <a:latin typeface="Arial"/>
              </a:rPr>
              <a:t>«</a:t>
            </a:r>
            <a:r>
              <a:rPr b="0" lang="ru-RU" sz="1200" spc="-1" strike="noStrike">
                <a:solidFill>
                  <a:srgbClr val="000000"/>
                </a:solidFill>
                <a:latin typeface="Arial"/>
              </a:rPr>
              <a:t>Барс</a:t>
            </a:r>
            <a:r>
              <a:rPr b="0" lang="en" sz="1200" spc="-1" strike="noStrike">
                <a:solidFill>
                  <a:srgbClr val="000000"/>
                </a:solidFill>
                <a:latin typeface="Arial"/>
              </a:rPr>
              <a:t>» </a:t>
            </a:r>
            <a:r>
              <a:rPr b="0" lang="ru-RU" sz="1200" spc="-1" strike="noStrike">
                <a:solidFill>
                  <a:srgbClr val="000000"/>
                </a:solidFill>
                <a:latin typeface="Arial"/>
              </a:rPr>
              <a:t>взлетел над Зеленой планетой. И только громкий плач Змея оглашал безлюдные степи.</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т где-то на грани видимости сверкнула точка, переливающаяся всеми цветами радуги.… И исчезла навсегда.</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 </a:t>
            </a:r>
            <a:endParaRPr b="0" lang="en-US" sz="1200" spc="-1" strike="noStrike">
              <a:solidFill>
                <a:srgbClr val="000000"/>
              </a:solidFill>
              <a:latin typeface="Arial"/>
            </a:endParaRPr>
          </a:p>
        </p:txBody>
      </p:sp>
      <p:sp>
        <p:nvSpPr>
          <p:cNvPr id="117" name=""/>
          <p:cNvSpPr/>
          <p:nvPr/>
        </p:nvSpPr>
        <p:spPr>
          <a:xfrm>
            <a:off x="3200400" y="4800600"/>
            <a:ext cx="4876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Остромогильский Аркадий, 7в класс</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6c75"/>
            </a:gs>
            <a:gs pos="50000">
              <a:srgbClr val="ccecff"/>
            </a:gs>
            <a:gs pos="100000">
              <a:srgbClr val="5e6c75"/>
            </a:gs>
          </a:gsLst>
          <a:lin ang="10800000"/>
        </a:gradFill>
      </p:bgPr>
    </p:bg>
    <p:spTree>
      <p:nvGrpSpPr>
        <p:cNvPr id="1" name=""/>
        <p:cNvGrpSpPr/>
        <p:nvPr/>
      </p:nvGrpSpPr>
      <p:grpSpPr>
        <a:xfrm>
          <a:off x="0" y="0"/>
          <a:ext cx="0" cy="0"/>
          <a:chOff x="0" y="0"/>
          <a:chExt cx="0" cy="0"/>
        </a:xfrm>
      </p:grpSpPr>
      <p:sp>
        <p:nvSpPr>
          <p:cNvPr id="118" name=""/>
          <p:cNvSpPr/>
          <p:nvPr/>
        </p:nvSpPr>
        <p:spPr>
          <a:xfrm>
            <a:off x="380880" y="457200"/>
            <a:ext cx="8153640" cy="3124080"/>
          </a:xfrm>
          <a:prstGeom prst="rect">
            <a:avLst/>
          </a:prstGeom>
          <a:no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Первый снег</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Люблю я первый снег,</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Когда идет он быстро.</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О как он свеж, красив и бел,</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О как прекрасен и прелестен!</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Когда идет первый снег, мне становится и грустно, и весело. С одной стороны все очень хорошо. Думаешь: сейчас выйдешь, в снежки поиграешь, а на самом—то  деле выходишь, а вокруг грязь, холод… Не очень уютно…. Хотя идешь и видишь—маленькие дети пытаются слепить снеговика. Счастливые! Им—то хорошо. Никуда не спешат.</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Пройдя несколько шагов, я посмотрела на деревья… Да они же все в снегу! Как красиво! А скоро будет еще лучше, ведь начнется настоящая зима!</a:t>
            </a:r>
            <a:endParaRPr b="0" lang="en-US" sz="1400" spc="-1" strike="noStrike">
              <a:solidFill>
                <a:srgbClr val="000000"/>
              </a:solidFill>
              <a:latin typeface="Arial"/>
            </a:endParaRPr>
          </a:p>
        </p:txBody>
      </p:sp>
      <p:sp>
        <p:nvSpPr>
          <p:cNvPr id="119" name=""/>
          <p:cNvSpPr/>
          <p:nvPr/>
        </p:nvSpPr>
        <p:spPr>
          <a:xfrm>
            <a:off x="5105520" y="3657600"/>
            <a:ext cx="3527280" cy="297180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Первый снег</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Снежинка легкая упала—перва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Затем растаяла снежинка смела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Сгорела, будто бы она огон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Мне стало холодно</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И я окно закрыл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Снежинки падали и падали всю ноч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А я смотрела на ночное диво.</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Могла ли я снежинкам тем помоч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Они бездумно падал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И таяли во тьме.</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И я о них все думал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Их жалко было мне.</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 name=""/>
          <p:cNvSpPr/>
          <p:nvPr/>
        </p:nvSpPr>
        <p:spPr>
          <a:xfrm>
            <a:off x="685800" y="685800"/>
            <a:ext cx="2590920" cy="450720"/>
          </a:xfrm>
          <a:prstGeom prst="rect">
            <a:avLst/>
          </a:prstGeom>
          <a:noFill/>
          <a:ln w="0">
            <a:noFill/>
          </a:ln>
        </p:spPr>
        <p:style>
          <a:lnRef idx="0"/>
          <a:fillRef idx="0"/>
          <a:effectRef idx="0"/>
          <a:fontRef idx="minor"/>
        </p:style>
        <p:txBody>
          <a:bodyPr lIns="36720" rIns="36720" tIns="36720" bIns="367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Гордийчук Елена,6б класс</a:t>
            </a:r>
            <a:endParaRPr b="0" lang="en-US" sz="1600" spc="-1" strike="noStrike">
              <a:solidFill>
                <a:srgbClr val="000000"/>
              </a:solidFill>
              <a:latin typeface="Arial"/>
            </a:endParaRPr>
          </a:p>
        </p:txBody>
      </p:sp>
      <p:sp>
        <p:nvSpPr>
          <p:cNvPr id="121" name=""/>
          <p:cNvSpPr/>
          <p:nvPr/>
        </p:nvSpPr>
        <p:spPr>
          <a:xfrm>
            <a:off x="838080" y="5105520"/>
            <a:ext cx="2590920" cy="43164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Шкарина Дарья, 6б класс</a:t>
            </a:r>
            <a:endParaRPr b="0" lang="en-US" sz="1600" spc="-1" strike="noStrike">
              <a:solidFill>
                <a:srgbClr val="000000"/>
              </a:solidFill>
              <a:latin typeface="Arial"/>
            </a:endParaRPr>
          </a:p>
        </p:txBody>
      </p:sp>
      <p:pic>
        <p:nvPicPr>
          <p:cNvPr id="122" name="" descr=""/>
          <p:cNvPicPr/>
          <p:nvPr/>
        </p:nvPicPr>
        <p:blipFill>
          <a:blip r:embed="rId1">
            <a:lum bright="70000" contrast="-70000"/>
          </a:blip>
          <a:stretch/>
        </p:blipFill>
        <p:spPr>
          <a:xfrm>
            <a:off x="102623760" y="104832000"/>
            <a:ext cx="7631280" cy="10728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100000">
              <a:srgbClr val="ffffcc"/>
            </a:gs>
          </a:gsLst>
          <a:lin ang="5400000"/>
        </a:gradFill>
      </p:bgPr>
    </p:bg>
    <p:spTree>
      <p:nvGrpSpPr>
        <p:cNvPr id="1" name=""/>
        <p:cNvGrpSpPr/>
        <p:nvPr/>
      </p:nvGrpSpPr>
      <p:grpSpPr>
        <a:xfrm>
          <a:off x="0" y="0"/>
          <a:ext cx="0" cy="0"/>
          <a:chOff x="0" y="0"/>
          <a:chExt cx="0" cy="0"/>
        </a:xfrm>
      </p:grpSpPr>
      <p:sp>
        <p:nvSpPr>
          <p:cNvPr id="123" name=""/>
          <p:cNvSpPr/>
          <p:nvPr/>
        </p:nvSpPr>
        <p:spPr>
          <a:xfrm>
            <a:off x="609480" y="457200"/>
            <a:ext cx="8001000" cy="3505320"/>
          </a:xfrm>
          <a:prstGeom prst="rect">
            <a:avLst/>
          </a:prstGeom>
          <a:no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ервый снег</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Первый снег—маленькое счастье каждого человека, а каково счастье маленького щенка, который никогда не видел снега.</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Ведь Тошка родился летом, а когда он вышел со своим хозяином гулять (это было </a:t>
            </a:r>
            <a:r>
              <a:rPr b="0" lang="en-US" sz="1400" spc="-1" strike="noStrike">
                <a:solidFill>
                  <a:srgbClr val="000000"/>
                </a:solidFill>
                <a:latin typeface="Times New Roman"/>
              </a:rPr>
              <a:t>18 </a:t>
            </a:r>
            <a:r>
              <a:rPr b="0" lang="ru-RU" sz="1400" spc="-1" strike="noStrike">
                <a:solidFill>
                  <a:srgbClr val="000000"/>
                </a:solidFill>
                <a:latin typeface="Times New Roman"/>
              </a:rPr>
              <a:t>октября), то как раз шел первый снег, как  в новом году, так и в его жизни.</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начала Тошка испугался, свернулся калачиком, но хозяин с доброй и ласковой улыбкой сказал: </a:t>
            </a:r>
            <a:r>
              <a:rPr b="0" lang="en-US" sz="1400" spc="-1" strike="noStrike">
                <a:solidFill>
                  <a:srgbClr val="000000"/>
                </a:solidFill>
                <a:latin typeface="Times New Roman"/>
              </a:rPr>
              <a:t>«</a:t>
            </a:r>
            <a:r>
              <a:rPr b="0" lang="ru-RU" sz="1400" spc="-1" strike="noStrike">
                <a:solidFill>
                  <a:srgbClr val="000000"/>
                </a:solidFill>
                <a:latin typeface="Times New Roman"/>
              </a:rPr>
              <a:t>Не бойся, Тошка! Это просто снег Он тебе ничего не сделает!</a:t>
            </a:r>
            <a:r>
              <a:rPr b="0" lang="en-US" sz="1400" spc="-1" strike="noStrike">
                <a:solidFill>
                  <a:srgbClr val="000000"/>
                </a:solidFill>
                <a:latin typeface="Times New Roman"/>
              </a:rPr>
              <a:t>» </a:t>
            </a:r>
            <a:r>
              <a:rPr b="0" lang="ru-RU" sz="1400" spc="-1" strike="noStrike">
                <a:solidFill>
                  <a:srgbClr val="000000"/>
                </a:solidFill>
                <a:latin typeface="Times New Roman"/>
              </a:rPr>
              <a:t>Тошка осмелел и захотел его попробовать. Высунул язык и стал ловить маленькие снежинки. Они очень быстро таяли, но собаке это нравилось и поэтому он бегал, прыгал, вертелся и ловил, падающие с неба пушинки.</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К вечеру снег перестал. Тошка сидел у окна и смотрел на небо. Он думал о том, как же может быть, что они падают с неба и украшают деревья. С этой мыслью Тошка уснул. У него было очень радостное  и счастливое настроение.</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нега не было уже много дней, метель началась только третьего ноября, но Тошка никогда в жизни не забудет тот день, когда пошел первый снег.</a:t>
            </a:r>
            <a:endParaRPr b="0" lang="en-US" sz="1400" spc="-1" strike="noStrike">
              <a:solidFill>
                <a:srgbClr val="000000"/>
              </a:solidFill>
              <a:latin typeface="Arial"/>
            </a:endParaRPr>
          </a:p>
        </p:txBody>
      </p:sp>
      <p:pic>
        <p:nvPicPr>
          <p:cNvPr id="124" name="" descr=""/>
          <p:cNvPicPr/>
          <p:nvPr/>
        </p:nvPicPr>
        <p:blipFill>
          <a:blip r:embed="rId1"/>
          <a:stretch/>
        </p:blipFill>
        <p:spPr>
          <a:xfrm>
            <a:off x="1295280" y="4038480"/>
            <a:ext cx="3353040" cy="2235240"/>
          </a:xfrm>
          <a:prstGeom prst="rect">
            <a:avLst/>
          </a:prstGeom>
          <a:ln w="0">
            <a:noFill/>
          </a:ln>
        </p:spPr>
      </p:pic>
      <p:sp>
        <p:nvSpPr>
          <p:cNvPr id="125" name=""/>
          <p:cNvSpPr/>
          <p:nvPr/>
        </p:nvSpPr>
        <p:spPr>
          <a:xfrm>
            <a:off x="5257800" y="4419720"/>
            <a:ext cx="3276720" cy="46836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Мезенцева Мария,6б класс</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7546"/>
            </a:gs>
            <a:gs pos="100000">
              <a:srgbClr val="ccff99"/>
            </a:gs>
          </a:gsLst>
          <a:lin ang="13500000"/>
        </a:gradFill>
      </p:bgPr>
    </p:bg>
    <p:spTree>
      <p:nvGrpSpPr>
        <p:cNvPr id="1" name=""/>
        <p:cNvGrpSpPr/>
        <p:nvPr/>
      </p:nvGrpSpPr>
      <p:grpSpPr>
        <a:xfrm>
          <a:off x="0" y="0"/>
          <a:ext cx="0" cy="0"/>
          <a:chOff x="0" y="0"/>
          <a:chExt cx="0" cy="0"/>
        </a:xfrm>
      </p:grpSpPr>
      <p:sp>
        <p:nvSpPr>
          <p:cNvPr id="51" name=""/>
          <p:cNvSpPr/>
          <p:nvPr/>
        </p:nvSpPr>
        <p:spPr>
          <a:xfrm>
            <a:off x="914400" y="304920"/>
            <a:ext cx="2666880" cy="39672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Шавкунов Алексей,7в класс</a:t>
            </a:r>
            <a:endParaRPr b="0" lang="en-US" sz="1600" spc="-1" strike="noStrike">
              <a:solidFill>
                <a:srgbClr val="000000"/>
              </a:solidFill>
              <a:latin typeface="Arial"/>
            </a:endParaRPr>
          </a:p>
        </p:txBody>
      </p:sp>
      <p:sp>
        <p:nvSpPr>
          <p:cNvPr id="52" name=""/>
          <p:cNvSpPr/>
          <p:nvPr/>
        </p:nvSpPr>
        <p:spPr>
          <a:xfrm>
            <a:off x="380880" y="838080"/>
            <a:ext cx="2971800" cy="259092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Звенит звонок, дверь школы открывает</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Учитель для своих учеников.</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Он к знанию для нас путь  пролагает.</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Пусть каждый будет из школьников.</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Русский, физика., немецки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Впереди уже нас ждут.</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Повторим мы быстренько английски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И пройдем к уменью славный путь.</a:t>
            </a:r>
            <a:endParaRPr b="0" lang="en-US" sz="1400" spc="-1" strike="noStrike">
              <a:solidFill>
                <a:srgbClr val="000000"/>
              </a:solidFill>
              <a:latin typeface="Arial"/>
            </a:endParaRPr>
          </a:p>
        </p:txBody>
      </p:sp>
      <p:sp>
        <p:nvSpPr>
          <p:cNvPr id="53" name=""/>
          <p:cNvSpPr/>
          <p:nvPr/>
        </p:nvSpPr>
        <p:spPr>
          <a:xfrm>
            <a:off x="6705720" y="1676520"/>
            <a:ext cx="1981080" cy="274320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Звенит звонок,</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Пора на урок,</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Все ребята спешат</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И учиться хотят.</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Все учебники берут</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И идут.</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За парты садиться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И учиться.</a:t>
            </a:r>
            <a:endParaRPr b="0" lang="en-US" sz="1400" spc="-1" strike="noStrike">
              <a:solidFill>
                <a:srgbClr val="000000"/>
              </a:solidFill>
              <a:latin typeface="Arial"/>
            </a:endParaRPr>
          </a:p>
        </p:txBody>
      </p:sp>
      <p:sp>
        <p:nvSpPr>
          <p:cNvPr id="54" name=""/>
          <p:cNvSpPr/>
          <p:nvPr/>
        </p:nvSpPr>
        <p:spPr>
          <a:xfrm>
            <a:off x="6324480" y="838080"/>
            <a:ext cx="2819520" cy="39708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Глаголева Анастасия,7 в класс</a:t>
            </a:r>
            <a:endParaRPr b="0" lang="en-US" sz="1600" spc="-1" strike="noStrike">
              <a:solidFill>
                <a:srgbClr val="000000"/>
              </a:solidFill>
              <a:latin typeface="Arial"/>
            </a:endParaRPr>
          </a:p>
        </p:txBody>
      </p:sp>
      <p:sp>
        <p:nvSpPr>
          <p:cNvPr id="55" name=""/>
          <p:cNvSpPr/>
          <p:nvPr/>
        </p:nvSpPr>
        <p:spPr>
          <a:xfrm>
            <a:off x="4572000" y="4876920"/>
            <a:ext cx="2133720" cy="131112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Вот и кончилось лето,</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Нам в школу пор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Мы будем учитьс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И зубрить до утра.</a:t>
            </a:r>
            <a:endParaRPr b="0" lang="en-US" sz="1400" spc="-1" strike="noStrike">
              <a:solidFill>
                <a:srgbClr val="000000"/>
              </a:solidFill>
              <a:latin typeface="Arial"/>
            </a:endParaRPr>
          </a:p>
        </p:txBody>
      </p:sp>
      <p:sp>
        <p:nvSpPr>
          <p:cNvPr id="56" name=""/>
          <p:cNvSpPr/>
          <p:nvPr/>
        </p:nvSpPr>
        <p:spPr>
          <a:xfrm>
            <a:off x="1676520" y="5638680"/>
            <a:ext cx="2590560" cy="38124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Скопцов Евгений,7 в класс</a:t>
            </a:r>
            <a:endParaRPr b="0" lang="en-US" sz="1600" spc="-1" strike="noStrike">
              <a:solidFill>
                <a:srgbClr val="000000"/>
              </a:solidFill>
              <a:latin typeface="Arial"/>
            </a:endParaRPr>
          </a:p>
        </p:txBody>
      </p:sp>
      <p:pic>
        <p:nvPicPr>
          <p:cNvPr id="57" name="" descr=""/>
          <p:cNvPicPr/>
          <p:nvPr/>
        </p:nvPicPr>
        <p:blipFill>
          <a:blip r:embed="rId1"/>
          <a:stretch/>
        </p:blipFill>
        <p:spPr>
          <a:xfrm>
            <a:off x="3505320" y="457200"/>
            <a:ext cx="2666880" cy="3962520"/>
          </a:xfrm>
          <a:prstGeom prst="rect">
            <a:avLst/>
          </a:prstGeom>
          <a:ln w="0">
            <a:noFill/>
          </a:ln>
        </p:spPr>
      </p:pic>
      <p:pic>
        <p:nvPicPr>
          <p:cNvPr id="58" name="" descr=""/>
          <p:cNvPicPr/>
          <p:nvPr/>
        </p:nvPicPr>
        <p:blipFill>
          <a:blip r:embed="rId2"/>
          <a:srcRect l="0" t="0" r="0" b="9667"/>
          <a:stretch/>
        </p:blipFill>
        <p:spPr>
          <a:xfrm>
            <a:off x="685800" y="3429000"/>
            <a:ext cx="2209680" cy="1992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6d7e8"/>
            </a:gs>
            <a:gs pos="100000">
              <a:srgbClr val="53636a"/>
            </a:gs>
          </a:gsLst>
          <a:lin ang="5400000"/>
        </a:gradFill>
      </p:bgPr>
    </p:bg>
    <p:spTree>
      <p:nvGrpSpPr>
        <p:cNvPr id="1" name=""/>
        <p:cNvGrpSpPr/>
        <p:nvPr/>
      </p:nvGrpSpPr>
      <p:grpSpPr>
        <a:xfrm>
          <a:off x="0" y="0"/>
          <a:ext cx="0" cy="0"/>
          <a:chOff x="0" y="0"/>
          <a:chExt cx="0" cy="0"/>
        </a:xfrm>
      </p:grpSpPr>
      <p:sp>
        <p:nvSpPr>
          <p:cNvPr id="59" name=""/>
          <p:cNvSpPr/>
          <p:nvPr/>
        </p:nvSpPr>
        <p:spPr>
          <a:xfrm>
            <a:off x="6248520" y="1143000"/>
            <a:ext cx="2514600" cy="518148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Последний шаг</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Уже осталось позад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Много километров.</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Время ты уже не жд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Не вернуть моментов,</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Которые прошл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Вот наклон гор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Становится все круче,</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Все мы ждем пор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Когда закроет солнце туч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Все тяжелей становятс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Наши рюкзак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Но мы не остановимс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Цель – это не мечт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Но вот средь горных</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Скал и черных впадин</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Видна рек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Зеленый уголок,</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Уже доносит ветерок</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Прохладу тихого мирка.</a:t>
            </a:r>
            <a:endParaRPr b="0" lang="en-US" sz="1400" spc="-1" strike="noStrike">
              <a:solidFill>
                <a:srgbClr val="000000"/>
              </a:solidFill>
              <a:latin typeface="Arial"/>
            </a:endParaRPr>
          </a:p>
        </p:txBody>
      </p:sp>
      <p:sp>
        <p:nvSpPr>
          <p:cNvPr id="60" name=""/>
          <p:cNvSpPr/>
          <p:nvPr/>
        </p:nvSpPr>
        <p:spPr>
          <a:xfrm>
            <a:off x="380880" y="380880"/>
            <a:ext cx="2057400" cy="571500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Катится к берегу</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Синяя вол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И не видно вперед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Ни берега ни д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Ну, а здесь поблизост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Песчаная зме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Серебрится волнам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На закате дн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А бывают молни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И девятый вал!</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Ветер бьет о скалы тут</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Волны наповал.</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А через мгновение</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Тихо и тепло</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Волны катят к берегу…</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Море! Как изменчиво</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Ты бываешь здес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Словно прям какая-то</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Голубая смес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Катится к берегу</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Синяя вол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И не видно вперед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Ни берега, ни дна.</a:t>
            </a:r>
            <a:endParaRPr b="0" lang="en-US" sz="1400" spc="-1" strike="noStrike">
              <a:solidFill>
                <a:srgbClr val="000000"/>
              </a:solidFill>
              <a:latin typeface="Arial"/>
            </a:endParaRPr>
          </a:p>
        </p:txBody>
      </p:sp>
      <p:sp>
        <p:nvSpPr>
          <p:cNvPr id="61" name=""/>
          <p:cNvSpPr/>
          <p:nvPr/>
        </p:nvSpPr>
        <p:spPr>
          <a:xfrm>
            <a:off x="2666880" y="2362320"/>
            <a:ext cx="2146320" cy="433692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Капли стучат по крыше,</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Качает деревь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Ветер неслышимы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Белые перь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Закружатся вскоре.</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Желтый лист упадет</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На асфальт, и море</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нежинок с зимой придет.</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Но это не горе,</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Проходит все, чтобы снов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Начать истори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 чистых страниц.</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Вот приходит день новы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Чтобы подтвердить теори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И добавить в роман</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Под названием жизн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Новых лиц.</a:t>
            </a:r>
            <a:endParaRPr b="0" lang="en-US" sz="1400" spc="-1" strike="noStrike">
              <a:solidFill>
                <a:srgbClr val="000000"/>
              </a:solidFill>
              <a:latin typeface="Arial"/>
            </a:endParaRPr>
          </a:p>
        </p:txBody>
      </p:sp>
      <p:sp>
        <p:nvSpPr>
          <p:cNvPr id="62" name=""/>
          <p:cNvSpPr/>
          <p:nvPr/>
        </p:nvSpPr>
        <p:spPr>
          <a:xfrm>
            <a:off x="5562720" y="533520"/>
            <a:ext cx="3581280" cy="36036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Остромогильский Аркадий, 7в класс</a:t>
            </a:r>
            <a:endParaRPr b="0" lang="en-US" sz="1600" spc="-1" strike="noStrike">
              <a:solidFill>
                <a:srgbClr val="000000"/>
              </a:solidFill>
              <a:latin typeface="Arial"/>
            </a:endParaRPr>
          </a:p>
        </p:txBody>
      </p:sp>
      <p:pic>
        <p:nvPicPr>
          <p:cNvPr id="63" name="" descr=""/>
          <p:cNvPicPr/>
          <p:nvPr/>
        </p:nvPicPr>
        <p:blipFill>
          <a:blip r:embed="rId1"/>
          <a:stretch/>
        </p:blipFill>
        <p:spPr>
          <a:xfrm>
            <a:off x="2286000" y="685800"/>
            <a:ext cx="3124080" cy="1365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69ec6"/>
            </a:gs>
          </a:gsLst>
          <a:path path="rect">
            <a:fillToRect l="50000" t="50000" r="50000" b="50000"/>
          </a:path>
        </a:gradFill>
      </p:bgPr>
    </p:bg>
    <p:spTree>
      <p:nvGrpSpPr>
        <p:cNvPr id="1" name=""/>
        <p:cNvGrpSpPr/>
        <p:nvPr/>
      </p:nvGrpSpPr>
      <p:grpSpPr>
        <a:xfrm>
          <a:off x="0" y="0"/>
          <a:ext cx="0" cy="0"/>
          <a:chOff x="0" y="0"/>
          <a:chExt cx="0" cy="0"/>
        </a:xfrm>
      </p:grpSpPr>
      <p:sp>
        <p:nvSpPr>
          <p:cNvPr id="64" name=""/>
          <p:cNvSpPr/>
          <p:nvPr/>
        </p:nvSpPr>
        <p:spPr>
          <a:xfrm>
            <a:off x="228600" y="609480"/>
            <a:ext cx="3311640" cy="5531040"/>
          </a:xfrm>
          <a:prstGeom prst="rect">
            <a:avLst/>
          </a:prstGeom>
          <a:noFill/>
          <a:ln w="0">
            <a:noFill/>
          </a:ln>
        </p:spPr>
        <p:style>
          <a:lnRef idx="0"/>
          <a:fillRef idx="0"/>
          <a:effectRef idx="0"/>
          <a:fontRef idx="minor"/>
        </p:style>
        <p:txBody>
          <a:bodyPr lIns="36720" rIns="36720" tIns="36720" bIns="3672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200" spc="-1" strike="noStrike">
                <a:solidFill>
                  <a:srgbClr val="000000"/>
                </a:solidFill>
                <a:latin typeface="Times New Roman"/>
              </a:rPr>
              <a:t>Друзья</a:t>
            </a:r>
            <a:endParaRPr b="0" lang="en-US" sz="1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Лучшие друзья с рожденья</a:t>
            </a:r>
            <a:endParaRPr b="0" lang="en-US" sz="1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Всегда друг с другом были.</a:t>
            </a:r>
            <a:endParaRPr b="0" lang="en-US" sz="1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От судьбы получали  вознагражденья,</a:t>
            </a:r>
            <a:endParaRPr b="0" lang="en-US" sz="1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Преодолевали проблемы любые.</a:t>
            </a:r>
            <a:endParaRPr b="0" lang="en-US" sz="1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Но ни один из них не подозревал,</a:t>
            </a:r>
            <a:endParaRPr b="0" lang="en-US" sz="1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Что сделает с ними война,</a:t>
            </a:r>
            <a:endParaRPr b="0" lang="en-US" sz="1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И что на четыре года Гитлер их подписал</a:t>
            </a:r>
            <a:endParaRPr b="0" lang="en-US" sz="1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Жестокости и городов, спаленных дотла.</a:t>
            </a:r>
            <a:endParaRPr b="0" lang="en-US" sz="1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Они и воевали вместе,</a:t>
            </a:r>
            <a:endParaRPr b="0" lang="en-US" sz="1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И в разведку ходили вдвоем,</a:t>
            </a:r>
            <a:endParaRPr b="0" lang="en-US" sz="1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Но настал день грусти,</a:t>
            </a:r>
            <a:endParaRPr b="0" lang="en-US" sz="1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Когда один погиб, а другой остался в мире своем.</a:t>
            </a:r>
            <a:endParaRPr b="0" lang="en-US" sz="1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И много несчастных людей таких –</a:t>
            </a:r>
            <a:endParaRPr b="0" lang="en-US" sz="1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Война никого не жалеет.</a:t>
            </a:r>
            <a:endParaRPr b="0" lang="en-US" sz="1200" spc="-1" strike="noStrike">
              <a:solidFill>
                <a:srgbClr val="000000"/>
              </a:solidFill>
              <a:latin typeface="Arial"/>
            </a:endParaRPr>
          </a:p>
        </p:txBody>
      </p:sp>
      <p:sp>
        <p:nvSpPr>
          <p:cNvPr id="65" name=""/>
          <p:cNvSpPr/>
          <p:nvPr/>
        </p:nvSpPr>
        <p:spPr>
          <a:xfrm>
            <a:off x="6172200" y="228600"/>
            <a:ext cx="2795760" cy="403848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Лето</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Лето уж жаркое выдалось это</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Солнце и зной каждый день в это лето.</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Все мы с семьей собрались отдыхат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Воздухом чистым в горах подышат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Там в высоте красивые вид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Снег на верхушках гор все лежит,</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Ветер прохладный дует оттуд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Птицы повсюду летают, поют.</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Повсюду трава, зелень, деревь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Много озер и рек вокруг.</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Ручьи бегут по кругу</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Вдоль гор по камушкам журч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Такая красота  необыкновен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Что словами выразить нельзя.</a:t>
            </a:r>
            <a:endParaRPr b="0" lang="en-US" sz="1400" spc="-1" strike="noStrike">
              <a:solidFill>
                <a:srgbClr val="000000"/>
              </a:solidFill>
              <a:latin typeface="Arial"/>
            </a:endParaRPr>
          </a:p>
        </p:txBody>
      </p:sp>
      <p:sp>
        <p:nvSpPr>
          <p:cNvPr id="66" name=""/>
          <p:cNvSpPr/>
          <p:nvPr/>
        </p:nvSpPr>
        <p:spPr>
          <a:xfrm>
            <a:off x="6477120" y="5334120"/>
            <a:ext cx="2392200" cy="46836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Ионова Мария, 7в класс</a:t>
            </a:r>
            <a:endParaRPr b="0" lang="en-US" sz="1600" spc="-1" strike="noStrike">
              <a:solidFill>
                <a:srgbClr val="000000"/>
              </a:solidFill>
              <a:latin typeface="Arial"/>
            </a:endParaRPr>
          </a:p>
        </p:txBody>
      </p:sp>
      <p:sp>
        <p:nvSpPr>
          <p:cNvPr id="67" name=""/>
          <p:cNvSpPr/>
          <p:nvPr/>
        </p:nvSpPr>
        <p:spPr>
          <a:xfrm>
            <a:off x="1981080" y="304920"/>
            <a:ext cx="2495520" cy="396720"/>
          </a:xfrm>
          <a:prstGeom prst="rect">
            <a:avLst/>
          </a:prstGeom>
          <a:noFill/>
          <a:ln w="0">
            <a:noFill/>
          </a:ln>
        </p:spPr>
        <p:style>
          <a:lnRef idx="0"/>
          <a:fillRef idx="0"/>
          <a:effectRef idx="0"/>
          <a:fontRef idx="minor"/>
        </p:style>
        <p:txBody>
          <a:bodyPr lIns="36720" rIns="36720" tIns="36720" bIns="367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Степанова Аглая, 7в класс</a:t>
            </a:r>
            <a:endParaRPr b="0" lang="en-US" sz="1600" spc="-1" strike="noStrike">
              <a:solidFill>
                <a:srgbClr val="000000"/>
              </a:solidFill>
              <a:latin typeface="Arial"/>
            </a:endParaRPr>
          </a:p>
        </p:txBody>
      </p:sp>
      <p:sp>
        <p:nvSpPr>
          <p:cNvPr id="68" name=""/>
          <p:cNvSpPr/>
          <p:nvPr/>
        </p:nvSpPr>
        <p:spPr>
          <a:xfrm>
            <a:off x="3124080" y="3886200"/>
            <a:ext cx="3124440" cy="2743200"/>
          </a:xfrm>
          <a:prstGeom prst="rect">
            <a:avLst/>
          </a:prstGeom>
          <a:noFill/>
          <a:ln w="0">
            <a:noFill/>
          </a:ln>
        </p:spPr>
        <p:style>
          <a:lnRef idx="0"/>
          <a:fillRef idx="0"/>
          <a:effectRef idx="0"/>
          <a:fontRef idx="minor"/>
        </p:style>
        <p:txBody>
          <a:bodyPr lIns="36720" rIns="36720" tIns="36720" bIns="3672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Под взрывы гранат и крики людей</a:t>
            </a:r>
            <a:endParaRPr b="0" lang="en-US" sz="1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Счастливчик на коленях стоял,</a:t>
            </a:r>
            <a:endParaRPr b="0" lang="en-US" sz="1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А рядом лежал товарищ, и лился крови ручей.</a:t>
            </a:r>
            <a:endParaRPr b="0" lang="en-US" sz="1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Он мертв был уже и глаза не открывал.</a:t>
            </a:r>
            <a:endParaRPr b="0" lang="en-US" sz="1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Его товарищ остался в живых,</a:t>
            </a:r>
            <a:endParaRPr b="0" lang="en-US" sz="1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Но скорбел он всю жизнь по потерям.</a:t>
            </a:r>
            <a:endParaRPr b="0" lang="en-US" sz="1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И много несчастных людей таких –</a:t>
            </a:r>
            <a:endParaRPr b="0" lang="en-US" sz="1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Война никого не жалеет.</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lum bright="6000"/>
          </a:blip>
          <a:stretch/>
        </p:blipFill>
        <p:spPr>
          <a:xfrm>
            <a:off x="304920" y="228600"/>
            <a:ext cx="5410080" cy="3427560"/>
          </a:xfrm>
          <a:prstGeom prst="rect">
            <a:avLst/>
          </a:prstGeom>
          <a:ln w="0">
            <a:noFill/>
          </a:ln>
        </p:spPr>
      </p:pic>
      <p:sp>
        <p:nvSpPr>
          <p:cNvPr id="70" name=""/>
          <p:cNvSpPr/>
          <p:nvPr/>
        </p:nvSpPr>
        <p:spPr>
          <a:xfrm>
            <a:off x="3733920" y="3962520"/>
            <a:ext cx="39621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111083760" y="105732360"/>
            <a:ext cx="5759280" cy="8891640"/>
          </a:xfrm>
          <a:prstGeom prst="rect">
            <a:avLst/>
          </a:prstGeom>
          <a:no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Летнее чудо</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Распускаются ромашки, васильки, колокольчики.</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Ура! Мы дождались лета, этого согревающего душу времени года. Целых девять месяцев мы делали уроки, отвечали на вопросы учителей и очень много писали… Но все кончилось.</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Лето, лето, лето – гулким эхом отдается в ушах! Знаете, иногда смотришь ну трава как трава, а присядешь… и в этой ничем не примечательной тебе траве откроешь для себя целый мегаполис! Только мегаполис необычный, в нем живут жуки, бабочки, кузнечики, муравьи…</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Ай, кто-то  врезался мне в руку. Это жук - бронзовок. Он от страха упал на землю и поджал лапки. Ладно, отойду подальше. Вот он поднимается, расправляет переливающиеся крылышки и взлетает!</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Смотрю на бездонное небо. Плывут белые, пушистые облака. А вот там вдалеке идет хмурая туча, прошло несколько минут, и закапал дождик, реденький, грибной, наверное…</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Все на время смолкло, стало тихо, только слышно, как дождик стучит по крыше…</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И тут выглянуло солнышко. Ура!</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Вдалеке появляется радуга. Все ярче и ярче! Кажется, все затаилось в ожидании чуда.</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И вот радуга предстает  во всей своей красе. Кажется, все глаза устремлены на нее : красный, оранжевый, желтый, зеленый, голубой, синий, фиолетовый! Смотрю, затаив дыхание. Неожиданно она меркнет. Жалко. Чудо длилось недолго.</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Наступают сумерки. Я выношу блюдечко с молоком для ежика. Если сидеть тихо, выйдет ежик, поставит нос по ветру, учует запах молока, направится к нему и будет с наслаждением чавкать. А когда он попьет, можно подойти  к нему, он ощетинится, смешно зафырчит и убежит.</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И вот наступила ночь. Выглянуло бледная луна. Слышно было толь стрекот кузнечиков. Но вскоре сверчки смолкли. Стало очень тихо. Было такое ощущение, что ты перестал слышать. Эта мертвая тишина давила на уши. Поэтому я тихонько прошептала слово ночь, чтобы убедиться, что тишина не такая мертвая. И ночь на мое слово как будто откликнулась. Снова застрекотали кузнечики, зашевелилась трава, но самое главное зажглись звезды. Смотришь, а на небе живого места нет, все усыпано звездами. И вот различаешь: Малая Медведица, Большая…</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Сколько удивительных для себя открытий можно сделать! Да и не только для себя! Ведь многие открыватели, ученые, наблюдали за природой и из их наблюдений мы открыли дверь в страну знаний.</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Это самое удивительное время года, хочется хоть на время превратиться в жучка и провести свои каникулы в прекрасном мегаполисе природы</a:t>
            </a:r>
            <a:r>
              <a:rPr b="0" lang="en-US" sz="1000" spc="-1" strike="noStrike">
                <a:solidFill>
                  <a:srgbClr val="000000"/>
                </a:solidFill>
                <a:latin typeface="Times New Roman"/>
              </a:rPr>
              <a:t>.</a:t>
            </a:r>
            <a:endParaRPr b="0" lang="en-US" sz="1000" spc="-1" strike="noStrike">
              <a:solidFill>
                <a:srgbClr val="000000"/>
              </a:solidFill>
              <a:latin typeface="Arial"/>
            </a:endParaRPr>
          </a:p>
        </p:txBody>
      </p:sp>
      <p:sp>
        <p:nvSpPr>
          <p:cNvPr id="72" name=""/>
          <p:cNvSpPr/>
          <p:nvPr/>
        </p:nvSpPr>
        <p:spPr>
          <a:xfrm>
            <a:off x="111236040" y="105884640"/>
            <a:ext cx="5759640" cy="8891640"/>
          </a:xfrm>
          <a:prstGeom prst="rect">
            <a:avLst/>
          </a:prstGeom>
          <a:no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Летнее чудо</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Распускаются ромашки, васильки, колокольчики.</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Ура! Мы дождались лета, этого согревающего душу времени года. Целых девять месяцев мы делали уроки, отвечали на вопросы учителей и очень много писали… Но все кончилось.</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Лето, лето, лето – гулким эхом отдается в ушах! Знаете, иногда смотришь ну трава как трава, а присядешь… и в этой ничем не примечательной тебе траве откроешь для себя целый мегаполис! Только мегаполис необычный, в нем живут жуки, бабочки, кузнечики, муравьи…</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Ай, кто-то  врезался мне в руку. Это жук - бронзовок. Он от страха упал на землю и поджал лапки. Ладно, отойду подальше. Вот он поднимается, расправляет переливающиеся крылышки и взлетает!</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Смотрю на бездонное небо. Плывут белые, пушистые облака. А вот там вдалеке идет хмурая туча, прошло несколько минут, и закапал дождик, реденький, грибной, наверное…</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Все на время смолкло, стало тихо, только слышно, как дождик стучит по крыше…</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И тут выглянуло солнышко. Ура!</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Вдалеке появляется радуга. Все ярче и ярче! Кажется, все затаилось в ожидании чуда.</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И вот радуга предстает  во всей своей красе. Кажется, все глаза устремлены на нее : красный, оранжевый, желтый, зеленый, голубой, синий, фиолетовый! Смотрю, затаив дыхание. Неожиданно она меркнет. Жалко. Чудо длилось недолго.</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Наступают сумерки. Я выношу блюдечко с молоком для ежика. Если сидеть тихо, выйдет ежик, поставит нос по ветру, учует запах молока, направится к нему и будет с наслаждением чавкать. А когда он попьет, можно подойти  к нему, он ощетинится, смешно зафырчит и убежит.</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И вот наступила ночь. Выглянуло бледная луна. Слышно было толь стрекот кузнечиков. Но вскоре сверчки смолкли. Стало очень тихо. Было такое ощущение, что ты перестал слышать. Эта мертвая тишина давила на уши. Поэтому я тихонько прошептала слово ночь, чтобы убедиться, что тишина не такая мертвая. И ночь на мое слово как будто откликнулась. Снова застрекотали кузнечики, зашевелилась трава, но самое главное зажглись звезды. Смотришь, а на небе живого места нет, все усыпано звездами. И вот различаешь: Малая Медведица, Большая…</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Сколько удивительных для себя открытий можно сделать! Да и не только для себя! Ведь многие открыватели, ученые, наблюдали за природой и из их наблюдений мы открыли дверь в страну знаний.</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Это самое удивительное время года, хочется хоть на время превратиться в жучка и провести свои каникулы в прекрасном мегаполисе природы</a:t>
            </a:r>
            <a:r>
              <a:rPr b="0" lang="en-US" sz="1000" spc="-1" strike="noStrike">
                <a:solidFill>
                  <a:srgbClr val="000000"/>
                </a:solidFill>
                <a:latin typeface="Times New Roman"/>
              </a:rPr>
              <a:t>.</a:t>
            </a:r>
            <a:endParaRPr b="0" lang="en-US" sz="1000" spc="-1" strike="noStrike">
              <a:solidFill>
                <a:srgbClr val="000000"/>
              </a:solidFill>
              <a:latin typeface="Arial"/>
            </a:endParaRPr>
          </a:p>
        </p:txBody>
      </p:sp>
      <p:sp>
        <p:nvSpPr>
          <p:cNvPr id="73" name=""/>
          <p:cNvSpPr/>
          <p:nvPr/>
        </p:nvSpPr>
        <p:spPr>
          <a:xfrm>
            <a:off x="111388680" y="106036920"/>
            <a:ext cx="5759280" cy="8891640"/>
          </a:xfrm>
          <a:prstGeom prst="rect">
            <a:avLst/>
          </a:prstGeom>
          <a:no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Летнее чудо</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Распускаются ромашки, васильки, колокольчики.</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Ура! Мы дождались лета, этого согревающего душу времени года. Целых девять месяцев мы делали уроки, отвечали на вопросы учителей и очень много писали… Но все кончилось.</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Лето, лето, лето – гулким эхом отдается в ушах! Знаете, иногда смотришь ну трава как трава, а присядешь… и в этой ничем не примечательной тебе траве откроешь для себя целый мегаполис! Только мегаполис необычный, в нем живут жуки, бабочки, кузнечики, муравьи…</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Ай, кто-то  врезался мне в руку. Это жук - бронзовок. Он от страха упал на землю и поджал лапки. Ладно, отойду подальше. Вот он поднимается, расправляет переливающиеся крылышки и взлетает!</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Смотрю на бездонное небо. Плывут белые, пушистые облака. А вот там вдалеке идет хмурая туча, прошло несколько минут, и закапал дождик, реденький, грибной, наверное…</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Все на время смолкло, стало тихо, только слышно, как дождик стучит по крыше…</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И тут выглянуло солнышко. Ура!</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Вдалеке появляется радуга. Все ярче и ярче! Кажется, все затаилось в ожидании чуда.</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И вот радуга предстает  во всей своей красе. Кажется, все глаза устремлены на нее : красный, оранжевый, желтый, зеленый, голубой, синий, фиолетовый! Смотрю, затаив дыхание. Неожиданно она меркнет. Жалко. Чудо длилось недолго.</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Наступают сумерки. Я выношу блюдечко с молоком для ежика. Если сидеть тихо, выйдет ежик, поставит нос по ветру, учует запах молока, направится к нему и будет с наслаждением чавкать. А когда он попьет, можно подойти  к нему, он ощетинится, смешно зафырчит и убежит.</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И вот наступила ночь. Выглянуло бледная луна. Слышно было толь стрекот кузнечиков. Но вскоре сверчки смолкли. Стало очень тихо. Было такое ощущение, что ты перестал слышать. Эта мертвая тишина давила на уши. Поэтому я тихонько прошептала слово ночь, чтобы убедиться, что тишина не такая мертвая. И ночь на мое слово как будто откликнулась. Снова застрекотали кузнечики, зашевелилась трава, но самое главное зажглись звезды. Смотришь, а на небе живого места нет, все усыпано звездами. И вот различаешь: Малая Медведица, Большая…</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Сколько удивительных для себя открытий можно сделать! Да и не только для себя! Ведь многие открыватели, ученые, наблюдали за природой и из их наблюдений мы открыли дверь в страну знаний.</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Это самое удивительное время года, хочется хоть на время превратиться в жучка и провести свои каникулы в прекрасном мегаполисе природы</a:t>
            </a:r>
            <a:r>
              <a:rPr b="0" lang="en-US" sz="1000" spc="-1" strike="noStrike">
                <a:solidFill>
                  <a:srgbClr val="000000"/>
                </a:solidFill>
                <a:latin typeface="Times New Roman"/>
              </a:rPr>
              <a:t>.</a:t>
            </a:r>
            <a:endParaRPr b="0" lang="en-US" sz="1000" spc="-1" strike="noStrike">
              <a:solidFill>
                <a:srgbClr val="000000"/>
              </a:solidFill>
              <a:latin typeface="Arial"/>
            </a:endParaRPr>
          </a:p>
        </p:txBody>
      </p:sp>
      <p:sp>
        <p:nvSpPr>
          <p:cNvPr id="74" name=""/>
          <p:cNvSpPr/>
          <p:nvPr/>
        </p:nvSpPr>
        <p:spPr>
          <a:xfrm>
            <a:off x="380880" y="228600"/>
            <a:ext cx="8534520" cy="6211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Летнее чудо</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200" spc="-1" strike="noStrike">
                <a:solidFill>
                  <a:srgbClr val="000000"/>
                </a:solidFill>
                <a:latin typeface="Arial"/>
              </a:rPr>
              <a:t>Распускаются ромашки, васильки, колокольчики.</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а! Мы дождались лета, этого согревающего душу времени года. Целых девять месяцев мы делали уроки, отвечали на вопросы учителей и очень много писали… Но все кончилос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ето, лето, лето – гулким эхом отдается в ушах! Знаете, иногда смотришь ну трава как трава, а присядешь… и в этой ничем не примечательной тебе траве откроешь для себя целый мегаполис! Только мегаполис необычный, в нем живут жуки, бабочки, кузнечики, муравьи…</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Ай, кто-то  врезался мне в руку. Это жук - бронзовок. Он от страха упал на землю и поджал лапки. Ладно, отойду подальше. Вот он поднимается, расправляет переливающиеся крылышки и взлетает!</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мотрю на бездонное небо. Плывут белые, пушистые облака. А вот там вдалеке идет хмурая туча, прошло несколько минут, и закапал дождик, реденький, грибной, наверное…</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се на время смолкло, стало тихо, только слышно, как дождик стучит по крыше…</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И тут выглянуло солнышко. Ур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далеке появляется радуга. Все ярче и ярче! Кажется, все затаилось в ожидании чуд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вот радуга предстает  во всей своей красе. Кажется, все глаза устремлены на нее : красный, оранжевый, желтый, зеленый, голубой, синий, фиолетовый! Смотрю, затаив дыхание. Неожиданно она меркнет. Жалко. Чудо длилось недолго.</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аступают сумерки. Я выношу блюдечко с молоком для ежика. Если сидеть тихо, выйдет ежик, поставит нос по ветру, учует запах молока, направится к нему и будет с наслаждением чавкать. А когда он попьет, можно подойти  к нему, он ощетинится, смешно зафырчит и убежит.</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вот наступила ночь. Выглянуло бледная луна. Слышно было толь стрекот кузнечиков. Но вскоре сверчки смолкли. Стало очень тихо. Было такое ощущение, что ты перестал слышать. Эта мертвая тишина давила на уши. Поэтому я тихонько прошептала слово ночь, чтобы убедиться, что тишина не такая мертвая. И ночь на мое слово как будто откликнулась. Снова застрекотали кузнечики, зашевелилась трава, но самое главное зажглись звезды. Смотришь, а на небе живого места нет, все</a:t>
            </a:r>
            <a:r>
              <a:rPr b="0" lang="ru-RU" sz="1800" spc="-1" strike="noStrike">
                <a:solidFill>
                  <a:srgbClr val="000000"/>
                </a:solidFill>
                <a:latin typeface="Arial"/>
              </a:rPr>
              <a:t> </a:t>
            </a:r>
            <a:r>
              <a:rPr b="0" lang="ru-RU" sz="1200" spc="-1" strike="noStrike">
                <a:solidFill>
                  <a:srgbClr val="000000"/>
                </a:solidFill>
                <a:latin typeface="Arial"/>
              </a:rPr>
              <a:t>усыпано звездами. И вот различаешь: Малая Медведица, Большая…</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колько удивительных для себя открытий можно сделать! Да и не только для себя! Ведь многие открыватели, ученые, наблюдали за природой и из их наблюдений мы открыли дверь в страну знаний.</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 самое удивительное время года, хочется хоть на время превратиться в жучка и провести свои каникулы в прекрасном мегаполисе природ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rPr>
              <a:t> </a:t>
            </a:r>
            <a:endParaRPr b="0" lang="en-US" sz="1800" spc="-1" strike="noStrike">
              <a:solidFill>
                <a:srgbClr val="000000"/>
              </a:solidFill>
              <a:latin typeface="Arial"/>
            </a:endParaRPr>
          </a:p>
        </p:txBody>
      </p:sp>
      <p:sp>
        <p:nvSpPr>
          <p:cNvPr id="75" name=""/>
          <p:cNvSpPr/>
          <p:nvPr/>
        </p:nvSpPr>
        <p:spPr>
          <a:xfrm>
            <a:off x="5867280" y="380880"/>
            <a:ext cx="2873520" cy="39708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Блохина Варвара, 7в класс</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7575"/>
            </a:gs>
            <a:gs pos="50000">
              <a:srgbClr val="ccffff"/>
            </a:gs>
            <a:gs pos="100000">
              <a:srgbClr val="5e7575"/>
            </a:gs>
          </a:gsLst>
          <a:lin ang="5400000"/>
        </a:gradFill>
      </p:bgPr>
    </p:bg>
    <p:spTree>
      <p:nvGrpSpPr>
        <p:cNvPr id="1" name=""/>
        <p:cNvGrpSpPr/>
        <p:nvPr/>
      </p:nvGrpSpPr>
      <p:grpSpPr>
        <a:xfrm>
          <a:off x="0" y="0"/>
          <a:ext cx="0" cy="0"/>
          <a:chOff x="0" y="0"/>
          <a:chExt cx="0" cy="0"/>
        </a:xfrm>
      </p:grpSpPr>
      <p:sp>
        <p:nvSpPr>
          <p:cNvPr id="76" name=""/>
          <p:cNvSpPr/>
          <p:nvPr/>
        </p:nvSpPr>
        <p:spPr>
          <a:xfrm>
            <a:off x="103524120" y="105732360"/>
            <a:ext cx="5759280" cy="9252000"/>
          </a:xfrm>
          <a:prstGeom prst="rect">
            <a:avLst/>
          </a:prstGeom>
          <a:no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Котенок</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ак-то раз, когда я шел из школы по-своему обычному пути, я увидел маленького котенка, мокрого, грязного, так как шли дожди. Ведь это осень. Я прошел мимо, а потом подумал: </a:t>
            </a:r>
            <a:r>
              <a:rPr b="0" lang="en-US" sz="1200" spc="-1" strike="noStrike">
                <a:solidFill>
                  <a:srgbClr val="000000"/>
                </a:solidFill>
                <a:latin typeface="Times New Roman"/>
              </a:rPr>
              <a:t>«</a:t>
            </a:r>
            <a:r>
              <a:rPr b="0" lang="ru-RU" sz="1200" spc="-1" strike="noStrike">
                <a:solidFill>
                  <a:srgbClr val="000000"/>
                </a:solidFill>
                <a:latin typeface="Times New Roman"/>
              </a:rPr>
              <a:t>Может взять бедного котенка? У него, наверное, нет дома  или хозяин выкинул его на улицу.</a:t>
            </a:r>
            <a:r>
              <a:rPr b="0" lang="en-US" sz="1200" spc="-1" strike="noStrike">
                <a:solidFill>
                  <a:srgbClr val="000000"/>
                </a:solidFill>
                <a:latin typeface="Times New Roman"/>
              </a:rPr>
              <a:t>» </a:t>
            </a:r>
            <a:r>
              <a:rPr b="0" lang="ru-RU" sz="1200" spc="-1" strike="noStrike">
                <a:solidFill>
                  <a:srgbClr val="000000"/>
                </a:solidFill>
                <a:latin typeface="Times New Roman"/>
              </a:rPr>
              <a:t>Подхватил его, сунул под куртку и помчался домой.</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не родители деньги в школу давали, чтобы булочку купить или что-то в этом роде. Я решил по пути в магазин заскочить, купить котенку корма, так как деньги не истратил.</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ы пришли домой, я кинул вещи и пошел с Пушком ( так я назвал котенка) в ванну. Кое-как отмыл котенка маминым шампунем, конечно, он не хотел лезть в воду и очень сильно мяукал.</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сле водных процедур я его вытер и отпустил гулять по квартире, а сам пошел делать уроки и совсем забыл про малыша.</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делав все уроки, я включил телевизор, там шла программа </a:t>
            </a:r>
            <a:r>
              <a:rPr b="0" lang="en-US" sz="1200" spc="-1" strike="noStrike">
                <a:solidFill>
                  <a:srgbClr val="000000"/>
                </a:solidFill>
                <a:latin typeface="Times New Roman"/>
              </a:rPr>
              <a:t>«</a:t>
            </a:r>
            <a:r>
              <a:rPr b="0" lang="ru-RU" sz="1200" spc="-1" strike="noStrike">
                <a:solidFill>
                  <a:srgbClr val="000000"/>
                </a:solidFill>
                <a:latin typeface="Times New Roman"/>
              </a:rPr>
              <a:t>В мире животных</a:t>
            </a:r>
            <a:r>
              <a:rPr b="0" lang="en-US" sz="1200" spc="-1" strike="noStrike">
                <a:solidFill>
                  <a:srgbClr val="000000"/>
                </a:solidFill>
                <a:latin typeface="Times New Roman"/>
              </a:rPr>
              <a:t>». </a:t>
            </a:r>
            <a:r>
              <a:rPr b="0" lang="ru-RU" sz="1200" spc="-1" strike="noStrike">
                <a:solidFill>
                  <a:srgbClr val="000000"/>
                </a:solidFill>
                <a:latin typeface="Times New Roman"/>
              </a:rPr>
              <a:t>Но Пушок решил о себе напомнить, он прыгнул к телевизору и стал внимательно смотреть движущиеся картинки. Ох, как смешно было, когда он увидел рубок и начал ловить их лапами. Ну а когда появился рычащий тигр, котенок свалился с телевизионной тумбочки. Я так смеялся!</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скоре программа завершилась, и начались новости. Я их не любил, поэтому сразу выключил телевизор и пошел на кухню, положил корма в маленькую тарелочку и любовался, как котенок ест.</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том мы пошли гулять. Как только мы вышли во двор, сразу столько детей набежало посмотреть на Пушка, что  котенок так сильно в меня вцепился и даже под куртку залез. Я решил, что лучше мы пойдем в лесу прогуляемся.</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Ходили мы по лесу, ходили, ни одного человека вокруг. Я спрятал котенка под куртку. Вижу - ко мне навстречу идет девочка с заплаканным лицом и повторяет одно слово – Тима. Я подошел к ней и спросил:</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евочка, что случилось?</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Я Тиму потеряла,- ответила она.</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обаку что ли?- переспросил я.</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ет, котенка, маленького, Тимошей зовут. Я его сегодня потеряла, когда гуляла, меня девочки отвлекли, а он убежал.</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Я достал из-под куртки котенка, которого сегодня нашел, а тот уже мяукает, наверное, голос хозяйки.</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Это он?</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а, это Тимоша!- с радостью ответила девочка.</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пасибо тебе, что взял его, я бы его не нашла!</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а не за что,- сказал я с небольшой грустью в голосе.</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стати, а как тебя зовут?</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атя, а тебя?</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Леша, - ответил я.</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Я рассказал ей про все, что было за сегодня. Мы подружились, и я часто хожу к Кате в гости, чтобы Тимошку навестить и своего котенка Барсика  беру. Ведь в тот же день я рассказал все родителям, они меня похвалили за то, что я сразу отдал Тимошку Кате.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казали, что я умею заботиться о животных и купили мне в подарок за это котенка. Я назвал его Барсиком.</a:t>
            </a:r>
            <a:endParaRPr b="0" lang="en-US" sz="1200" spc="-1" strike="noStrike">
              <a:solidFill>
                <a:srgbClr val="000000"/>
              </a:solidFill>
              <a:latin typeface="Arial"/>
            </a:endParaRPr>
          </a:p>
        </p:txBody>
      </p:sp>
      <p:sp>
        <p:nvSpPr>
          <p:cNvPr id="77" name=""/>
          <p:cNvSpPr/>
          <p:nvPr/>
        </p:nvSpPr>
        <p:spPr>
          <a:xfrm>
            <a:off x="152280" y="457200"/>
            <a:ext cx="8839440" cy="5635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Котенок</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ак-то раз, когда я шел из школы по-своему обычному пути, я увидел маленького котенка, мокрого, грязного, так как шли дожди. Ведь это осень. Я прошел мимо, а потом подумал: </a:t>
            </a:r>
            <a:r>
              <a:rPr b="0" lang="en" sz="1400" spc="-1" strike="noStrike">
                <a:solidFill>
                  <a:srgbClr val="000000"/>
                </a:solidFill>
                <a:latin typeface="Arial"/>
              </a:rPr>
              <a:t>«</a:t>
            </a:r>
            <a:r>
              <a:rPr b="0" lang="ru-RU" sz="1400" spc="-1" strike="noStrike">
                <a:solidFill>
                  <a:srgbClr val="000000"/>
                </a:solidFill>
                <a:latin typeface="Arial"/>
              </a:rPr>
              <a:t>Может взять бедного котенка? У него, наверное, нет дома  или хозяин выкинул его на улицу.</a:t>
            </a:r>
            <a:r>
              <a:rPr b="0" lang="en" sz="1400" spc="-1" strike="noStrike">
                <a:solidFill>
                  <a:srgbClr val="000000"/>
                </a:solidFill>
                <a:latin typeface="Arial"/>
              </a:rPr>
              <a:t>» </a:t>
            </a:r>
            <a:r>
              <a:rPr b="0" lang="ru-RU" sz="1400" spc="-1" strike="noStrike">
                <a:solidFill>
                  <a:srgbClr val="000000"/>
                </a:solidFill>
                <a:latin typeface="Arial"/>
              </a:rPr>
              <a:t>Подхватил его, сунул под куртку и помчался домой.</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Мне родители деньги в школу давали, чтобы булочку купить или что-то в этом роде. Я решил по пути в магазин заскочить, купить котенку корма, так как деньги не истратил.</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Мы пришли домой, я кинул вещи и пошел с Пушком ( так я назвал котенка) в ванну. Кое-как отмыл котенка маминым шампунем, конечно, он не хотел лезть в воду и очень сильно мяукал.</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сле водных процедур я его вытер и отпустил гулять по квартире, а сам пошел делать уроки и совсем забыл про малыш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делав все уроки, я включил телевизор, там шла программа </a:t>
            </a:r>
            <a:r>
              <a:rPr b="0" lang="en" sz="1400" spc="-1" strike="noStrike">
                <a:solidFill>
                  <a:srgbClr val="000000"/>
                </a:solidFill>
                <a:latin typeface="Arial"/>
              </a:rPr>
              <a:t>«</a:t>
            </a:r>
            <a:r>
              <a:rPr b="0" lang="ru-RU" sz="1400" spc="-1" strike="noStrike">
                <a:solidFill>
                  <a:srgbClr val="000000"/>
                </a:solidFill>
                <a:latin typeface="Arial"/>
              </a:rPr>
              <a:t>В мире животных</a:t>
            </a:r>
            <a:r>
              <a:rPr b="0" lang="en" sz="1400" spc="-1" strike="noStrike">
                <a:solidFill>
                  <a:srgbClr val="000000"/>
                </a:solidFill>
                <a:latin typeface="Arial"/>
              </a:rPr>
              <a:t>». </a:t>
            </a:r>
            <a:r>
              <a:rPr b="0" lang="ru-RU" sz="1400" spc="-1" strike="noStrike">
                <a:solidFill>
                  <a:srgbClr val="000000"/>
                </a:solidFill>
                <a:latin typeface="Arial"/>
              </a:rPr>
              <a:t>Но Пушок решил о себе напомнить, он прыгнул к телевизору и стал внимательно смотреть движущиеся картинки. Ох, как смешно было, когда он увидел рубок и начал ловить их лапами. Ну а когда появился рычащий тигр, котенок свалился с телевизионной тумбочки. Я так смеялся!</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скоре программа завершилась, и начались новости. Я их не любил, поэтому сразу выключил телевизор и пошел на кухню, положил корма в маленькую тарелочку и любовался, как котенок ест.</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том мы пошли гулять. Как только мы вышли во двор, сразу столько детей набежало посмотреть на Пушка, что  котенок так сильно в меня вцепился и даже под куртку залез. Я решил, что лучше мы пойдем в лесу прогуляемся.</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Ходили мы по лесу, ходили, ни одного человека вокруг. Я спрятал котенка под куртку. Вижу - ко мне навстречу идет девочка с заплаканным лицом и повторяет одно слово – Тима. Я подошел к ней и спросил:</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евочка, что случилось?</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Я Тиму потеряла,- ответила он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обаку что ли?- переспросил я.</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7575"/>
            </a:gs>
            <a:gs pos="100000">
              <a:srgbClr val="ccffff"/>
            </a:gs>
          </a:gsLst>
          <a:lin ang="5400000"/>
        </a:gradFill>
      </p:bgPr>
    </p:bg>
    <p:spTree>
      <p:nvGrpSpPr>
        <p:cNvPr id="1" name=""/>
        <p:cNvGrpSpPr/>
        <p:nvPr/>
      </p:nvGrpSpPr>
      <p:grpSpPr>
        <a:xfrm>
          <a:off x="0" y="0"/>
          <a:ext cx="0" cy="0"/>
          <a:chOff x="0" y="0"/>
          <a:chExt cx="0" cy="0"/>
        </a:xfrm>
      </p:grpSpPr>
      <p:sp>
        <p:nvSpPr>
          <p:cNvPr id="78" name=""/>
          <p:cNvSpPr/>
          <p:nvPr/>
        </p:nvSpPr>
        <p:spPr>
          <a:xfrm>
            <a:off x="304920" y="304920"/>
            <a:ext cx="8381880" cy="404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ет, котенка, маленького, Тимошей зовут. Я его сегодня потеряла, когда гуляла, меня девочки отвлекли, а он убежал.</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Я достал из-под куртки котенка, которого сегодня нашел, а тот уже мяукает, наверное, голос хозяйки.</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Это он?</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а, это Тимоша!- с радостью ответила девочк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пасибо тебе, что взял его, я бы его не нашл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а не за что,- сказал я с небольшой грустью в голосе.</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стати, а как тебя зовут?</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атя, а тебя?</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Леша, - ответил я.</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Я рассказал ей про все, что было за сегодня. Мы подружились, и я часто хожу к Кате в гости, чтобы Тимошку навестить и своего котенка Барсика  беру. Ведь в тот же день я рассказал все родителям, они меня похвалили за то, что я сразу отдал Тимошку Кате.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казали, что я умею заботиться о животных и купили мне в подарок за это котенка. Я назвал его Барсиком.</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Arial"/>
              </a:rPr>
              <a: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79" name="" descr=""/>
          <p:cNvPicPr/>
          <p:nvPr/>
        </p:nvPicPr>
        <p:blipFill>
          <a:blip r:embed="rId1"/>
          <a:stretch/>
        </p:blipFill>
        <p:spPr>
          <a:xfrm>
            <a:off x="5257800" y="3733920"/>
            <a:ext cx="2971800" cy="2921040"/>
          </a:xfrm>
          <a:prstGeom prst="rect">
            <a:avLst/>
          </a:prstGeom>
          <a:ln w="0">
            <a:noFill/>
          </a:ln>
        </p:spPr>
      </p:pic>
      <p:sp>
        <p:nvSpPr>
          <p:cNvPr id="80" name=""/>
          <p:cNvSpPr/>
          <p:nvPr/>
        </p:nvSpPr>
        <p:spPr>
          <a:xfrm>
            <a:off x="838080" y="5334120"/>
            <a:ext cx="2737080" cy="468360"/>
          </a:xfrm>
          <a:prstGeom prst="rect">
            <a:avLst/>
          </a:prstGeom>
          <a:noFill/>
          <a:ln w="0">
            <a:noFill/>
          </a:ln>
        </p:spPr>
        <p:style>
          <a:lnRef idx="0"/>
          <a:fillRef idx="0"/>
          <a:effectRef idx="0"/>
          <a:fontRef idx="minor"/>
        </p:style>
        <p:txBody>
          <a:bodyPr lIns="36720" rIns="36720" tIns="36720" bIns="367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Бурутина Надежда, 6б класс</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5e46"/>
            </a:gs>
            <a:gs pos="50000">
              <a:srgbClr val="ffcc99"/>
            </a:gs>
            <a:gs pos="100000">
              <a:srgbClr val="755e46"/>
            </a:gs>
          </a:gsLst>
          <a:lin ang="8100000"/>
        </a:gradFill>
      </p:bgPr>
    </p:bg>
    <p:spTree>
      <p:nvGrpSpPr>
        <p:cNvPr id="1" name=""/>
        <p:cNvGrpSpPr/>
        <p:nvPr/>
      </p:nvGrpSpPr>
      <p:grpSpPr>
        <a:xfrm>
          <a:off x="0" y="0"/>
          <a:ext cx="0" cy="0"/>
          <a:chOff x="0" y="0"/>
          <a:chExt cx="0" cy="0"/>
        </a:xfrm>
      </p:grpSpPr>
      <p:sp>
        <p:nvSpPr>
          <p:cNvPr id="81" name=""/>
          <p:cNvSpPr/>
          <p:nvPr/>
        </p:nvSpPr>
        <p:spPr>
          <a:xfrm>
            <a:off x="304920" y="457200"/>
            <a:ext cx="3132000" cy="579600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Осень в деревне</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Золотом покрытые деревь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свещает солнце с высот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И вся моя любимая деревн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Превращается в пример для красот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Легкий иней на траве еще зелено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И вокруг все золотом горит,</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А по узенькой, знакомой мне  дорожке</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еребряный ручей журчит.</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Шелест листьев,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Ветер трепещет траву.</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ышен крик птиц,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В красивом нарядном лесу.</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Мирно. Спокойно в деревне</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сенней, любимой поро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А на душе только тиши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Уют и покой.</a:t>
            </a:r>
            <a:endParaRPr b="0" lang="en-US" sz="1400" spc="-1" strike="noStrike">
              <a:solidFill>
                <a:srgbClr val="000000"/>
              </a:solidFill>
              <a:latin typeface="Arial"/>
            </a:endParaRPr>
          </a:p>
        </p:txBody>
      </p:sp>
      <p:sp>
        <p:nvSpPr>
          <p:cNvPr id="82" name=""/>
          <p:cNvSpPr/>
          <p:nvPr/>
        </p:nvSpPr>
        <p:spPr>
          <a:xfrm>
            <a:off x="6019920" y="1295280"/>
            <a:ext cx="2736720" cy="334800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Бесценная игрушк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Мой милый маленький мишк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В руках он держит книжку.</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Черные бусинки – глазк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И мордочка словно из сказк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По центру голубенький носик.</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Черная ниточка – ротик.</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Игрушка бесценная мо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Никому не отдам я теб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83" name="" descr=""/>
          <p:cNvPicPr/>
          <p:nvPr/>
        </p:nvPicPr>
        <p:blipFill>
          <a:blip r:embed="rId1"/>
          <a:srcRect l="49812" t="-1393" r="0" b="0"/>
          <a:stretch/>
        </p:blipFill>
        <p:spPr>
          <a:xfrm>
            <a:off x="2971800" y="3048120"/>
            <a:ext cx="3078000" cy="3352680"/>
          </a:xfrm>
          <a:prstGeom prst="rect">
            <a:avLst/>
          </a:prstGeom>
          <a:ln w="0">
            <a:noFill/>
          </a:ln>
        </p:spPr>
      </p:pic>
      <p:sp>
        <p:nvSpPr>
          <p:cNvPr id="84" name=""/>
          <p:cNvSpPr/>
          <p:nvPr/>
        </p:nvSpPr>
        <p:spPr>
          <a:xfrm>
            <a:off x="3276720" y="533520"/>
            <a:ext cx="2743200" cy="46836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Кузнецова Анна,8г класс</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nya</cp:lastModifiedBy>
  <dcterms:modified xsi:type="dcterms:W3CDTF">2012-02-08T17:53:56Z</dcterms:modified>
  <cp:revision>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