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0C7-787A-4883-9017-58786A37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0FD-D083-4C58-8011-D88EE9EC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303-82EF-44EB-91EF-ED2DCE98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84A-B6C2-40B1-8AF5-77C56C75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9B7-EBC1-4618-962C-C850FAFF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18D3-5350-40C7-801C-D172285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09C3-A487-4B3C-991E-D113C24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287-3920-40AF-8666-6C3AB16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00C3-E83C-490F-9342-4C8CA94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9F14-6D04-438F-A3F8-4ADD50A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F0FB-9937-4555-B389-2D2FE11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118-A82F-4A1B-A78F-503A0E11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E8E-2997-4BF4-9089-FA847F5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426-DD13-4633-9DC2-1A90448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2AA-39B9-4376-88BD-46122FA1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025-84D3-4F55-B0F1-4A5EB845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AF84-83DB-4397-B0E4-3EE09347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B99-0523-4ACF-AB0C-1EC1B50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D93-1CD5-4E8D-A847-513C38D6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EE8-4243-455C-88D6-DA76F9EA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831-2BCE-4E0B-A8BC-E3D7B7B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FAB-A5E7-4D3D-B00C-701F4D2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4D9-4FBF-41DE-9AAA-98595206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534-9F2B-42CA-9D2B-11B7A73A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8A9-B2E2-4092-A6CC-E1FDC91694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ACFE-74A3-4BA0-B45C-AAFF140998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5.xml"/><Relationship Id="rId10" Type="http://schemas.openxmlformats.org/officeDocument/2006/relationships/slide" Target="slide3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Метро в Хабаровск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4653000"/>
            <a:ext cx="776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: ученика МБОУ лиц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ина Алекс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х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627280" y="836640"/>
            <a:ext cx="3600360" cy="5905080"/>
            <a:chOff x="2627280" y="836640"/>
            <a:chExt cx="3600360" cy="5905080"/>
          </a:xfrm>
        </p:grpSpPr>
        <p:pic>
          <p:nvPicPr>
            <p:cNvPr id="90" name="Picture 5" descr="khabarovskmap10"/>
            <p:cNvPicPr/>
            <p:nvPr/>
          </p:nvPicPr>
          <p:blipFill>
            <a:blip r:embed="rId1"/>
            <a:stretch/>
          </p:blipFill>
          <p:spPr>
            <a:xfrm>
              <a:off x="2627280" y="836640"/>
              <a:ext cx="3593880" cy="58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Линии"/>
            <p:cNvPicPr/>
            <p:nvPr/>
          </p:nvPicPr>
          <p:blipFill>
            <a:blip r:embed="rId2"/>
            <a:stretch/>
          </p:blipFill>
          <p:spPr>
            <a:xfrm>
              <a:off x="5110200" y="5616000"/>
              <a:ext cx="1117440" cy="11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Line 9"/>
          <p:cNvSpPr/>
          <p:nvPr/>
        </p:nvSpPr>
        <p:spPr>
          <a:xfrm>
            <a:off x="5508720" y="1844640"/>
            <a:ext cx="158436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093080" y="1628640"/>
            <a:ext cx="15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3" action="ppaction://hlinksldjump"/>
              </a:rPr>
              <a:t>Аэро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1619280" y="5373720"/>
            <a:ext cx="273672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39640" y="5157720"/>
            <a:ext cx="15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За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2124000" y="3357720"/>
            <a:ext cx="151128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11280" y="3141720"/>
            <a:ext cx="1834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Речной 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1547280" y="2492280"/>
            <a:ext cx="230364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>
            <a:hlinkClick r:id="rId6" action="ppaction://hlinksldjump"/>
          </p:cNvPr>
          <p:cNvSpPr/>
          <p:nvPr/>
        </p:nvSpPr>
        <p:spPr>
          <a:xfrm>
            <a:off x="179280" y="2276640"/>
            <a:ext cx="18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7" action="ppaction://hlinksldjump"/>
              </a:rPr>
              <a:t>Ж/Д 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5003640" y="4365720"/>
            <a:ext cx="187344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877080" y="4149720"/>
            <a:ext cx="187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8" action="ppaction://hlinksldjump"/>
              </a:rPr>
              <a:t>Хабаровс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4859280" y="3141720"/>
            <a:ext cx="187344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6732720" y="2924280"/>
            <a:ext cx="208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9" action="ppaction://hlinksldjump"/>
              </a:rPr>
              <a:t>Швейная фаб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H="1">
            <a:off x="1763640" y="1413000"/>
            <a:ext cx="172872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0" y="1197000"/>
            <a:ext cx="19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Университе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H="1">
            <a:off x="1979280" y="2276640"/>
            <a:ext cx="1800360" cy="0"/>
          </a:xfrm>
          <a:prstGeom prst="line">
            <a:avLst/>
          </a:prstGeom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755640" y="206064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Авто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Университетска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0920" y="6093000"/>
            <a:ext cx="208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280360" y="609300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ТОГУ"/>
          <p:cNvPicPr/>
          <p:nvPr/>
        </p:nvPicPr>
        <p:blipFill>
          <a:blip r:embed="rId3"/>
          <a:srcRect l="0" t="0" r="0" b="10835"/>
          <a:stretch/>
        </p:blipFill>
        <p:spPr>
          <a:xfrm>
            <a:off x="214200" y="928800"/>
            <a:ext cx="7715520" cy="49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водска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50920" y="6093000"/>
            <a:ext cx="208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280360" y="609300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IMG_2498"/>
          <p:cNvPicPr/>
          <p:nvPr/>
        </p:nvPicPr>
        <p:blipFill>
          <a:blip r:embed="rId3"/>
          <a:stretch/>
        </p:blipFill>
        <p:spPr>
          <a:xfrm>
            <a:off x="714240" y="1197000"/>
            <a:ext cx="728352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Швейная фабр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0920" y="6093000"/>
            <a:ext cx="208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Garamond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8036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2489"/>
          <p:cNvPicPr/>
          <p:nvPr/>
        </p:nvPicPr>
        <p:blipFill>
          <a:blip r:embed="rId2"/>
          <a:stretch/>
        </p:blipFill>
        <p:spPr>
          <a:xfrm>
            <a:off x="250920" y="1916280"/>
            <a:ext cx="4105080" cy="273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MG_2487"/>
          <p:cNvPicPr/>
          <p:nvPr/>
        </p:nvPicPr>
        <p:blipFill>
          <a:blip r:embed="rId3"/>
          <a:stretch/>
        </p:blipFill>
        <p:spPr>
          <a:xfrm>
            <a:off x="4427640" y="2924280"/>
            <a:ext cx="458136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эропор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4" descr="i011"/>
          <p:cNvPicPr/>
          <p:nvPr/>
        </p:nvPicPr>
        <p:blipFill>
          <a:blip r:embed="rId1"/>
          <a:stretch/>
        </p:blipFill>
        <p:spPr>
          <a:xfrm>
            <a:off x="525600" y="1600200"/>
            <a:ext cx="8091360" cy="4530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609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8036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/Д Вокз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Picture 4" descr="habar_11_500"/>
          <p:cNvPicPr/>
          <p:nvPr/>
        </p:nvPicPr>
        <p:blipFill>
          <a:blip r:embed="rId1"/>
          <a:stretch/>
        </p:blipFill>
        <p:spPr>
          <a:xfrm>
            <a:off x="1332000" y="2062080"/>
            <a:ext cx="641340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0920" y="609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28036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чной вокз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4" descr="33725337"/>
          <p:cNvPicPr/>
          <p:nvPr/>
        </p:nvPicPr>
        <p:blipFill>
          <a:blip r:embed="rId1"/>
          <a:stretch/>
        </p:blipFill>
        <p:spPr>
          <a:xfrm>
            <a:off x="1187280" y="1413000"/>
            <a:ext cx="6761160" cy="453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50920" y="609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828036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46:42Z</dcterms:created>
  <dc:creator>ALEX</dc:creator>
  <dc:description/>
  <dc:language>en-US</dc:language>
  <cp:lastModifiedBy>Ed</cp:lastModifiedBy>
  <dcterms:modified xsi:type="dcterms:W3CDTF">2011-11-18T04:49:38Z</dcterms:modified>
  <cp:revision>15</cp:revision>
  <dc:subject/>
  <dc:title>Метро в Хабаровске</dc:title>
</cp:coreProperties>
</file>