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15D7-AF68-4B7F-BC9E-E2CB3A7CE8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772B-2328-4AE8-9687-32E2B49E49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C97-D3A9-4DC9-9E2B-27B6969F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4C9-64C1-4555-B5A9-A23A6D7E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725-9D23-4138-976C-A3A4E935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A2D-E26B-4249-84A1-EF93948B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69D-87B7-4F0A-8E36-BEDC0603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36C-8DE8-48CE-BC21-A83050DB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665-313F-4109-AC14-EF194AA7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5AA-5F6D-4B04-9712-5D6B433A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B65-9F0F-4375-8F12-D39E1836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516-A273-4A6D-AED3-6244B8DE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B4E-14DF-4311-A88E-75826951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B99-7BBD-42A6-BAD7-263C9522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C7ED-9705-430C-A194-0879B6EF48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Сочинение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 картине 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Аркадия Пластова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«Первый снег»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943200" y="28440"/>
            <a:ext cx="6388920" cy="64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дачи уро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знакомить с жизнью и творчеством А.А.Пласто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учить “читать” картину, осмысливать ее содерж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влечь внимание детей к красоте зимней приро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особствовать эмоциональному восприят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картины  как  произведение  искус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вершенствовать умение отбир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нужные для описание сло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формировать умение составля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ключительную часть сочин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ильно выбирать концовку сочи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картина А.А.Пластова “Первый снег”"/>
          <p:cNvPicPr/>
          <p:nvPr/>
        </p:nvPicPr>
        <p:blipFill>
          <a:blip r:embed="rId1"/>
          <a:stretch/>
        </p:blipFill>
        <p:spPr>
          <a:xfrm>
            <a:off x="2627280" y="476280"/>
            <a:ext cx="476244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2286000" y="1071720"/>
            <a:ext cx="442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слушайтесь  к словам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ервый и послед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акие  чувства  вызывают  у вас  эти  сл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аким  вы  себе  представляете  первый  сне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акие  чувства  он  у вас  вызы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аким  вы  его  виде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428840" y="2643120"/>
          <a:ext cx="6095880" cy="1662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д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тор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и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хи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спокой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1"/>
          <p:cNvSpPr/>
          <p:nvPr/>
        </p:nvSpPr>
        <p:spPr>
          <a:xfrm>
            <a:off x="667440" y="815760"/>
            <a:ext cx="80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смотрите на карточки, выберите слова –названия чувст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торые помогут вам передать настроение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93840" y="2676600"/>
          <a:ext cx="6289560" cy="1739880"/>
        </p:xfrm>
        <a:graphic>
          <a:graphicData uri="http://schemas.openxmlformats.org/drawingml/2006/table">
            <a:tbl>
              <a:tblPr/>
              <a:tblGrid>
                <a:gridCol w="1828800"/>
                <a:gridCol w="2230560"/>
                <a:gridCol w="2230200"/>
              </a:tblGrid>
              <a:tr h="173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293840" y="3233880"/>
          <a:ext cx="6289560" cy="365040"/>
        </p:xfrm>
        <a:graphic>
          <a:graphicData uri="http://schemas.openxmlformats.org/drawingml/2006/table">
            <a:tbl>
              <a:tblPr/>
              <a:tblGrid>
                <a:gridCol w="62895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905200" y="2913120"/>
          <a:ext cx="3333600" cy="2292120"/>
        </p:xfrm>
        <a:graphic>
          <a:graphicData uri="http://schemas.openxmlformats.org/drawingml/2006/table">
            <a:tbl>
              <a:tblPr/>
              <a:tblGrid>
                <a:gridCol w="1666800"/>
                <a:gridCol w="1666800"/>
              </a:tblGrid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ег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л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ро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б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рез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738360" y="714240"/>
            <a:ext cx="704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ыберите несколько опорных слов, кото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являются главными для описания картин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97160" y="2832120"/>
          <a:ext cx="4884840" cy="3078000"/>
        </p:xfrm>
        <a:graphic>
          <a:graphicData uri="http://schemas.openxmlformats.org/drawingml/2006/table">
            <a:tbl>
              <a:tblPr/>
              <a:tblGrid>
                <a:gridCol w="4884840"/>
              </a:tblGrid>
              <a:tr h="307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319480" y="2854440"/>
          <a:ext cx="4995720" cy="714240"/>
        </p:xfrm>
        <a:graphic>
          <a:graphicData uri="http://schemas.openxmlformats.org/drawingml/2006/table">
            <a:tbl>
              <a:tblPr/>
              <a:tblGrid>
                <a:gridCol w="499572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74840" y="4325760"/>
          <a:ext cx="4884840" cy="1540080"/>
        </p:xfrm>
        <a:graphic>
          <a:graphicData uri="http://schemas.openxmlformats.org/drawingml/2006/table">
            <a:tbl>
              <a:tblPr/>
              <a:tblGrid>
                <a:gridCol w="4884840"/>
              </a:tblGrid>
              <a:tr h="15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341440" y="2989440"/>
          <a:ext cx="4773600" cy="2876400"/>
        </p:xfrm>
        <a:graphic>
          <a:graphicData uri="http://schemas.openxmlformats.org/drawingml/2006/table">
            <a:tbl>
              <a:tblPr/>
              <a:tblGrid>
                <a:gridCol w="4773600"/>
              </a:tblGrid>
              <a:tr h="287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341440" y="3033720"/>
          <a:ext cx="4818240" cy="2876400"/>
        </p:xfrm>
        <a:graphic>
          <a:graphicData uri="http://schemas.openxmlformats.org/drawingml/2006/table">
            <a:tbl>
              <a:tblPr/>
              <a:tblGrid>
                <a:gridCol w="4818240"/>
              </a:tblGrid>
              <a:tr h="287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1885680" y="2066040"/>
            <a:ext cx="6021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Первый день зи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дость дет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Цвет и настроение карти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е отношение к картин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508480" y="1500120"/>
            <a:ext cx="14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Л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9:51:11Z</dcterms:created>
  <dc:creator>IRONMANN (AKA SHAMAN)</dc:creator>
  <dc:description/>
  <dc:language>en-US</dc:language>
  <cp:lastModifiedBy>учитель</cp:lastModifiedBy>
  <dcterms:modified xsi:type="dcterms:W3CDTF">2012-01-20T08:02:38Z</dcterms:modified>
  <cp:revision>3</cp:revision>
  <dc:subject/>
  <dc:title>Сочинение по картине  Аркадия Пластова «Первый снег»</dc:title>
</cp:coreProperties>
</file>