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57D-51FE-4178-B800-536ABB45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728-2835-48D6-A106-0F4C52E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118-B86C-4B93-9130-70850D96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895-B88A-4069-9F03-60C7C7B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44F-A110-42B6-948A-DDA49E8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93D-B892-454C-BBF3-C0681AD5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DFA-7489-405A-B5A1-1D36C80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F3E-E6D3-4C4C-B800-C3961273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8A6-D6E5-4D20-AA86-6BE01DF6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4B0-8370-468A-8AC9-CD80DFE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0AF-B794-4A89-98C2-B6DB3F63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870-B7D3-4D30-B8EF-C04EF37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70C-A027-487B-A01A-E30E31532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22db6"/>
                </a:solidFill>
                <a:latin typeface="Arial"/>
              </a:rPr>
              <a:t>Объяснение названий насеком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386064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ПУСТ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658880"/>
            <a:ext cx="5281560" cy="354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6210" t="0" r="0" b="0"/>
          <a:stretch/>
        </p:blipFill>
        <p:spPr>
          <a:xfrm>
            <a:off x="6443640" y="3141720"/>
            <a:ext cx="212904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МОН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329440" cy="349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4070520"/>
            <a:ext cx="2693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ВЛИ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508040"/>
            <a:ext cx="5257800" cy="39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77080" y="3213000"/>
            <a:ext cx="285732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333440"/>
            <a:ext cx="5584680" cy="41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4265640"/>
            <a:ext cx="3173400" cy="22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УК - НОСОР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1498680"/>
            <a:ext cx="514836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31320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УК -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386000"/>
            <a:ext cx="5445000" cy="40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4221000"/>
            <a:ext cx="3054600" cy="22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бабочка, личинки которой питаются капуст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жук с рог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яркую бабочку с глазками на крыл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бабочку голуб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бабочка, личинки которой  питаются крапи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жука с рогами живот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БООШ №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веева О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8:54:07Z</dcterms:created>
  <dc:creator>Klass</dc:creator>
  <dc:description/>
  <dc:language>en-US</dc:language>
  <cp:lastModifiedBy>Klass</cp:lastModifiedBy>
  <dcterms:modified xsi:type="dcterms:W3CDTF">2009-06-10T04:49:36Z</dcterms:modified>
  <cp:revision>35</cp:revision>
  <dc:subject/>
  <dc:title>Объяснение названий животных</dc:title>
</cp:coreProperties>
</file>