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D87-D762-4350-96EF-14C239D93D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825-B431-4473-8BA4-5F9DB097A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C56-C019-4295-89D2-7599CEC7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8D1-7B01-454A-8146-9BA1A22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09D-D650-4F6D-84D9-4B85D05C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EEB-0828-4442-A965-055204C7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0A08-CBA6-423C-870B-0CFB8BB4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BF1E-ECA4-4555-B753-52AC48B9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2751-2F09-4785-966E-48D9C454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59D2-482F-40D6-AF80-25E4618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E5B-899E-4ED5-A506-5500E98D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44F5-A6F9-49E5-A04F-FDA7039D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F6D8-BE75-4DF7-B464-A6CF3EE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F44-2101-47AB-9935-310FC1BD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7A10-F9C0-4A40-8CF3-75C8437D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BE9B-D008-4CA4-A7E6-7F8A7B2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9787-1485-4059-862F-39704B7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892-992E-4F34-876B-63A4C639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7A1-CA7C-49DF-BBB8-68D4A31A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94C-4DE7-4DEE-B3AE-485A459C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332-2EE6-4C5C-AFAF-99465A50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679-BA2F-43E3-9827-801C4A0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E82-AB40-4AC7-A340-3BD1B9FF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79A-204A-48D3-A5E8-20C09FF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C3C-ED8F-4DB7-8896-85E95B5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4EF-090B-475B-A007-2AAE450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40FD-098A-4B58-BD04-4F68C523C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7634-35B3-4E29-A279-1A84CEB3D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840" y="2130120"/>
            <a:ext cx="6286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усский язык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2 клас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делительный мягкий зна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1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5520" y="500040"/>
            <a:ext cx="3709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мурав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дере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лист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руч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кры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кол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2920" y="428760"/>
            <a:ext cx="4038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мурав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дерев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лист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руч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крыл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колос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-6426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3" descr="832281_1485thumb500.jpg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150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500800" y="428760"/>
            <a:ext cx="3186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медвеж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лис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заяч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птич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i.jpg"/>
          <p:cNvPicPr/>
          <p:nvPr/>
        </p:nvPicPr>
        <p:blipFill>
          <a:blip r:embed="rId2"/>
          <a:stretch/>
        </p:blipFill>
        <p:spPr>
          <a:xfrm>
            <a:off x="2928960" y="214200"/>
            <a:ext cx="2428920" cy="1500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059.jpg"/>
          <p:cNvPicPr/>
          <p:nvPr/>
        </p:nvPicPr>
        <p:blipFill>
          <a:blip r:embed="rId3"/>
          <a:stretch/>
        </p:blipFill>
        <p:spPr>
          <a:xfrm>
            <a:off x="214200" y="178596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fox.jpg"/>
          <p:cNvPicPr/>
          <p:nvPr/>
        </p:nvPicPr>
        <p:blipFill>
          <a:blip r:embed="rId4"/>
          <a:stretch/>
        </p:blipFill>
        <p:spPr>
          <a:xfrm>
            <a:off x="2928960" y="178596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hare-07-d.jpg"/>
          <p:cNvPicPr/>
          <p:nvPr/>
        </p:nvPicPr>
        <p:blipFill>
          <a:blip r:embed="rId5"/>
          <a:stretch/>
        </p:blipFill>
        <p:spPr>
          <a:xfrm>
            <a:off x="214200" y="3357720"/>
            <a:ext cx="2571840" cy="1643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0_7815_fc0dc7fe_XL.jpg"/>
          <p:cNvPicPr/>
          <p:nvPr/>
        </p:nvPicPr>
        <p:blipFill>
          <a:blip r:embed="rId6"/>
          <a:stretch/>
        </p:blipFill>
        <p:spPr>
          <a:xfrm>
            <a:off x="2928960" y="335772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9" descr="0_21e91_75391ac9_XL.jpg"/>
          <p:cNvPicPr/>
          <p:nvPr/>
        </p:nvPicPr>
        <p:blipFill>
          <a:blip r:embed="rId7"/>
          <a:stretch/>
        </p:blipFill>
        <p:spPr>
          <a:xfrm>
            <a:off x="214200" y="507204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0" descr="crow10112.jpg"/>
          <p:cNvPicPr/>
          <p:nvPr/>
        </p:nvPicPr>
        <p:blipFill>
          <a:blip r:embed="rId8"/>
          <a:stretch/>
        </p:blipFill>
        <p:spPr>
          <a:xfrm>
            <a:off x="2928960" y="5072040"/>
            <a:ext cx="2428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оверь себя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пр.187 стр.13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язанье, Наталья, Илья, варенье, чутьё, ладья, барьер, вью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 Цветкова И.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спользованы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Л.М.Зеленина Т.Е. Хохлова  «Русский язык» Москва «Просвещение»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.Е. Жиренко А.А. Обухова «Поурочные разработки по русскому языку»Москва «Вако»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адовед.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com/2010/12/page/6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galereika.net/phot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fjtki.yandex.ru/users/olgalytaeva/viem/1388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900igr. net/fotografii/okruzhajushij-mir/Zimnij-les/004-sltdy-v-lesu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vyzhivahie.ukoz.ru/publ/opasnosti/zveri/ sledy_ krupnykh-zverej/39-1-0-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inter.ua/ru/cinema/dokumentary/dear-man-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melkomu.ru/item 11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//www.viptel.ru/catalog/viptel-skates/graf/prestije_podrjs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Arial"/>
              </a:rPr>
              <a:t>т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8800" spc="-1" strike="noStrike">
                <a:solidFill>
                  <a:srgbClr val="002060"/>
                </a:solidFill>
                <a:latin typeface="Arial"/>
              </a:rPr>
              <a:t>традь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3" descr="638074.jpg"/>
          <p:cNvPicPr/>
          <p:nvPr/>
        </p:nvPicPr>
        <p:blipFill>
          <a:blip r:embed="rId1"/>
          <a:stretch/>
        </p:blipFill>
        <p:spPr>
          <a:xfrm>
            <a:off x="3071880" y="2286000"/>
            <a:ext cx="3171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рков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морковь.jpg"/>
          <p:cNvPicPr/>
          <p:nvPr/>
        </p:nvPicPr>
        <p:blipFill>
          <a:blip r:embed="rId1"/>
          <a:stretch/>
        </p:blipFill>
        <p:spPr>
          <a:xfrm>
            <a:off x="2786040" y="192888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двед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33.jpg"/>
          <p:cNvPicPr/>
          <p:nvPr/>
        </p:nvPicPr>
        <p:blipFill>
          <a:blip r:embed="rId1"/>
          <a:stretch/>
        </p:blipFill>
        <p:spPr>
          <a:xfrm>
            <a:off x="2357280" y="1857240"/>
            <a:ext cx="387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к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ньки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3" descr="11978428657910.jpg"/>
          <p:cNvPicPr/>
          <p:nvPr/>
        </p:nvPicPr>
        <p:blipFill>
          <a:blip r:embed="rId1"/>
          <a:stretch/>
        </p:blipFill>
        <p:spPr>
          <a:xfrm>
            <a:off x="3071880" y="1571760"/>
            <a:ext cx="3305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п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льт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4" descr="1347.jpg"/>
          <p:cNvPicPr/>
          <p:nvPr/>
        </p:nvPicPr>
        <p:blipFill>
          <a:blip r:embed="rId1"/>
          <a:stretch/>
        </p:blipFill>
        <p:spPr>
          <a:xfrm>
            <a:off x="2643120" y="1785960"/>
            <a:ext cx="36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р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бей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1291218589_Zagadka-s-podvohom-pro-vorobjev.jpg"/>
          <p:cNvPicPr/>
          <p:nvPr/>
        </p:nvPicPr>
        <p:blipFill>
          <a:blip r:embed="rId1"/>
          <a:stretch/>
        </p:blipFill>
        <p:spPr>
          <a:xfrm>
            <a:off x="2857680" y="2000160"/>
            <a:ext cx="3809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вороб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3" descr="841317863.jpg"/>
          <p:cNvPicPr/>
          <p:nvPr/>
        </p:nvPicPr>
        <p:blipFill>
          <a:blip r:embed="rId1"/>
          <a:stretch/>
        </p:blipFill>
        <p:spPr>
          <a:xfrm>
            <a:off x="3000240" y="1643040"/>
            <a:ext cx="3880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гда пишется разделительный мягкий знак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огласные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, ё, ю, я , и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3" descr="russkiy-alfavit-v-kartinkah-bukva-mz.png"/>
          <p:cNvPicPr/>
          <p:nvPr/>
        </p:nvPicPr>
        <p:blipFill>
          <a:blip r:embed="rId1"/>
          <a:stretch/>
        </p:blipFill>
        <p:spPr>
          <a:xfrm>
            <a:off x="3714840" y="3357720"/>
            <a:ext cx="13572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6:08:16Z</dcterms:created>
  <dc:creator>Comp</dc:creator>
  <dc:description/>
  <dc:language>en-US</dc:language>
  <cp:lastModifiedBy>USER</cp:lastModifiedBy>
  <dcterms:modified xsi:type="dcterms:W3CDTF">2011-12-11T17:59:40Z</dcterms:modified>
  <cp:revision>30</cp:revision>
  <dc:subject/>
  <dc:title>Слайд 1</dc:title>
</cp:coreProperties>
</file>