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7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4938-7825-43D7-A282-F67B64643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95FD-C928-4D10-9F40-DC3FBAD56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81E1-7842-4E7B-BF56-08F6E18EC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0C84-CE99-437E-9325-1039EA493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99DE7-677B-4D8A-B778-CAE2E7C12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D67DD-8405-435A-8EB4-ED17CCDF0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C8855-E7F7-4D76-BD28-93B6D5766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110D4-D7CF-4001-917F-D0F71ECEB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459DA-8E63-4E17-A85C-813228580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BC8AB-97B1-4737-8954-EC3DB898B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B7E8D-EDF7-4C8B-B74C-FDB18C76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A590-8EB4-4806-88DB-D694E2E1D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CB370-DBE1-4E9D-9568-3294F281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146A5-273F-46C6-A9C6-349000BC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ED70D-8B55-4A22-88B1-80F400AB5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263E3-A646-4848-9015-6DFD0CDC6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3E280-30C3-485D-BCEF-C649A80A7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3E1AF-2364-4DD3-98CD-60E3D3518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DE57E-25C6-4DAD-96EC-A9213B0BF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6CF5E-917D-41A0-88CA-BF3E0F415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BB545-25CA-4E78-B050-EBB8FC47B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B414F-68D2-4026-AAF6-8AF37BDA7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D94E-A551-43A0-B985-711445DA2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C6160-E7B2-4685-A7C5-97878560B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58D74-1A58-47D9-8148-82B88AB5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8A670-83F7-4202-8372-30433931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CA5C2-8BBC-4A8D-945A-1EDB0E6A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9D867-1421-4933-BF4F-6D85999BF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A218C-7771-42C8-A530-98ECD56F5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C89AC-2BF9-4AE2-8FA0-C166551F5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0DC7F-27B8-48D4-B139-2334FD228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F1E36-335F-45A9-B92A-E7FC572C1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93702-0BBF-4444-95B4-E591484DA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911D-3EB5-4805-BF19-5B041713D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06871-A08D-4B0C-BF6D-15B7AE295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F4ED3-831D-4BED-B361-243CDFB9A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513D6-5425-4E41-A7BF-0C7795BCE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B061B-5A51-4B5A-A19F-C14B1AA9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E8DD8-0FD5-4D1E-B11F-8632381C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E1E7C-B5BC-4B7A-B9A0-24EE9186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ED902-FDB7-46CF-B8C0-D33294500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2E795-A9A6-4B20-8839-BF8A9702D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F579F-17B5-42FA-92F9-4B9D86601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A5CB6-A12B-4060-A433-5DB8507DE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73C8-E8B4-47DD-AAC2-51B76F42D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6EFE7-4B19-4820-BD1C-8D77596B4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5B96F-BC7E-4F4D-B980-EBC2D5CD4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F222E-6839-43D7-8847-8B3D3588C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32615-9209-47F8-A712-39F70AF9F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0B418-94E7-4276-83E4-703A9F996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4D7A4-24AF-4505-A3DE-AED54126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D2B98-BEEF-4116-A4F6-B0D676EF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B46ED-2F57-4CEE-B549-C4C16785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78548-04E5-4C34-84C5-F08EF4D36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FC223-610B-4284-B1E1-3A88B966F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BB5E-A1F5-4F74-A623-EC979BD59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181A6-F433-478F-A421-08508C025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4C3618-6AAA-498A-84B6-5704C0B6B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E41D0-ABCD-483E-A788-36C464053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3BCBE7-6430-4B40-A1E5-FC053BF65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9B03D-19B2-47C4-8A3A-890187491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DF9C6-1885-479B-899A-AE77DB9EC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343B6-ACD9-4BB4-8691-4CD4E2F5E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336DB-1872-49E0-92AA-90806DD7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4427B6-9B1B-4605-94A5-7BD0C479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BA3AB-A125-4FE4-A81E-D55ED4A4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42F9-E6AF-473E-A835-C766B300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3D39F-033C-4B91-9D3F-765DF27FA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3FE4CD-1F0B-4060-AD52-1CC93C674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6EB0B-80E9-4358-8F87-F386CFB61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BAAD-2700-4EAF-94F3-09560A27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9E07-6E2B-4D07-B99B-B5BE237D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87E0B-9187-485B-98E7-E4195FEC57D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64E38-0B77-49A6-B712-791EB284208A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B035B-1827-4831-95CD-3BB353CE26F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3AE03-CF11-4557-B16B-5F26B500CD5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8CB1D-B1BF-4D6A-9154-381B9AAC1CD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олилиния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олилиния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0" name="Прямоугольный треугольник 16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2" name="Прямая соединительная линия 18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3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1D9A-6FB8-4BA8-9C79-0344A7E4798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jpe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4"/>
          <p:cNvSpPr/>
          <p:nvPr/>
        </p:nvSpPr>
        <p:spPr>
          <a:xfrm>
            <a:off x="468360" y="333360"/>
            <a:ext cx="784872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00 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4 =              4800 : 100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70 : 3 =              301 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2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5 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10 =               80 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60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6650 – 650 =        999 + 1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70 + 65 =              31 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3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8090 – 8040 =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4"/>
          <p:cNvSpPr/>
          <p:nvPr/>
        </p:nvSpPr>
        <p:spPr>
          <a:xfrm>
            <a:off x="539640" y="620640"/>
            <a:ext cx="7777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800  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  48   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90    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  602 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50  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  480 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6000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  1000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35  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   93  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50    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4"/>
          <p:cNvSpPr/>
          <p:nvPr/>
        </p:nvSpPr>
        <p:spPr>
          <a:xfrm>
            <a:off x="250920" y="98100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У н и в е р с и а д 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4" descr="http://im6-tub-ru.yandex.net/i?id=108551805-62-72"/>
          <p:cNvPicPr/>
          <p:nvPr/>
        </p:nvPicPr>
        <p:blipFill>
          <a:blip r:embed="rId1"/>
          <a:stretch/>
        </p:blipFill>
        <p:spPr>
          <a:xfrm>
            <a:off x="684360" y="2565360"/>
            <a:ext cx="266364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C:\Documents and Settings\Администратор\Мои документы\Изображения\Спорт\id39440_w190.jpg"/>
          <p:cNvPicPr/>
          <p:nvPr/>
        </p:nvPicPr>
        <p:blipFill>
          <a:blip r:embed="rId1"/>
          <a:stretch/>
        </p:blipFill>
        <p:spPr>
          <a:xfrm>
            <a:off x="179280" y="836640"/>
            <a:ext cx="1440000" cy="94788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6"/>
          <p:cNvSpPr/>
          <p:nvPr/>
        </p:nvSpPr>
        <p:spPr>
          <a:xfrm>
            <a:off x="2195640" y="620640"/>
            <a:ext cx="612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WordArt 7"/>
          <p:cNvSpPr txBox="1"/>
          <p:nvPr/>
        </p:nvSpPr>
        <p:spPr>
          <a:xfrm>
            <a:off x="395280" y="260280"/>
            <a:ext cx="7921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Спортның җәйге һәм кышкы төрләр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pic>
        <p:nvPicPr>
          <p:cNvPr id="283" name="Picture 3" descr="C:\Documents and Settings\Администратор\Мои документы\Изображения\Спорт\Voleybol.jpg"/>
          <p:cNvPicPr/>
          <p:nvPr/>
        </p:nvPicPr>
        <p:blipFill>
          <a:blip r:embed="rId4"/>
          <a:stretch/>
        </p:blipFill>
        <p:spPr>
          <a:xfrm>
            <a:off x="179280" y="2077920"/>
            <a:ext cx="2089080" cy="15670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" descr="C:\Documents and Settings\Администратор\Мои документы\Изображения\Спорт\JKJH.jpg"/>
          <p:cNvPicPr/>
          <p:nvPr/>
        </p:nvPicPr>
        <p:blipFill>
          <a:blip r:embed="rId5"/>
          <a:stretch/>
        </p:blipFill>
        <p:spPr>
          <a:xfrm>
            <a:off x="2411280" y="981000"/>
            <a:ext cx="2016360" cy="15130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" descr="C:\Documents and Settings\Администратор\Мои документы\Изображения\Спорт\ОРА.jpg"/>
          <p:cNvPicPr/>
          <p:nvPr/>
        </p:nvPicPr>
        <p:blipFill>
          <a:blip r:embed="rId6"/>
          <a:stretch/>
        </p:blipFill>
        <p:spPr>
          <a:xfrm>
            <a:off x="4643280" y="1268280"/>
            <a:ext cx="2016360" cy="15130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3" descr="C:\Documents and Settings\Администратор\Мои документы\Изображения\Спорт\ОРЛРА.jpg"/>
          <p:cNvPicPr/>
          <p:nvPr/>
        </p:nvPicPr>
        <p:blipFill>
          <a:blip r:embed="rId7"/>
          <a:stretch/>
        </p:blipFill>
        <p:spPr>
          <a:xfrm>
            <a:off x="2627280" y="3068640"/>
            <a:ext cx="1835280" cy="13762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C:\Documents and Settings\Администратор\Мои документы\Изображения\Спорт\РАЛОРРАЛ.jpg"/>
          <p:cNvPicPr/>
          <p:nvPr/>
        </p:nvPicPr>
        <p:blipFill>
          <a:blip r:embed="rId8"/>
          <a:stretch/>
        </p:blipFill>
        <p:spPr>
          <a:xfrm>
            <a:off x="6838920" y="1052640"/>
            <a:ext cx="2125800" cy="15951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4" descr="C:\Documents and Settings\Администратор\Мои документы\Изображения\Спорт\H12C1GCAE0VLCHCAY3CAO8CAW85OI2CAD3TGBGCAG2QTL7CASJ1YTFCAHSYQ02CAFLDTJPCAPAC0YSCAI3ESOVCAFO3LHMCAADPSYHCA1Y1HAKCA22ZEB1CALXZU0CCAKMWPE7CAK35R2OCASDF5R3.jpg"/>
          <p:cNvPicPr/>
          <p:nvPr/>
        </p:nvPicPr>
        <p:blipFill>
          <a:blip r:embed="rId9"/>
          <a:stretch/>
        </p:blipFill>
        <p:spPr>
          <a:xfrm>
            <a:off x="7308720" y="2924280"/>
            <a:ext cx="1617840" cy="20286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2" descr="C:\Documents and Settings\Администратор\Мои документы\Изображения\Спорт\biatlon.png"/>
          <p:cNvPicPr/>
          <p:nvPr/>
        </p:nvPicPr>
        <p:blipFill>
          <a:blip r:embed="rId10"/>
          <a:stretch/>
        </p:blipFill>
        <p:spPr>
          <a:xfrm>
            <a:off x="1979640" y="4581360"/>
            <a:ext cx="2232000" cy="20386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2" descr="C:\Documents and Settings\Администратор\Мои документы\Изображения\Спорт\skating_sport.png"/>
          <p:cNvPicPr/>
          <p:nvPr/>
        </p:nvPicPr>
        <p:blipFill>
          <a:blip r:embed="rId11"/>
          <a:stretch/>
        </p:blipFill>
        <p:spPr>
          <a:xfrm>
            <a:off x="108000" y="4005360"/>
            <a:ext cx="1631880" cy="16794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" descr="C:\Documents and Settings\Администратор\Мои документы\Изображения\Спорт\06ae87792e5f.jpg"/>
          <p:cNvPicPr/>
          <p:nvPr/>
        </p:nvPicPr>
        <p:blipFill>
          <a:blip r:embed="rId12"/>
          <a:stretch/>
        </p:blipFill>
        <p:spPr>
          <a:xfrm>
            <a:off x="4859280" y="2924280"/>
            <a:ext cx="1873440" cy="16002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" descr="C:\Documents and Settings\Администратор\Мои документы\Изображения\Спорт\object_31_1101319228_58727.gif"/>
          <p:cNvPicPr/>
          <p:nvPr/>
        </p:nvPicPr>
        <p:blipFill>
          <a:blip r:embed="rId13"/>
          <a:stretch/>
        </p:blipFill>
        <p:spPr>
          <a:xfrm>
            <a:off x="4500720" y="4714920"/>
            <a:ext cx="27352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" descr="i?id=209974327-04-72"/>
          <p:cNvPicPr/>
          <p:nvPr/>
        </p:nvPicPr>
        <p:blipFill>
          <a:blip r:embed="rId1"/>
          <a:stretch/>
        </p:blipFill>
        <p:spPr>
          <a:xfrm>
            <a:off x="900000" y="260280"/>
            <a:ext cx="2171880" cy="18734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" descr="Картинка 19 из 24"/>
          <p:cNvPicPr/>
          <p:nvPr/>
        </p:nvPicPr>
        <p:blipFill>
          <a:blip r:embed="rId2"/>
          <a:stretch/>
        </p:blipFill>
        <p:spPr>
          <a:xfrm>
            <a:off x="3492360" y="260280"/>
            <a:ext cx="2232000" cy="19447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3" descr="i?id=19871554-52-72"/>
          <p:cNvPicPr/>
          <p:nvPr/>
        </p:nvPicPr>
        <p:blipFill>
          <a:blip r:embed="rId3"/>
          <a:stretch/>
        </p:blipFill>
        <p:spPr>
          <a:xfrm>
            <a:off x="6084720" y="260280"/>
            <a:ext cx="2362320" cy="19447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4" descr="i?id=162912759-04-72"/>
          <p:cNvPicPr/>
          <p:nvPr/>
        </p:nvPicPr>
        <p:blipFill>
          <a:blip r:embed="rId4"/>
          <a:stretch/>
        </p:blipFill>
        <p:spPr>
          <a:xfrm>
            <a:off x="539640" y="3789360"/>
            <a:ext cx="2222640" cy="20160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5" descr="i?id=287566040-53-72"/>
          <p:cNvPicPr/>
          <p:nvPr/>
        </p:nvPicPr>
        <p:blipFill>
          <a:blip r:embed="rId5"/>
          <a:stretch/>
        </p:blipFill>
        <p:spPr>
          <a:xfrm>
            <a:off x="3348000" y="3789360"/>
            <a:ext cx="2336760" cy="19432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6" descr="i?id=314614228-70-72"/>
          <p:cNvPicPr/>
          <p:nvPr/>
        </p:nvPicPr>
        <p:blipFill>
          <a:blip r:embed="rId6"/>
          <a:stretch/>
        </p:blipFill>
        <p:spPr>
          <a:xfrm>
            <a:off x="6156360" y="3716280"/>
            <a:ext cx="2376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1"/>
          <p:cNvSpPr/>
          <p:nvPr/>
        </p:nvSpPr>
        <p:spPr>
          <a:xfrm>
            <a:off x="2771640" y="31320"/>
            <a:ext cx="52149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5400" spc="-1" strike="noStrike">
                <a:solidFill>
                  <a:srgbClr val="000000"/>
                </a:solidFill>
                <a:latin typeface="Times New Roman"/>
                <a:ea typeface="Calibri"/>
              </a:rPr>
              <a:t>3 + 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5400" spc="-1" strike="noStrike">
                <a:solidFill>
                  <a:srgbClr val="000000"/>
                </a:solidFill>
                <a:latin typeface="Times New Roman"/>
                <a:ea typeface="Calibri"/>
              </a:rPr>
              <a:t>6 - 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5400" spc="-1" strike="noStrike">
                <a:solidFill>
                  <a:srgbClr val="000000"/>
                </a:solidFill>
                <a:latin typeface="Times New Roman"/>
                <a:ea typeface="Calibri"/>
              </a:rPr>
              <a:t>3 &lt; 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5400" spc="-1" strike="noStrike">
                <a:solidFill>
                  <a:srgbClr val="000000"/>
                </a:solidFill>
                <a:latin typeface="Times New Roman"/>
                <a:ea typeface="Calibri"/>
              </a:rPr>
              <a:t>10 &gt; 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5400" spc="-1" strike="noStrike">
                <a:solidFill>
                  <a:srgbClr val="000000"/>
                </a:solidFill>
                <a:latin typeface="Times New Roman"/>
                <a:ea typeface="Calibri"/>
              </a:rPr>
              <a:t>2 + 8 = 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5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20 – 5 = 1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5400" spc="-1" strike="noStrike">
                <a:solidFill>
                  <a:srgbClr val="000000"/>
                </a:solidFill>
                <a:latin typeface="Times New Roman"/>
                <a:ea typeface="Calibri"/>
              </a:rPr>
              <a:t>Х + 35 = 7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5400" spc="-1" strike="noStrike">
                <a:solidFill>
                  <a:srgbClr val="000000"/>
                </a:solidFill>
                <a:latin typeface="Times New Roman"/>
                <a:ea typeface="Calibri"/>
              </a:rPr>
              <a:t>Х + 15 = 68 :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"/>
          <p:cNvSpPr/>
          <p:nvPr/>
        </p:nvSpPr>
        <p:spPr>
          <a:xfrm>
            <a:off x="0" y="215640"/>
            <a:ext cx="9252000" cy="57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Алгоритм буенча эшләү</a:t>
            </a:r>
            <a:r>
              <a:rPr b="0" lang="tt-RU" sz="4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0" lang="tt-RU" sz="5400" spc="-1" strike="noStrike">
                <a:solidFill>
                  <a:srgbClr val="000000"/>
                </a:solidFill>
                <a:latin typeface="Times New Roman"/>
                <a:ea typeface="Calibri"/>
              </a:rPr>
              <a:t>. Катлаулы тигезләмәне  гади   тигезләмәгә әйләнде-рәбез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Calibri"/>
              </a:rPr>
              <a:t>  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Calibri"/>
              </a:rPr>
              <a:t>. </a:t>
            </a:r>
            <a:r>
              <a:rPr b="0" lang="tt-RU" sz="5400" spc="-1" strike="noStrike">
                <a:solidFill>
                  <a:srgbClr val="000000"/>
                </a:solidFill>
                <a:latin typeface="Times New Roman"/>
                <a:ea typeface="Calibri"/>
              </a:rPr>
              <a:t>Гади тигезләмәне чишә-без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Calibri"/>
              </a:rPr>
              <a:t>  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Calibri"/>
              </a:rPr>
              <a:t>3.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tt-RU" sz="5400" spc="-1" strike="noStrike">
                <a:solidFill>
                  <a:srgbClr val="000000"/>
                </a:solidFill>
                <a:latin typeface="Times New Roman"/>
                <a:ea typeface="Calibri"/>
              </a:rPr>
              <a:t>Дөреслеген тикшерәбез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4:52:31Z</dcterms:created>
  <dc:creator>Marat</dc:creator>
  <dc:description/>
  <dc:language>en-US</dc:language>
  <cp:lastModifiedBy>Marat</cp:lastModifiedBy>
  <dcterms:modified xsi:type="dcterms:W3CDTF">2011-12-05T16:39:48Z</dcterms:modified>
  <cp:revision>15</cp:revision>
  <dc:subject/>
  <dc:title>Слайд 1</dc:title>
</cp:coreProperties>
</file>