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396F-ED22-4FCC-9402-903B610F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70D8-532B-4FB7-8EF4-B920FFE1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39E8-C91F-46DD-9EC1-74B7072EF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809C-B8ED-414D-BFA6-E17ECD16D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AD3C-E6DC-4D03-916E-E8B7E117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0EB3-160A-42D4-9E3A-A8AF152F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0FDF-EFB2-48BC-AB42-860A4B73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752A-2255-4E44-968B-792221E7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3EEB-0311-48B1-9D4E-91AD1C2A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FB76-02BE-4812-93B6-BCA5C5F8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31AC-9E95-45BC-9BB1-D6D7DA73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2A74-9A65-4A86-BA81-25A16DE0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55CF-153F-49F3-8443-44B203AE00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C:\Users\днс\Desktop\5f871c9cbd40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  <p:sp>
        <p:nvSpPr>
          <p:cNvPr id="42" name="Прямоугольник 23"/>
          <p:cNvSpPr/>
          <p:nvPr/>
        </p:nvSpPr>
        <p:spPr>
          <a:xfrm rot="631800">
            <a:off x="2472480" y="2786040"/>
            <a:ext cx="404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c2d2a"/>
                </a:solidFill>
                <a:latin typeface="Georgia"/>
                <a:ea typeface="Times New Roman"/>
              </a:rPr>
              <a:t>«Исторический экскурс в мир  словообразов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285840" y="4429080"/>
            <a:ext cx="364320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d261b"/>
                </a:solidFill>
                <a:latin typeface="Times New Roman"/>
                <a:ea typeface="Times New Roman"/>
              </a:rPr>
              <a:t>Работу выполнили</a:t>
            </a:r>
            <a:r>
              <a:rPr b="1" lang="en-US" sz="2000" spc="-1" strike="noStrike">
                <a:solidFill>
                  <a:srgbClr val="3d261b"/>
                </a:solidFill>
                <a:latin typeface="Times New Roman"/>
                <a:ea typeface="Times New Roman"/>
              </a:rPr>
              <a:t>:</a:t>
            </a:r>
            <a:r>
              <a:rPr b="1" lang="ru-RU" sz="2000" spc="-1" strike="noStrike">
                <a:solidFill>
                  <a:srgbClr val="3d261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d261b"/>
                </a:solidFill>
                <a:latin typeface="Times New Roman"/>
                <a:ea typeface="Times New Roman"/>
              </a:rPr>
              <a:t>Ученики 6 а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d261b"/>
                </a:solidFill>
                <a:latin typeface="Times New Roman"/>
                <a:ea typeface="Times New Roman"/>
              </a:rPr>
              <a:t>Суханов Ден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d261b"/>
                </a:solidFill>
                <a:latin typeface="Times New Roman"/>
                <a:ea typeface="Times New Roman"/>
              </a:rPr>
              <a:t>Логинова Екате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d261b"/>
                </a:solidFill>
                <a:latin typeface="Times New Roman"/>
                <a:ea typeface="Times New Roman"/>
              </a:rPr>
              <a:t>Савин Андр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d261b"/>
                </a:solidFill>
                <a:latin typeface="Times New Roman"/>
                <a:ea typeface="Times New Roman"/>
              </a:rPr>
              <a:t>Кривдина Ан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d261b"/>
                </a:solidFill>
                <a:latin typeface="Times New Roman"/>
                <a:ea typeface="Times New Roman"/>
              </a:rPr>
              <a:t>Казакова Альб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DLX\Desktop\i.jpeg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1071360" y="2500200"/>
            <a:ext cx="747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4800" spc="-1" strike="noStrike">
                <a:solidFill>
                  <a:srgbClr val="376092"/>
                </a:solidFill>
                <a:latin typeface="Georgia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lackadder ITC"/>
                <a:ea typeface="Tunga"/>
              </a:rPr>
              <a:t>Происхождение словообразования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714240" y="1500120"/>
            <a:ext cx="7643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r>
              <a:rPr b="1" i="1" lang="ru-RU" sz="2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«СЛОВООБРАЗОВАНИЕ»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днозначен, поэтому для обозначения этого понятия существуют другие термины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«Словообразование  как языковое явление»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</a:t>
            </a:r>
            <a:r>
              <a:rPr b="1" i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деривация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латинского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од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бразование с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образование как наука </a:t>
            </a:r>
            <a:r>
              <a:rPr b="1" i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(дериватология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изучение и описание слов со стороны их образования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3"/>
          <p:cNvSpPr/>
          <p:nvPr/>
        </p:nvSpPr>
        <p:spPr>
          <a:xfrm>
            <a:off x="3232800" y="1643040"/>
            <a:ext cx="520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Учёные - лингвис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5"/>
          <p:cNvSpPr/>
          <p:nvPr/>
        </p:nvSpPr>
        <p:spPr>
          <a:xfrm rot="20470800">
            <a:off x="2666160" y="2957400"/>
            <a:ext cx="33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одуэн де Куртенэ Иван Александ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6"/>
          <p:cNvSpPr/>
          <p:nvPr/>
        </p:nvSpPr>
        <p:spPr>
          <a:xfrm rot="736800">
            <a:off x="5003640" y="3938760"/>
            <a:ext cx="34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Щерба Лев Владими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0"/>
          <p:cNvSpPr/>
          <p:nvPr/>
        </p:nvSpPr>
        <p:spPr>
          <a:xfrm rot="20811600">
            <a:off x="3747600" y="48466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иноградов Виктор Владимир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DLX\Desktop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428760" y="1143000"/>
            <a:ext cx="2200320" cy="29289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5"/>
          <p:cNvSpPr/>
          <p:nvPr/>
        </p:nvSpPr>
        <p:spPr>
          <a:xfrm>
            <a:off x="571680" y="285840"/>
            <a:ext cx="4429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одуэн де Куртенэ Иван Александрови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2571840" y="1143000"/>
            <a:ext cx="221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-польский языков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дуэн де Куртенэ совершил переворот в науке о языке: до него в лингвистике господствовало историческое направление 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8"/>
          <p:cNvSpPr/>
          <p:nvPr/>
        </p:nvSpPr>
        <p:spPr>
          <a:xfrm>
            <a:off x="428760" y="4071960"/>
            <a:ext cx="450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лись по письменным памятникам. Он же в своих работах доказал, что сущность языка — в речевой деятельности, а значит, необходимо изучать живые языки и диалекты. Только так можно понять механизм функционирования языка и проверить правильность лингвистических теор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9"/>
          <p:cNvSpPr/>
          <p:nvPr/>
        </p:nvSpPr>
        <p:spPr>
          <a:xfrm>
            <a:off x="5072040" y="571680"/>
            <a:ext cx="37148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 начал применять в лингвистике математические модели. Доказал, что на развитие языков можно воздействовать, а не только пассивно фиксировать все происходящие в них изменения. На основе его работ возникло новое направление — </a:t>
            </a: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экспериментальная фонет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одготовил третью и четвёртую редакции словаря В. И. Даля, уточнив этимологии, исправив разделение на гнёз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DLX\Desktop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DLX\Desktop\200px-Scchtrba_L_V.jpg"/>
          <p:cNvPicPr/>
          <p:nvPr/>
        </p:nvPicPr>
        <p:blipFill>
          <a:blip r:embed="rId2"/>
          <a:stretch/>
        </p:blipFill>
        <p:spPr>
          <a:xfrm>
            <a:off x="500040" y="928800"/>
            <a:ext cx="2000160" cy="26002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10"/>
          <p:cNvSpPr/>
          <p:nvPr/>
        </p:nvSpPr>
        <p:spPr>
          <a:xfrm>
            <a:off x="587880" y="285840"/>
            <a:ext cx="403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Щерба Лев Владимирови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1"/>
          <p:cNvSpPr/>
          <p:nvPr/>
        </p:nvSpPr>
        <p:spPr>
          <a:xfrm>
            <a:off x="2428920" y="14288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ий и советский языков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2"/>
          <p:cNvSpPr/>
          <p:nvPr/>
        </p:nvSpPr>
        <p:spPr>
          <a:xfrm>
            <a:off x="428760" y="3500280"/>
            <a:ext cx="4143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широко известен как фонолог и фонетист, основатель Ленинградской (Петербургской) фонетической школы. Он впервые ввел в практику лингвистического исследования экспериментальные методы и получил на их основе блестящие результаты. Наиболее известна его фонетическая работа - "Русские гласные в качественном и количественном отношении" (191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3"/>
          <p:cNvSpPr/>
          <p:nvPr/>
        </p:nvSpPr>
        <p:spPr>
          <a:xfrm>
            <a:off x="2428920" y="1928880"/>
            <a:ext cx="214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значение придавал ученый исследованиям живой разговорной звучащей реч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4"/>
          <p:cNvSpPr/>
          <p:nvPr/>
        </p:nvSpPr>
        <p:spPr>
          <a:xfrm>
            <a:off x="5072040" y="357120"/>
            <a:ext cx="3786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сделал Щерба для теории и практики лексикографии и лексикологии. Подготовленный под его руководством двуязычный словарь нового типа (объяснительного, или переводного) - "Русско-французский словарь" (1936) - используется в практике преподавания французского языка и для переводов до сих по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статья "О частях речи в русском языке" (1928) стала существенным вкладом в русскую грамматическую теорию, показала, что же реально скрывается за привычными для нас словами: существительное, глагол, прилагательное и т.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5"/>
          <p:cNvSpPr/>
          <p:nvPr/>
        </p:nvSpPr>
        <p:spPr>
          <a:xfrm>
            <a:off x="5072040" y="5572080"/>
            <a:ext cx="407196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блестящим педагогом,подготовил целую плеяду учеников, которые стали выдающимися лингвистами (В. В. Виноградов, Л. Р. Зиндер и др.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6"/>
          <p:cNvSpPr/>
          <p:nvPr/>
        </p:nvSpPr>
        <p:spPr>
          <a:xfrm>
            <a:off x="2428920" y="642960"/>
            <a:ext cx="20001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учителем был И. А. Бодуэн де Куртенэ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Users\DLX\Desktop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0"/>
          <p:cNvSpPr/>
          <p:nvPr/>
        </p:nvSpPr>
        <p:spPr>
          <a:xfrm>
            <a:off x="1214280" y="214200"/>
            <a:ext cx="307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ноградов Виктор Владими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Users\DLX\Desktop\Vinogradov.jpg"/>
          <p:cNvPicPr/>
          <p:nvPr/>
        </p:nvPicPr>
        <p:blipFill>
          <a:blip r:embed="rId2"/>
          <a:stretch/>
        </p:blipFill>
        <p:spPr>
          <a:xfrm>
            <a:off x="428760" y="1000080"/>
            <a:ext cx="2071440" cy="29592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7"/>
          <p:cNvSpPr/>
          <p:nvPr/>
        </p:nvSpPr>
        <p:spPr>
          <a:xfrm>
            <a:off x="2500200" y="1071720"/>
            <a:ext cx="2212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литературовед и лингвист-руси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8"/>
          <p:cNvSpPr/>
          <p:nvPr/>
        </p:nvSpPr>
        <p:spPr>
          <a:xfrm>
            <a:off x="2500200" y="1928880"/>
            <a:ext cx="2428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трудов по истории русского языка, грамматике, лексике, языку и стилю русских писателей, текстолог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9"/>
          <p:cNvSpPr/>
          <p:nvPr/>
        </p:nvSpPr>
        <p:spPr>
          <a:xfrm>
            <a:off x="443880" y="4000680"/>
            <a:ext cx="36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сикографии и историограф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0"/>
          <p:cNvSpPr/>
          <p:nvPr/>
        </p:nvSpPr>
        <p:spPr>
          <a:xfrm>
            <a:off x="428760" y="4286160"/>
            <a:ext cx="4214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градов — автор ряда заметных работ по истории русского языкознания. Свой анализ русской синтаксической традиции В. В. Виноградов изложил в книге «Из истории изучения русского синтакси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1"/>
          <p:cNvSpPr/>
          <p:nvPr/>
        </p:nvSpPr>
        <p:spPr>
          <a:xfrm>
            <a:off x="5072040" y="571680"/>
            <a:ext cx="38577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ьными понятиями в научной концепции Виноградова были понятия слова и стиля языка, связанные системно, социально и исторически. Его учение о слове как единстве грамматического и лексического значений оказалось чрезвычайно плодотворным и находилось в русле общих тенденций развития филологической науки. Систематика понятий, предложенных ученым, оказала влияние на построение описаний многих язы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2"/>
          <p:cNvSpPr/>
          <p:nvPr/>
        </p:nvSpPr>
        <p:spPr>
          <a:xfrm>
            <a:off x="5143680" y="4643280"/>
            <a:ext cx="4000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чи профессором Ленинградского и Московского университетов, Московского педагогического университета, Воспитал целое поколение русских лингвистов, которое продолжает развивать идеи своего учи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DLX\Desktop\master05_background.jpg"/>
          <p:cNvPicPr/>
          <p:nvPr/>
        </p:nvPicPr>
        <p:blipFill>
          <a:blip r:embed="rId1"/>
          <a:stretch/>
        </p:blipFill>
        <p:spPr>
          <a:xfrm>
            <a:off x="0" y="-35712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4"/>
          <p:cNvSpPr/>
          <p:nvPr/>
        </p:nvSpPr>
        <p:spPr>
          <a:xfrm>
            <a:off x="1428120" y="1428840"/>
            <a:ext cx="667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f2f2"/>
                </a:solidFill>
                <a:latin typeface="Georgia"/>
                <a:ea typeface="Times New Roman"/>
              </a:rPr>
              <a:t>По происхождению слов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f2f2"/>
                </a:solidFill>
                <a:latin typeface="Georgia"/>
                <a:ea typeface="Times New Roman"/>
              </a:rPr>
              <a:t>деля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Прямая со стрелкой 6"/>
          <p:cNvCxnSpPr/>
          <p:nvPr/>
        </p:nvCxnSpPr>
        <p:spPr>
          <a:xfrm>
            <a:off x="6213960" y="2786040"/>
            <a:ext cx="786600" cy="1000800"/>
          </a:xfrm>
          <a:prstGeom prst="straightConnector1">
            <a:avLst/>
          </a:prstGeom>
          <a:ln w="698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7" name="Прямая со стрелкой 8"/>
          <p:cNvCxnSpPr/>
          <p:nvPr/>
        </p:nvCxnSpPr>
        <p:spPr>
          <a:xfrm flipH="1">
            <a:off x="2714400" y="2714760"/>
            <a:ext cx="786240" cy="107208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8" name="TextBox 9"/>
          <p:cNvSpPr/>
          <p:nvPr/>
        </p:nvSpPr>
        <p:spPr>
          <a:xfrm>
            <a:off x="1078200" y="3929040"/>
            <a:ext cx="247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роизвод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5651640" y="4000680"/>
            <a:ext cx="28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производ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2"/>
          <p:cNvSpPr/>
          <p:nvPr/>
        </p:nvSpPr>
        <p:spPr>
          <a:xfrm>
            <a:off x="785880" y="4500720"/>
            <a:ext cx="407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ёд → ледник, ледяной, обледенеть;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лоть лёд → ледоко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олый лёд → гололёд, гололед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Users\DLX\Desktop\10.gif"/>
          <p:cNvPicPr/>
          <p:nvPr/>
        </p:nvPicPr>
        <p:blipFill>
          <a:blip r:embed="rId2"/>
          <a:stretch/>
        </p:blipFill>
        <p:spPr>
          <a:xfrm>
            <a:off x="500040" y="3643200"/>
            <a:ext cx="8240760" cy="235764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/>
          <p:cNvSpPr/>
          <p:nvPr/>
        </p:nvSpPr>
        <p:spPr>
          <a:xfrm>
            <a:off x="1437840" y="428760"/>
            <a:ext cx="686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вообразовательное гнезд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642960" y="15001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окупность всех однокоренных слов, расположенных с учётом последовательности их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C:\Users\DLX\Desktop\tihonov1_.jpg"/>
          <p:cNvPicPr/>
          <p:nvPr/>
        </p:nvPicPr>
        <p:blipFill>
          <a:blip r:embed="rId2"/>
          <a:stretch/>
        </p:blipFill>
        <p:spPr>
          <a:xfrm>
            <a:off x="214200" y="1428840"/>
            <a:ext cx="2714760" cy="3822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"/>
          <p:cNvSpPr/>
          <p:nvPr/>
        </p:nvSpPr>
        <p:spPr>
          <a:xfrm>
            <a:off x="1158480" y="214200"/>
            <a:ext cx="732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овообразовательный слова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7"/>
          <p:cNvSpPr/>
          <p:nvPr/>
        </p:nvSpPr>
        <p:spPr>
          <a:xfrm>
            <a:off x="3000240" y="1143000"/>
            <a:ext cx="3357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Тихонов Александр Никола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вестный советский, русский ученый лингвист, специалист в области русской 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ериватологии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Ученый сделал значительный вклад в разработку принципов составления гнездовых словообразовательных словарей, теоретических проблем словообразовательного гнез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C:\Users\DLX\Desktop\big.jpg"/>
          <p:cNvPicPr/>
          <p:nvPr/>
        </p:nvPicPr>
        <p:blipFill>
          <a:blip r:embed="rId3"/>
          <a:stretch/>
        </p:blipFill>
        <p:spPr>
          <a:xfrm>
            <a:off x="6286680" y="1500120"/>
            <a:ext cx="259524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14:41:48Z</dcterms:created>
  <dc:creator>DLX</dc:creator>
  <dc:description/>
  <dc:language>en-US</dc:language>
  <cp:lastModifiedBy>DLX</cp:lastModifiedBy>
  <dcterms:modified xsi:type="dcterms:W3CDTF">2012-02-08T15:02:10Z</dcterms:modified>
  <cp:revision>20</cp:revision>
  <dc:subject/>
  <dc:title>Слайд 1</dc:title>
</cp:coreProperties>
</file>