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955-094D-4334-AE65-92F0B51F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594-5AA0-4E3D-99B9-3758577C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AB4-4495-4BFA-A14E-83F4717E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ADD-F41D-486C-B5E0-0E82D7C9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A29-7D93-404E-A76E-4656A835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2D9-FC55-47C3-B19C-0B15141C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D5C-6FB3-4E55-AFA3-D7FAF52D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D93-18A7-476F-8893-281F1656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621-F07B-4FED-B90F-D306509E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370-3582-4CC6-A068-0BDA0537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CC5-A6A6-4D43-89A1-3527E9F4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864-4FEF-4FBA-80DC-A6EFF17C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9994-0E64-43FE-AE45-50D08B140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710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3284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476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d60093"/>
                </a:solidFill>
                <a:latin typeface="Arial"/>
              </a:rPr>
              <a:t>4 ноября  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d60093"/>
                </a:solidFill>
                <a:latin typeface="Arial"/>
              </a:rPr>
              <a:t>Де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774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7101000"/>
            <a:ext cx="4038480" cy="288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0" y="0"/>
            <a:ext cx="536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По преданию, эта ико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в 1612 году помогла освободить Москву от польской интервенци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и тогда этим событием завершился долгий пери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Смутного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406728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774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6009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1" i="1" lang="en-US" sz="36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1" i="1" lang="en-US" sz="3600" spc="-1" strike="noStrike">
                <a:solidFill>
                  <a:srgbClr val="003300"/>
                </a:solidFill>
                <a:latin typeface="Arial Black"/>
              </a:rPr>
              <a:t>    </a:t>
            </a: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Спаси и сохр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724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-1056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Казанская ико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была в ополчении во глав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с Кузьмой Минины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и князем Димитрием Пожарским, когда русские войска освободили Кремль и Москв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от враг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В память об этом событии на Красной площади был возведен Казанский собо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5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5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63720"/>
            <a:ext cx="82296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Во славу тех героев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Живем одной судьбой,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Сегодня День Единства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Мы празднуем с тобо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218040" y="-1473840"/>
            <a:ext cx="27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1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41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66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В День Единст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будем рядом,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Будем вместе навсегда,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Все народности России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В дальних селах, городах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Предков чтит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дела их помнить,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войн, конфликтов избегать,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чтобы счастье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жизнь наполнить,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чтоб под мирным небом спать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С историей не спорят, 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С историей живут,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Она объединяет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На подвиг и на труд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6187320"/>
            <a:ext cx="626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70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6858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60280"/>
            <a:ext cx="8820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Едино государство,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Когда един народ,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Когда великой силой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Он движется впере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ОУ СОШ №116      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ндарева В.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Д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                     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Народ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Един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Классный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i="1" lang="en-US" sz="7200" spc="-1" strike="noStrike">
                <a:solidFill>
                  <a:srgbClr val="d60093"/>
                </a:solidFill>
                <a:latin typeface="Arial Narrow"/>
              </a:rPr>
              <a:t> </a:t>
            </a:r>
            <a:r>
              <a:rPr b="1" i="1" lang="en-US" sz="7200" spc="-1" strike="noStrike">
                <a:solidFill>
                  <a:srgbClr val="d60093"/>
                </a:solidFill>
                <a:latin typeface="Arial Narrow"/>
              </a:rPr>
              <a:t>	</a:t>
            </a:r>
            <a:r>
              <a:rPr b="1" i="1" lang="en-US" sz="7200" spc="-1" strike="noStrike">
                <a:solidFill>
                  <a:srgbClr val="d60093"/>
                </a:solidFill>
                <a:latin typeface="Arial Narrow"/>
              </a:rPr>
              <a:t>	</a:t>
            </a:r>
            <a:r>
              <a:rPr b="1" i="1" lang="en-US" sz="7200" spc="-1" strike="noStrike">
                <a:solidFill>
                  <a:srgbClr val="d60093"/>
                </a:solidFill>
                <a:latin typeface="Arial Narrow"/>
              </a:rPr>
              <a:t>  </a:t>
            </a:r>
            <a:r>
              <a:rPr b="1" i="1" lang="en-US" sz="7200" spc="-1" strike="noStrike">
                <a:solidFill>
                  <a:srgbClr val="d60093"/>
                </a:solidFill>
                <a:latin typeface="Arial Narrow"/>
              </a:rPr>
              <a:t>Народного </a:t>
            </a:r>
            <a:br>
              <a:rPr sz="7200"/>
            </a:br>
            <a:r>
              <a:rPr b="1" i="1" lang="en-US" sz="7200" spc="-1" strike="noStrike">
                <a:solidFill>
                  <a:srgbClr val="d60093"/>
                </a:solidFill>
                <a:latin typeface="Arial Narrow"/>
              </a:rPr>
              <a:t>	</a:t>
            </a:r>
            <a:r>
              <a:rPr b="1" i="1" lang="en-US" sz="7200" spc="-1" strike="noStrike">
                <a:solidFill>
                  <a:srgbClr val="d60093"/>
                </a:solidFill>
                <a:latin typeface="Arial Narrow"/>
              </a:rPr>
              <a:t>	</a:t>
            </a:r>
            <a:r>
              <a:rPr b="1" i="1" lang="en-US" sz="7200" spc="-1" strike="noStrike">
                <a:solidFill>
                  <a:srgbClr val="d60093"/>
                </a:solidFill>
                <a:latin typeface="Arial Narrow"/>
              </a:rPr>
              <a:t> Единства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919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Почти 4 столетия наз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в начале нояб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народное ополч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во глав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с купцом Минины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и воеводой Пожарским прогнало польских интервентов из Москв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и положило начало конц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так называемом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Смутному време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В Сму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власть делили между собой бояре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а Речь Посполитая уже планирова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где и что на Руси возвед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когда приберет ее к ру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Тянулось это дол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и если бы у польской шлях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осуществились пла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то не жить бы нам с вами ни в ССС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ни в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Кто его знает, кем бы мы сейчас были?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19000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Опол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Минина и Пожар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уникально тем, что это единственный приме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в русской истори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когда судьб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страны и государст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решил сам нар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без участия вл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р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кидывался на воору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следними грош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 шел освобождать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 наводить порядок в стол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евать шли не за царя –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го не был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юрики закончилис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мановы еще не нача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ши пра-пра-пра-пра-много раз пра-деды шли воевать за  русскую земл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 они победи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огда объединились все сосло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се национа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еревни, города и метропо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3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3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3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3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3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30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175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 Black"/>
              </a:rPr>
              <a:t>Этот день по праву называю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Arial Black"/>
              </a:rPr>
              <a:t>Днем Народного Единст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i="1" lang="en-US" sz="5400" spc="-1" strike="noStrike">
                <a:solidFill>
                  <a:srgbClr val="ff0000"/>
                </a:solidFill>
                <a:latin typeface="Arial Black"/>
              </a:rPr>
              <a:t>Другого такого дн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 Black"/>
              </a:rPr>
              <a:t>в русской истори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 Black"/>
              </a:rPr>
              <a:t>не был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153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В новой Росси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мы отмеча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новый праздни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Но не такой он уж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и новы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а просто хорошо забытый старый.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139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Долгое время на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i="1" lang="en-US" sz="3200" spc="-1" strike="noStrike">
                <a:solidFill>
                  <a:srgbClr val="d60093"/>
                </a:solidFill>
                <a:latin typeface="Arial Narrow"/>
              </a:rPr>
              <a:t>4 ноября 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отме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осенний празд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 Narrow"/>
              </a:rPr>
              <a:t>	</a:t>
            </a:r>
            <a:r>
              <a:rPr b="1" i="1" lang="en-US" sz="2800" spc="-1" strike="noStrike">
                <a:solidFill>
                  <a:srgbClr val="d60093"/>
                </a:solidFill>
                <a:latin typeface="Arial Narrow"/>
              </a:rPr>
              <a:t>	</a:t>
            </a:r>
            <a:r>
              <a:rPr b="1" i="1" lang="en-US" sz="3200" spc="-1" strike="noStrike">
                <a:solidFill>
                  <a:srgbClr val="d60093"/>
                </a:solidFill>
                <a:latin typeface="Arial Narrow"/>
              </a:rPr>
              <a:t>Казанской ик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Arial Narrow"/>
              </a:rPr>
              <a:t>	</a:t>
            </a:r>
            <a:r>
              <a:rPr b="1" i="1" lang="en-US" sz="3200" spc="-1" strike="noStrike">
                <a:solidFill>
                  <a:srgbClr val="d60093"/>
                </a:solidFill>
                <a:latin typeface="Arial Narrow"/>
              </a:rPr>
              <a:t>	</a:t>
            </a:r>
            <a:r>
              <a:rPr b="1" i="1" lang="en-US" sz="3200" spc="-1" strike="noStrike">
                <a:solidFill>
                  <a:srgbClr val="d60093"/>
                </a:solidFill>
                <a:latin typeface="Arial Narrow"/>
              </a:rPr>
              <a:t>Божией 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 Narrow"/>
              </a:rPr>
              <a:t>     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как государственный -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в честь дня освобо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Москвы от поляков в 1612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Это был один из самых любимых на Руси 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00"/>
                </a:solidFill>
                <a:latin typeface="Arial Narrow"/>
              </a:rPr>
              <a:t>   </a:t>
            </a:r>
            <a:r>
              <a:rPr b="1" i="1" lang="en-US" sz="3600" spc="-1" strike="noStrike">
                <a:solidFill>
                  <a:srgbClr val="d60093"/>
                </a:solidFill>
                <a:latin typeface="Arial Narrow"/>
              </a:rPr>
              <a:t>Казанский образ Богородицы,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  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Которая явила свое чудесное заступни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                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за  Русь  в  Смутное 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43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3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5:46:38Z</dcterms:created>
  <dc:creator/>
  <dc:description/>
  <dc:language>en-US</dc:language>
  <cp:lastModifiedBy>ВАЛЯ</cp:lastModifiedBy>
  <dcterms:modified xsi:type="dcterms:W3CDTF">2012-02-08T15:19:5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