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F80-EA39-4F81-9335-4FD45E3E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550-C968-4B51-9108-D24C49A8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F00-DDF1-4BD1-9B09-08141EE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C94-9FA3-48CB-A473-67C24F1B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71D-20D2-484F-9014-B102B3C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C4E-08A8-4D37-8EB3-2E85979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272-233A-4382-8E38-975841E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73B-21E4-4DD5-A870-E4A2172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0BF-A458-4065-8A55-A3D610D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8C6-21AB-428C-821C-DEB69582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4BC-1D7B-4179-82DD-BAC93AC8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684-F375-4141-BAE2-BC20617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F51-F646-492E-B3FA-D8D411B3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29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891540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Прави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дорож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движен</a:t>
            </a:r>
            <a:r>
              <a:rPr b="1" i="1" lang="ru-RU" sz="2800" spc="-1" strike="noStrike">
                <a:solidFill>
                  <a:srgbClr val="009999"/>
                </a:solidFill>
                <a:latin typeface="Arial Black"/>
              </a:rPr>
              <a:t>И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  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с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       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1" i="1" lang="ru-RU" sz="6600" spc="-1" strike="noStrike">
                <a:solidFill>
                  <a:srgbClr val="009999"/>
                </a:solidFill>
                <a:latin typeface="Comic Sans MS"/>
              </a:rPr>
              <a:t>Смешарик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0" t="0" r="6891" b="0"/>
          <a:stretch/>
        </p:blipFill>
        <p:spPr>
          <a:xfrm>
            <a:off x="5715000" y="1752480"/>
            <a:ext cx="234144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00000" cy="981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770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6868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И ещё меня послуш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Э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оче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важно 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Нюша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5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5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92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Чтобы не было несчаст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никогда нельзя иг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на проезже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Все запомни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друзья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      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на проезжей части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грать ни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1" i="1" lang="en-US" sz="6000" spc="-1" strike="noStrike">
                <a:solidFill>
                  <a:srgbClr val="ff0000"/>
                </a:solidFill>
                <a:latin typeface="Comic Sans MS"/>
              </a:rPr>
              <a:t>нельзя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1008000" cy="1722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65564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5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61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6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Не беги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перед машиной –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 Тормозной путь        очень длинный,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 А когда машина           мчится –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Может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вмиг</a:t>
            </a:r>
            <a:r>
              <a:rPr b="1" i="1" lang="en-US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остановиться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НЕТ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Чтобы ей остановиться –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Надо 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метров    семь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катиться!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собьёт в пути любого: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3300"/>
                </a:solidFill>
                <a:latin typeface="Comic Sans MS"/>
              </a:rPr>
              <a:t>Хоть ребенка, хоть большого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0" r="6891" b="0"/>
          <a:stretch/>
        </p:blipFill>
        <p:spPr>
          <a:xfrm>
            <a:off x="0" y="5950080"/>
            <a:ext cx="826920" cy="90792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92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152280" y="380880"/>
            <a:ext cx="868680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Спереди трамвай обходят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пешеходы, зная,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что грозит опасность им 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от встречного трамва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Автобус и троллейбус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надо сзади обходить,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чтоб дорогу видеть слева-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 и  машины    пропустить</a:t>
            </a:r>
            <a:r>
              <a:rPr b="0" i="1" lang="en-US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826920" cy="79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826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6891" b="0"/>
          <a:stretch/>
        </p:blipFill>
        <p:spPr>
          <a:xfrm>
            <a:off x="8317080" y="5877000"/>
            <a:ext cx="826920" cy="98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885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456840"/>
            <a:ext cx="7924680" cy="61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Молод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Бараш 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и Нюш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Знают правила движень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Непременно        попад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ко мне на день рожд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5270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МОУ СОШ №1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Совет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г.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 Black"/>
              </a:rPr>
              <a:t>«Стоп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0" i="1" lang="en-US" sz="3600" spc="-1" strike="noStrike">
                <a:solidFill>
                  <a:srgbClr val="ffff00"/>
                </a:solidFill>
                <a:latin typeface="Arial Black"/>
              </a:rPr>
              <a:t>Твоя жизнь в опасности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Бондарева Валентина Никола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номинация: мультимедийная презентация для классного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цель: знакомство с Правилами Дорожного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115920"/>
            <a:ext cx="900000" cy="98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747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459000"/>
            <a:ext cx="9144000" cy="755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-Кар-Карыч ждёт нас в г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пойдём на день рожден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-Попасть к нему непрос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такое там движень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Я правила движен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отлично знаю, Нюш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Держись за руку крепч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Comic Sans MS"/>
              </a:rPr>
              <a:t>внимательно послушай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10480" y="-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73272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96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5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Знаки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дорожные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СЕМ помог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0000cc"/>
                </a:solidFill>
                <a:latin typeface="Comic Sans MS"/>
              </a:rPr>
              <a:t>предупреждают</a:t>
            </a:r>
            <a:r>
              <a:rPr b="1" i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660066"/>
                </a:solidFill>
                <a:latin typeface="Comic Sans MS"/>
              </a:rPr>
              <a:t>они,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запрещаю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en-US" sz="4800" spc="-1" strike="noStrike">
                <a:solidFill>
                  <a:srgbClr val="0000cc"/>
                </a:solidFill>
                <a:latin typeface="Comic Sans MS"/>
              </a:rPr>
              <a:t>информируют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0000cc"/>
                </a:solidFill>
                <a:latin typeface="Comic Sans MS"/>
              </a:rPr>
              <a:t>указывают,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3300"/>
                </a:solidFill>
                <a:latin typeface="Comic Sans MS"/>
              </a:rPr>
              <a:t>КАК КОМУ ДВИГАТЬЯ ЗНАКИ </a:t>
            </a:r>
            <a:r>
              <a:rPr b="1" i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АССКАЗЫ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0" r="6891" b="0"/>
          <a:stretch/>
        </p:blipFill>
        <p:spPr>
          <a:xfrm>
            <a:off x="7812000" y="306864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2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052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Шагая осторожно, 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за улицей след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и только т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где можно, 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её переходи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6891" b="0"/>
          <a:stretch/>
        </p:blipFill>
        <p:spPr>
          <a:xfrm>
            <a:off x="8028000" y="558972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457560" y="457200"/>
            <a:ext cx="85345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Переход через дорогу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мы с тоб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легко найдём: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полосатая дорожка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Comic Sans MS"/>
              </a:rPr>
              <a:t>нарисована на нём.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6891" b="0"/>
          <a:stretch/>
        </p:blipFill>
        <p:spPr>
          <a:xfrm>
            <a:off x="8136000" y="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861048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Интенсивное движенье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Видишь, как малы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растеря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Comic Sans MS"/>
              </a:rPr>
              <a:t>Он испуган, он в сомнень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omic Sans MS"/>
              </a:rPr>
              <a:t>Что же делать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omic Sans MS"/>
              </a:rPr>
              <a:t>Как тут быть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i="1" lang="en-US" sz="4000" spc="-1" strike="noStrike">
                <a:solidFill>
                  <a:srgbClr val="ff0066"/>
                </a:solidFill>
                <a:latin typeface="Comic Sans MS"/>
              </a:rPr>
              <a:t>Как  ему  переходить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528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69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0" r="6891" b="0"/>
          <a:stretch/>
        </p:blipFill>
        <p:spPr>
          <a:xfrm>
            <a:off x="7812000" y="2421000"/>
            <a:ext cx="720720" cy="504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3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При таком дви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Нужен          без сом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переход подземны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Каждому тут ясн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5400" spc="-1" strike="noStrike">
                <a:solidFill>
                  <a:srgbClr val="66ff33"/>
                </a:solidFill>
                <a:latin typeface="Comic Sans MS"/>
              </a:rPr>
              <a:t>это безопас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891" b="0"/>
          <a:stretch/>
        </p:blipFill>
        <p:spPr>
          <a:xfrm>
            <a:off x="8136000" y="570564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81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9372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День и ночь несёт дозор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   На дороге 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 светофор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Красным глазом     подмигнёт –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Остановится               наро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Жёлтый свет горит под красным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Все равно             идти опасно!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Если жёлтый        –       просто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На зелёный         –         про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981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0" r="6891" b="0"/>
          <a:stretch/>
        </p:blipFill>
        <p:spPr>
          <a:xfrm>
            <a:off x="8317080" y="0"/>
            <a:ext cx="826920" cy="981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152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04920" y="-914760"/>
            <a:ext cx="9220320" cy="76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Светофор всегда на страже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По ночам не спит он даж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Аккуратно, не спешим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Не несемся, не беж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Comic Sans MS"/>
              </a:rPr>
              <a:t>Зелёный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– безопасный,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Зато опасен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красный.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8000"/>
                </a:solidFill>
                <a:latin typeface="Comic Sans MS"/>
              </a:rPr>
              <a:t>Зелёный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– мы ид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А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жёлтый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с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красным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 – жд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98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0" r="6891" b="0"/>
          <a:stretch/>
        </p:blipFill>
        <p:spPr>
          <a:xfrm>
            <a:off x="0" y="5877000"/>
            <a:ext cx="826920" cy="981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4:16:30Z</dcterms:created>
  <dc:creator/>
  <dc:description/>
  <dc:language>en-US</dc:language>
  <cp:lastModifiedBy>ВАЛЯ</cp:lastModifiedBy>
  <dcterms:modified xsi:type="dcterms:W3CDTF">2012-02-08T15:55:4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