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7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16.jpeg" ContentType="image/jpeg"/>
  <Override PartName="/ppt/media/image3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F7A-4F48-49AE-B204-66CD48F5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EA8-703D-4138-A2E2-26E7BCF3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147-1D8F-4A4B-BC86-2B0A8BFD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A67-5B4C-4B45-9BB1-A712F212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E15-87A5-49B2-BA8E-30A29C60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2A4-ED61-457F-B02B-0AE2FEE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E9A-4E44-46B1-8934-56A9D15F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6D5-6BB3-4DB6-A79E-C66D2F48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FAC-58BC-404E-B1B0-AE2F9B0A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F2B-0992-4980-A790-000CDF6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E3C-60DF-43D8-A589-C6BDE1D8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F35-F6AB-4BBB-A427-AD25D00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7C22-CA1E-471F-A4EF-D4E9DA08B9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aint-petersburg.ru/i/photo_img_small/716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journeyto.spb.ru/images/journeyto.spb.ru/8-8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okrugsveta.ru/photo/thumbnails/1024/564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26920" y="692280"/>
          <a:ext cx="712980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129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291520" cy="484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нализ эпизода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романа Ф.М.Достоевского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 Преступление и наказание».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 Знакомство Раскольникова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 Свидригайловым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826920" y="692280"/>
          <a:ext cx="712980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129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кротемы диалог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авдания Свидригайлова по поводу преследований Дуни и смерти Марфы Петров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лое Свидригайло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д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 веч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ьба Авдотьи Романо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св"/>
          <p:cNvPicPr/>
          <p:nvPr/>
        </p:nvPicPr>
        <p:blipFill>
          <a:blip r:embed="rId1"/>
          <a:stretch/>
        </p:blipFill>
        <p:spPr>
          <a:xfrm>
            <a:off x="395280" y="1557360"/>
            <a:ext cx="3672000" cy="4832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539640" y="5079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кой прием использует Ф.М.Досто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для выражения чувства своего геро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Р2"/>
          <p:cNvPicPr/>
          <p:nvPr/>
        </p:nvPicPr>
        <p:blipFill>
          <a:blip r:embed="rId1"/>
          <a:stretch/>
        </p:blipFill>
        <p:spPr>
          <a:xfrm>
            <a:off x="611280" y="2060640"/>
            <a:ext cx="3960720" cy="424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324000" y="62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означают слова Раскольникова : «Я не верю в будущую жизнь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кротемы диалог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авдания Свидригайлова по поводу преследований Дуни и смерти Марфы Петров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лое Свидригайло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д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 веч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ьба Авдотьи Романо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с2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611280" y="118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« Оправдание Свидригайлова по поводу преследования Дуни и смерти Марфы  Петровны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Р5"/>
          <p:cNvPicPr/>
          <p:nvPr/>
        </p:nvPicPr>
        <p:blipFill>
          <a:blip r:embed="rId1"/>
          <a:stretch/>
        </p:blipFill>
        <p:spPr>
          <a:xfrm>
            <a:off x="1476360" y="1989000"/>
            <a:ext cx="6553080" cy="4348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95280" y="2224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«Это – то я без вас понимаю, что не здоров,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хотя, право, не знаю чем; по – моем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я наверно, здоровее вас впятер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кротемы диалог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авдания Свидригайлова по поводу преследований Дуни и смерти Марфы Петров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лое Свидригайло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д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 веч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ьба Авдотьи Романо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Картинка 11 из 1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836640"/>
            <a:ext cx="8497800" cy="5688000"/>
          </a:xfrm>
          <a:prstGeom prst="rect">
            <a:avLst/>
          </a:prstGeom>
          <a:ln w="0">
            <a:noFill/>
          </a:ln>
        </p:spPr>
      </p:pic>
      <p:pic>
        <p:nvPicPr>
          <p:cNvPr id="44" name="12.mp3" descr=""/>
          <p:cNvPicPr/>
          <p:nvPr/>
        </p:nvPicPr>
        <p:blipFill>
          <a:blip r:embed="rId4"/>
          <a:stretch/>
        </p:blipFill>
        <p:spPr>
          <a:xfrm>
            <a:off x="860436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2050920" y="1557360"/>
          <a:ext cx="5761080" cy="43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557360"/>
                    <a:ext cx="5761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3"/>
          <p:cNvSpPr/>
          <p:nvPr/>
        </p:nvSpPr>
        <p:spPr>
          <a:xfrm>
            <a:off x="539640" y="2228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Поездка в Америку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образ веч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кротемы диалог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авдания Свидригайлова по поводу преследований Дуни и смерти Марфы Петров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лое Свидригайло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д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 веч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ьба Авдотьи Романо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1332000" y="981000"/>
          <a:ext cx="6553080" cy="50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81000"/>
                    <a:ext cx="6553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1042920" y="1413000"/>
          <a:ext cx="655344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65534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"/>
          <p:cNvSpPr/>
          <p:nvPr/>
        </p:nvSpPr>
        <p:spPr>
          <a:xfrm>
            <a:off x="539640" y="3027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Болезнь душ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с2"/>
          <p:cNvPicPr/>
          <p:nvPr/>
        </p:nvPicPr>
        <p:blipFill>
          <a:blip r:embed="rId1"/>
          <a:stretch/>
        </p:blipFill>
        <p:spPr>
          <a:xfrm>
            <a:off x="826920" y="692280"/>
            <a:ext cx="7129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Раскольников"/>
          <p:cNvPicPr/>
          <p:nvPr/>
        </p:nvPicPr>
        <p:blipFill>
          <a:blip r:embed="rId1"/>
          <a:stretch/>
        </p:blipFill>
        <p:spPr>
          <a:xfrm>
            <a:off x="971640" y="620640"/>
            <a:ext cx="6985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826920" y="692280"/>
          <a:ext cx="712980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129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Картинка 8 из 1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735120"/>
            <a:ext cx="72010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Картинка 5 из 1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3664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Г6"/>
          <p:cNvPicPr/>
          <p:nvPr/>
        </p:nvPicPr>
        <p:blipFill>
          <a:blip r:embed="rId1"/>
          <a:stretch/>
        </p:blipFill>
        <p:spPr>
          <a:xfrm>
            <a:off x="324000" y="560520"/>
            <a:ext cx="835164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"/>
          <p:cNvPicPr/>
          <p:nvPr/>
        </p:nvPicPr>
        <p:blipFill>
          <a:blip r:embed="rId1"/>
          <a:stretch/>
        </p:blipFill>
        <p:spPr>
          <a:xfrm>
            <a:off x="1692360" y="404640"/>
            <a:ext cx="57592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Г6"/>
          <p:cNvPicPr/>
          <p:nvPr/>
        </p:nvPicPr>
        <p:blipFill>
          <a:blip r:embed="rId1"/>
          <a:stretch/>
        </p:blipFill>
        <p:spPr>
          <a:xfrm>
            <a:off x="1042920" y="682560"/>
            <a:ext cx="712944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5805360"/>
            <a:ext cx="78598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Фёдор Михайлович Достоевск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ost"/>
          <p:cNvPicPr/>
          <p:nvPr/>
        </p:nvPicPr>
        <p:blipFill>
          <a:blip r:embed="rId1"/>
          <a:stretch/>
        </p:blipFill>
        <p:spPr>
          <a:xfrm>
            <a:off x="2411280" y="681120"/>
            <a:ext cx="4753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1476360" y="404640"/>
          <a:ext cx="6480360" cy="61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04640"/>
                    <a:ext cx="64803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1:22:11Z</dcterms:created>
  <dc:creator>Николаев Николай Николаевич</dc:creator>
  <dc:description/>
  <dc:language>en-US</dc:language>
  <cp:lastModifiedBy>Admin</cp:lastModifiedBy>
  <dcterms:modified xsi:type="dcterms:W3CDTF">2012-02-08T08:27:49Z</dcterms:modified>
  <cp:revision>10</cp:revision>
  <dc:subject/>
  <dc:title>Федор Михайлович Достоевский</dc:title>
</cp:coreProperties>
</file>