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6CC-3AEE-497E-8EAF-757DFA78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324-AFED-4648-81DF-3B1FBCF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B30-2CDF-40B3-8678-54DCFD79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F91-C5FC-46A6-BD5D-FFFFDC87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416-5D12-48C9-9F79-3714BE31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896-9FBA-4B2E-BC5F-344167C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524-303E-4FE8-BE05-1549C05D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A1C-9B99-4FDB-BF53-8AD5530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190-4C53-44E2-A215-8E1CA54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E7A-F49E-4C94-8521-F210BB7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C12-8824-4A39-AB0A-4D9CC11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9B8-98CB-4DA5-A299-77933B1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7669-AE24-4959-81DD-8A21F0299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- это та первичная сред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человек должен учиться творить добр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0" descr="1242325612_339258[1]"/>
          <p:cNvPicPr/>
          <p:nvPr/>
        </p:nvPicPr>
        <p:blipFill>
          <a:blip r:embed="rId1"/>
          <a:stretch/>
        </p:blipFill>
        <p:spPr>
          <a:xfrm>
            <a:off x="1295280" y="1905120"/>
            <a:ext cx="7010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связи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кол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сем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5" descr="i[30]"/>
          <p:cNvPicPr/>
          <p:nvPr/>
        </p:nvPicPr>
        <p:blipFill>
          <a:blip r:embed="rId1"/>
          <a:stretch/>
        </p:blipFill>
        <p:spPr>
          <a:xfrm>
            <a:off x="2743200" y="3938760"/>
            <a:ext cx="3352680" cy="218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на дом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лашение в школ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консультации педагог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пис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CASF2763"/>
          <p:cNvPicPr/>
          <p:nvPr/>
        </p:nvPicPr>
        <p:blipFill>
          <a:blip r:embed="rId1"/>
          <a:stretch/>
        </p:blipFill>
        <p:spPr>
          <a:xfrm>
            <a:off x="5257800" y="15238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ппов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ьский лектор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ческие консульт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детские мероприят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ьские веч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4" descr="i[80]"/>
          <p:cNvPicPr/>
          <p:nvPr/>
        </p:nvPicPr>
        <p:blipFill>
          <a:blip r:embed="rId1"/>
          <a:stretch/>
        </p:blipFill>
        <p:spPr>
          <a:xfrm>
            <a:off x="4876920" y="2362320"/>
            <a:ext cx="32763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е родительские собр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школьные родительские собр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и открытых двер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р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и учебных рабо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ие отч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КОЛА – СЕМЬЯ - ОБЩЕ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вместная деятельность педагогов, родителей и детей может быть успешной, если все положительно настроены на совместную работу, действуют сообща, осуществляют совместное планирование, подводят итог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A0LZ52E"/>
          <p:cNvPicPr/>
          <p:nvPr/>
        </p:nvPicPr>
        <p:blipFill>
          <a:blip r:embed="rId1"/>
          <a:stretch/>
        </p:blipFill>
        <p:spPr>
          <a:xfrm>
            <a:off x="990720" y="1143000"/>
            <a:ext cx="2895480" cy="21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AIZAJOZ"/>
          <p:cNvPicPr/>
          <p:nvPr/>
        </p:nvPicPr>
        <p:blipFill>
          <a:blip r:embed="rId2"/>
          <a:stretch/>
        </p:blipFill>
        <p:spPr>
          <a:xfrm>
            <a:off x="5181480" y="1143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ование компьютеров и сетей даст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полнительные возможности для взаимодействия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убъектов образовательного процесс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KTAPKV"/>
          <p:cNvPicPr/>
          <p:nvPr/>
        </p:nvPicPr>
        <p:blipFill>
          <a:blip r:embed="rId1"/>
          <a:stretch/>
        </p:blipFill>
        <p:spPr>
          <a:xfrm>
            <a:off x="5181480" y="24382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AWXUJ0X"/>
          <p:cNvPicPr/>
          <p:nvPr/>
        </p:nvPicPr>
        <p:blipFill>
          <a:blip r:embed="rId2"/>
          <a:stretch/>
        </p:blipFill>
        <p:spPr>
          <a:xfrm>
            <a:off x="1066680" y="2362320"/>
            <a:ext cx="3429000" cy="335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ремя требует существенно разнообразить формы проведения родительских собр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CASLY36T"/>
          <p:cNvPicPr/>
          <p:nvPr/>
        </p:nvPicPr>
        <p:blipFill>
          <a:blip r:embed="rId1"/>
          <a:stretch/>
        </p:blipFill>
        <p:spPr>
          <a:xfrm>
            <a:off x="2278080" y="1981080"/>
            <a:ext cx="4587840" cy="449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традиционные формы сотрудничества классного руководителя с родител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ьски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ьские веч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ьские трени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ьские ри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мья + 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33560" y="228564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ет всё: люди, вещи, явления, но прежде всего и дольше всего — люди. Из них на первом месте —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ители и педаг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каренко А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5D79EC27"/>
          <p:cNvPicPr/>
          <p:nvPr/>
        </p:nvPicPr>
        <p:blipFill>
          <a:blip r:embed="rId1"/>
          <a:stretch/>
        </p:blipFill>
        <p:spPr>
          <a:xfrm>
            <a:off x="380880" y="1722600"/>
            <a:ext cx="3276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Всё в Ваших руках, …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i[25]"/>
          <p:cNvPicPr/>
          <p:nvPr/>
        </p:nvPicPr>
        <p:blipFill>
          <a:blip r:embed="rId1"/>
          <a:stretch/>
        </p:blipFill>
        <p:spPr>
          <a:xfrm>
            <a:off x="2743200" y="236232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высказывания Президента РФ Д.А. Медведев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нвестиции в человека, в его образование, здоровье, в качество жизни стали ключевой идеей развития страны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AZI1DLT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ДОКИМОВА ИРИН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0" descr="8b3eaa7c8379[1]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моему глубокому убеждению, педагогика должна стать наукой для всех – и для учителей, и для родителей.</a:t>
            </a:r>
            <a:br>
              <a:rPr sz="4400"/>
            </a:br>
            <a:br>
              <a:rPr sz="4400"/>
            </a:b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.А. 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 учатся жить у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CAJDDRM2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ностика – не панацея, а средство, которое может помочь сделать проблему беспроблемной.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. ДОБ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20050430[2]"/>
          <p:cNvPicPr/>
          <p:nvPr/>
        </p:nvPicPr>
        <p:blipFill>
          <a:blip r:embed="rId1"/>
          <a:stretch/>
        </p:blipFill>
        <p:spPr>
          <a:xfrm>
            <a:off x="2743200" y="2895480"/>
            <a:ext cx="3733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28600" y="685800"/>
          <a:ext cx="8763120" cy="5486400"/>
        </p:xfrm>
        <a:graphic>
          <a:graphicData uri="http://schemas.openxmlformats.org/drawingml/2006/table">
            <a:tbl>
              <a:tblPr/>
              <a:tblGrid>
                <a:gridCol w="3382920"/>
                <a:gridCol w="2676600"/>
                <a:gridCol w="2703600"/>
              </a:tblGrid>
              <a:tr h="18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вар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ая диагно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диагно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ачальной школы и во все годы обучения в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дготовке различных мероприятий с родителями по определённой 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зучения результатов взаимодействия  учащихся, классного руководителя и родителей по той проблеме, которая была трудноразреши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е сложное в работе с детьми – это работа с их родителями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рый школьный афориз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лавная задача классного руковод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ствовать единению, спло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ьи, установлению взаим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телей и детей, созд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фортных условий для ребёнк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ье, а также изучение сем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бенностей и условий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тите ли Вы, не хотите ли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 дело, товарищи, в том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прежде всего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м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одители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всё остальное потом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. РОЖДЕСТВЕ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2-28T18:19:00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