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824-5519-4576-80CD-0FAB5420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886-AE62-42BB-86EB-39D655D7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A3E-7F32-4F53-8505-563FE08A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9E2-78AD-4CBC-8A02-ED8B09B3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7074-8D01-4404-90CC-3B29EBCF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7D93-98EC-4FF9-916D-87A1BC3C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0524-91D6-4657-9F76-B934F3CA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115E-5CE9-4431-9642-3D334F93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1252-E939-4307-B869-B8190CA9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A2DD-5CFE-493A-A319-12722A31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87C2-B0D2-4BE4-B16A-DC0DB3F8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8B9-0AE3-4F12-9A5A-F58F3870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BE69-FD24-4C5F-BC8E-111D7E7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6D93-1C7E-48D1-BF45-C74C394C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C6C1-DC58-4C65-B81D-17F76835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B4E5-E3FF-4728-824D-A9EB80C7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8F07-9785-4CE4-A2B2-126B61AD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7FE-54D1-40AA-9394-E19BF305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8B7-15DD-4DD1-983B-16AA2F3D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A6A-AA3A-4A81-AFAF-C5E82607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717-20C7-450A-9747-4CE8B07F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4E6-F97D-49C5-BB03-72A2026C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7CE-04BF-4A80-A60D-2BBF0997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707-1A96-4E8D-BD9B-13DC5063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18AE7E-4BE8-4643-9BAE-581A796BF05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09200" cy="51040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4480" cy="30466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35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7720" cy="446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6080" cy="31068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4640" cy="5118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55786F-8694-4D75-AF6E-F734570D692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63000"/>
            <a:ext cx="883908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ТРОЕНИЕ ЦВЕТКОВЫХ РАСТЕНИЙ.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1800360"/>
            <a:ext cx="6300720" cy="41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Выполнила: Петухова Ю.В., учитель биологии и химии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Рассмотреть растение и зарисовать его органы. Сделать подписи к рисунку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Рис. 93-94 на с. 159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2743200" cy="2590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§ 3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Задание «Доктор Айболит»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дготовить сообщение о дикорастущем лекарственном растении: нарисовать его, указать при каких заболеваниях его принимают, правила приготовления и приёма лека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втор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общего между растениями и живыми организм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м растения отличаются от других живых организм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 газ поглощают и выделяют растения в процессе дых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 газ поглощают и выделяют растения в процессе фотосинтез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кое время суток проходят процессы дыхание и фотосинтез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какие группы делятся растения? Приведит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растения называются цветковы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812960" cy="15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ru-RU" sz="4000" spc="-1" strike="noStrike">
                <a:solidFill>
                  <a:srgbClr val="ffffb7"/>
                </a:solidFill>
                <a:latin typeface="Arial Black"/>
              </a:rPr>
              <a:t>Растительный ми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Флора –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 растения произрастающие на Земл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Растения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клеточные (хлорелла, хламидомонад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ногоклеточные (мхи, папоротники, хвойные, цветковы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ение цветкового раст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096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5945040"/>
            <a:ext cx="1676160" cy="2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6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Корень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епление растений в почве, поглощение воды и минеральных веществ из почвы, в корне вырабатываются необходимые для жизни растений органические ве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5623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93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Стебел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емная часть растения, связывает корень и лист; обеспечивает прохождение воды и питательных веществ к листьям и цветк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Лист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вает процесс фотосинтеза, испарение воды и процесс газообм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1781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84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Цветок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 размножения растений, в котором развиваются семена.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ести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женская часть цветка.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Тычин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меет пыльник, внутри которого созревает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ыль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микроспоры. Тычинки и пестик защищены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енчик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стоит из лепе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5486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ение цве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971800"/>
            <a:ext cx="3124080" cy="28195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095880" cy="464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562720" y="2895480"/>
            <a:ext cx="2361960" cy="6098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705720" y="3503160"/>
            <a:ext cx="1218960" cy="9939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3352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1141560" y="2284560"/>
            <a:ext cx="3355920" cy="152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ст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038480" y="1750680"/>
            <a:ext cx="1981440" cy="13748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76920" y="1750680"/>
            <a:ext cx="1218960" cy="1755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15238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чи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523880" y="6094440"/>
            <a:ext cx="914400" cy="79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ветон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5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ше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952880"/>
            <a:ext cx="838080" cy="228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09-04-03T11:39:3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