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A4851-2FB6-4C74-94C9-17C335751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2ABF4-370D-46F5-851A-A6080C07C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BC98E-D1AB-4C3F-997B-8B324BFDC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2321B-CF46-4452-9B98-BFDE582DB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41702-93AF-4907-A524-BF56FBEC2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5C74A-5087-4AF7-87B3-B37049558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609C1-9D69-49F5-AE8A-ECF06CFEA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64B38-83FF-49FD-AEEA-B0EF3861F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7FAD1-36A9-48C5-ACE8-6CAC2EEDA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2C995-4C27-4A4F-A627-3313A2C17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C1F50-C611-44D6-8951-8E150A3F9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45D97-955E-4961-A423-6F1A58139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CB03B-8FDA-4BD7-9F70-CC2822E01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DDFAB-0EB5-4D1E-B77A-D9879BF2B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19D1D-2C69-4068-8A68-FBD02A738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F3EDF-36EE-4BF4-B142-4DFF2A3C4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D72AA-CD0E-4338-B270-F4BA2FED5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E5993AF-C06C-41C1-8934-61334E871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CD6CC51-E64C-4D7C-BA9F-7378CC681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8C524A-C64B-4A5E-9C32-16995E939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DE234B7-DC75-4BE6-BCA3-FFD8B6B49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50D6084-F815-4436-ABA4-C23A638A6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79286-8C40-42FC-9FE5-3FD4A236E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D79DC27-9485-4717-8B6F-30AA6383D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FBBE4D0-C3B0-4D7F-ABFC-52D86F9FD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4E86B71-2AE5-44D8-BC5A-4314A55A7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EBF4DD3-9A18-4E58-A5E5-0C249B9D0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B36EEEB-4D84-45B2-83D8-1866E1C9D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53406B0-6B70-4C26-B496-B1DF6391D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00D957A-8A35-4A69-B7D5-C59C342DE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FE5D1E-DB78-427E-8C83-73FCF4F56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B5A1E1-A636-4C0A-8B32-BA67E99CD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A4A6E6-4135-42D8-A824-A86E90013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67E22-8F21-42D7-87FE-702BD690E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D2CED1-ADEE-458E-83D2-D2159C33B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DC895F-51BA-40B9-8112-5F1F59942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51ECA9-C952-495B-A49B-55F109637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6EE1EB-16DB-4D41-9AB2-1E18D96F7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D1DE33-DE3A-4F3D-A6C8-9042D1BD4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DBCABE-1FAC-40CC-A17A-20D855CEA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311F9E-996D-4309-BF5E-17294A41B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D7A415-7FE2-4C10-8A44-2D587C174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B35845-8039-4049-AC7C-DBC40370B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602A8-2207-4A0B-AB18-B501E4ED7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CCCE9-E3E7-4A6A-A938-5BA8D529A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8F6BF-6102-4E8E-81A7-D4DF90438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336E7-69A0-4121-B793-A005AE254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0E6A2-95E5-4C84-BBF4-748A4BA70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c050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c050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7360" indent="-246240">
              <a:spcBef>
                <a:spcPts val="300"/>
              </a:spcBef>
              <a:buClr>
                <a:srgbClr val="c0504d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22320" indent="-218880">
              <a:spcBef>
                <a:spcPts val="300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179360" indent="-199800">
              <a:spcBef>
                <a:spcPts val="300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389240" indent="-182880">
              <a:spcBef>
                <a:spcPts val="300"/>
              </a:spcBef>
              <a:buClr>
                <a:srgbClr val="9bbb5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c050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504d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15A5F-C12B-4DD1-8C37-8E6D4DBD540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c050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3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c0504d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4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c0504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25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c0504d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Скругленный прямоугольник 26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Скругленный прямоугольник 40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41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c050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42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43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44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7360" indent="-246240">
              <a:spcBef>
                <a:spcPts val="300"/>
              </a:spcBef>
              <a:buClr>
                <a:srgbClr val="c0504d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22320" indent="-218880">
              <a:spcBef>
                <a:spcPts val="300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179360" indent="-199800">
              <a:spcBef>
                <a:spcPts val="300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389240" indent="-182880">
              <a:spcBef>
                <a:spcPts val="300"/>
              </a:spcBef>
              <a:buClr>
                <a:srgbClr val="9bbb5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c050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504d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E790F-BF8C-439D-B051-46619CD4D42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c050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c050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7360" indent="-246240">
              <a:spcBef>
                <a:spcPts val="300"/>
              </a:spcBef>
              <a:buClr>
                <a:srgbClr val="c0504d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22320" indent="-218880">
              <a:spcBef>
                <a:spcPts val="300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179360" indent="-199800">
              <a:spcBef>
                <a:spcPts val="300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389240" indent="-182880">
              <a:spcBef>
                <a:spcPts val="300"/>
              </a:spcBef>
              <a:buClr>
                <a:srgbClr val="9bbb5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c050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504d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A5426-10E6-4E17-BCCD-E856629BAFA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c050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c050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7360" indent="-246240">
              <a:spcBef>
                <a:spcPts val="300"/>
              </a:spcBef>
              <a:buClr>
                <a:srgbClr val="c0504d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22320" indent="-218880">
              <a:spcBef>
                <a:spcPts val="300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179360" indent="-199800">
              <a:spcBef>
                <a:spcPts val="300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389240" indent="-182880">
              <a:spcBef>
                <a:spcPts val="300"/>
              </a:spcBef>
              <a:buClr>
                <a:srgbClr val="9bbb5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c050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504d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3E61E-B76C-4091-88E6-4B69790C6EF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15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руктура урока</a:t>
            </a:r>
            <a:endParaRPr b="0" lang="en-US" sz="4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1371600" y="4214880"/>
            <a:ext cx="640080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3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Кафедра общественных наук и эстетического воспитания.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143000" y="1499760"/>
            <a:ext cx="692928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Структура урока – это совокупность его элементов, обеспечивающих целостность урока и сохранение основных проявлений при различных вариантах.</a:t>
            </a:r>
            <a:br>
              <a:rPr sz="2800"/>
            </a:br>
            <a:r>
              <a:rPr b="0" lang="en-US" sz="2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Составные части урока находятся в тесной взаимосвязи и осуществляются в определённой последовательности.</a:t>
            </a:r>
            <a:endParaRPr b="0" lang="en-US" sz="28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Комбинированный урок.</a:t>
            </a:r>
            <a:endParaRPr b="0" lang="en-US" sz="4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1500120"/>
            <a:ext cx="4038480" cy="39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онный моме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рка выполнения домашнего зад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ос учащихся по пройденному материал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ложение учителем нового материа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репление изученн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ние на д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648320" y="1000080"/>
            <a:ext cx="4038480" cy="55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я начала уро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рка домашнего зада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ка учащихся к восприятию нового учебного материала, т.е. актуализация знаний и практических умственных умен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учение нового материала, в том числе и объясн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репление материала, изученного на данном уроке и ранее пройденного, связанного с новы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общение и систематизация знаний и умений, связь новых с ранее полученными  и сформированным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ведение итогов и результатов уро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ние на до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ка (предварительна работа), необходимая учащимся для изучения новой темы (не всегда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4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Урок изучения нового материала</a:t>
            </a:r>
            <a:endParaRPr b="0" lang="en-US" sz="2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500040" y="999720"/>
            <a:ext cx="8229600" cy="54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ичное введение материала с учётом закономерностей процесса познания при высокой мыслительной активности учащих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азание на то, что учащиеся должны запомни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тивация запоминания и длительного сохранения в памя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общение либо актуализация техники запоминания (работа с опорными для памяти материалами, смысловая группировка и т.п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ичное закрепление под руководством учителя посредством прямого повторения, частичных вывод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роль результатов первичного запомин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гулярное систематизирующее повторение через короткие, а затем более длительные промежутки времени в сочетании с различными требованиями к воспроизведению, в том числе с дифференцированными задания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еннее повторение и постоянное применение полученных знаний и навыков для приобретения нов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стое включение опорного материала для запоминания в контроль знаний, регулярная оценка результат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357200"/>
            <a:ext cx="3008160" cy="37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В условия развивающего обучения предлагается рассматривать структуру урока на трёх уровнях: дидактическом,</a:t>
            </a:r>
            <a:br>
              <a:rPr sz="2400"/>
            </a:br>
            <a:r>
              <a:rPr b="1" lang="ru-RU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логико – психологическом,</a:t>
            </a:r>
            <a:br>
              <a:rPr sz="2400"/>
            </a:br>
            <a:r>
              <a:rPr b="1" lang="ru-RU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методическом.</a:t>
            </a:r>
            <a:br>
              <a:rPr sz="2400"/>
            </a:br>
            <a:endParaRPr b="0" lang="en-US" sz="2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74800" y="999720"/>
            <a:ext cx="511164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ой при этом является дидактическая структура, состоящая из постоянных компонентов: актуализации прежних знаний и способов действий учащихся, формирование новых понятий и способов действий и применения – формирования умений и навыков (М.И. Махмутов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71760" y="274320"/>
            <a:ext cx="5643360" cy="558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Желаем успеха</a:t>
            </a:r>
            <a:endParaRPr b="0" lang="en-US" sz="66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1T12:40:40Z</dcterms:created>
  <dc:creator>Customer</dc:creator>
  <dc:description/>
  <dc:language>en-US</dc:language>
  <cp:lastModifiedBy>GEG</cp:lastModifiedBy>
  <dcterms:modified xsi:type="dcterms:W3CDTF">2009-11-02T07:08:29Z</dcterms:modified>
  <cp:revision>9</cp:revision>
  <dc:subject/>
  <dc:title>Структура урока</dc:title>
</cp:coreProperties>
</file>