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18E-1F6D-429F-9A7E-08478C37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8A6-A042-456F-99CC-4F2A91EF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902-CE10-4017-8471-DD985EE4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68F-B5D3-47AF-B89A-014AAAF9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80B-B527-42DC-B35B-4223CBFA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60AE-6554-4EFF-8FEB-57B4CE71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3014-71C1-465A-B79C-DDBF08DD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C03B-8E29-48B1-A5B4-9FEA3F8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4892-B531-4DD1-AAF6-CE6B3256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B34C-F7DB-4A00-8CE7-5F9100A0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0C3B-DC7C-422F-8175-35E4644E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1B0-F5CA-4ED0-BE46-533AC0F3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7C72-D045-4AA8-B723-91DDA34B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CF38-20D3-4B87-83D7-4996D4A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D982-0C10-485C-9FF4-61B4851E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C76D-47CA-4E32-AAFB-53D63C8D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6AD1-EED9-412B-A657-69A59A2A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FC3-A32C-4762-866A-DD7F6E71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A26-8D00-4414-BF3A-B913E043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E8C-2D42-4A74-AAC9-E861D1F3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E8B-E389-4ACC-8D20-6EE8A83F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619-0370-4B02-B806-8E46B16B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BF9-64E3-46E5-A576-815850FC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D58-54CA-4CE9-828E-1D7F19C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2883-9A6C-403B-9EF5-5A1FFB1C1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507C-671A-4F50-975C-541B0894F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рок – игра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Клеточное строение растение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униципальная Понькинская основная общеобразовательная шк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ласс: 6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: Корнилова Т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29000" y="4800600"/>
            <a:ext cx="53352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d00"/>
                </a:solidFill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0d00"/>
                </a:solidFill>
                <a:latin typeface="Times New Roman"/>
              </a:rPr>
              <a:t>1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429000" y="4800600"/>
            <a:ext cx="53352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d00"/>
                </a:solidFill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52120" y="457200"/>
            <a:ext cx="6248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ллиарды лет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хаосе Всел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Кап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жизни родила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бко и несме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заре живого мироздан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о чуждо и опасно всё кру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охотное, хрупкое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создань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ло строить Жизни прочный 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олочку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Жизн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ебя оде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кругом? Вода есть – можно п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тый воздух, солнце жарко гре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решила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крох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«Будем жить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верь себя!</a:t>
            </a:r>
            <a:br>
              <a:rPr sz="2600"/>
            </a:b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Какие утверждения верны?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 растения состоят из клеток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 клетки растений имеют ядро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Лейкопласты – это зелёные пластиды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акуоль в клетке всегда занимает центральное место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Образовательная ткань имеется только у молодых растений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Механическая ткань обеспечивает прочность растени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 покровной ткани содержится запас питательных веществ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Лупа и микроскоп – увеличительные приборы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ставь пропущенные слов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........ – самый простой увеличительный прибор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Благодаря микроскопу установлено, что все части растения состоят из ………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Деление – это процесс ……….. клетк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Появившиеся в ходе деления ……….. ткани клетки затем превращаются в клетки других тканей растения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Создание и накопление веществ обеспечивает ………. ткань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Питательные вещества передвигаются по растению благодаря ………. ткан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троение растительной клет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47880" y="1066680"/>
            <a:ext cx="48528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кажите приблизительный возраст клетк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990960" cy="202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32424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ление клет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192276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1638360" cy="196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057400" y="3886200"/>
            <a:ext cx="1828800" cy="2219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181480" y="4038480"/>
            <a:ext cx="33148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7-10-28T16:37:1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