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93A-1739-4D3A-814B-A1A7128E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30E-9E54-4E15-98B9-BC20560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09B-3211-4512-8041-B98AF7D0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B62-6B7E-4B6D-AC95-71B5E4D1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F839-DD8A-4F9D-8A8A-DA1047E2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D808-74C7-4154-B208-98E67EF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971E-2FAB-4252-A5CD-90D7DE3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805A-3EB2-4A5D-AEAD-178E81FD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98B5-E90B-4FC2-B282-1895BEDC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F092-8562-458A-9D54-8647BDB2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3276-75B6-4517-9AE5-AB533B7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FBC-1151-4931-95B1-F1029249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1983-72E3-4905-A83D-5774893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CAEA-67A0-4898-9554-582CE06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8462-3BAC-4C24-8716-286FF431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8B24-8D0F-4432-879E-80D1A12D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C212-14C5-47C7-9867-9D19D14E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4D4-268E-4730-A0A4-FD7C6A6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3CF-2E1C-49AA-8DC4-C0397BB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1E4-A93D-4F24-A6CF-65141A2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B6-8FBD-4D39-B576-9EC3583E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0E5-D9CF-4378-8AF1-8407751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61F-3527-46C5-81FE-0C5EBC4C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91A-8814-43BC-988B-47AE49C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E29-AD3A-4DC8-9540-1BADB3EE8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DB6-912B-46E3-A960-2040E21FB0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b7"/>
                </a:solidFill>
                <a:latin typeface="Arial Black"/>
              </a:rPr>
              <a:t>Презентация на тему: «Яблони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79640" y="4365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иготовил: Мустафин Мансу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08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оды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400px-Apples"/>
          <p:cNvPicPr/>
          <p:nvPr/>
        </p:nvPicPr>
        <p:blipFill>
          <a:blip r:embed="rId1"/>
          <a:stretch/>
        </p:blipFill>
        <p:spPr>
          <a:xfrm>
            <a:off x="5651640" y="2133720"/>
            <a:ext cx="2592360" cy="4032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445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мер красных, зелёных или жёлтых шаровидных плодов в зависимости от вида может быть с горошину или достигать 15 см в диамет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ремени созревания отличают летние, осенние и зимние сорта, более поздние сорта отличаются хорошей стойк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держание плодов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511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ды содержат яблочную, винную, лимонную и другие органические кислоты, сахара (глюкозу, сахарозу и другие), витамины С, А, В1, каротин, дубильные и пектиновые вещества, микроэлементы (железо, медь), макроэлементы (калий, кальций, магний и другие), эфирное масло, и другие веществ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2643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стория разведе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4" descr="800px-Apple_on_the_tree"/>
          <p:cNvPicPr/>
          <p:nvPr/>
        </p:nvPicPr>
        <p:blipFill>
          <a:blip r:embed="rId1"/>
          <a:stretch/>
        </p:blipFill>
        <p:spPr>
          <a:xfrm>
            <a:off x="4500720" y="3284640"/>
            <a:ext cx="4063680" cy="3047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731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читается, что родина яблок — территория современного Казахстана и Киргизии, где они до сих пор встречаются в диком виде. Это фруктовое дерево первоначально произрастало в районе между Каспийским и Черным морями, а уже оттуда было завезено в другие районы мира. Обугленные остатки яблони обнаружены при раскопках доисторических озёрных стоянок Швейцарии. Появление культуры яблони в европейской части России относится ко времени Киевской Русии и тесно связано с деятельностью монастырей. В XVI веке  яблоня появилась и в северных районах Руси . Для выведения культурных сортов яблони были использованы четыре её вида: яблоня низкая, яблоня лесная, яблоня сибирская и яблоня сливолистная или китайская. Яблоки были известны праиндоевропейца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бло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50292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́бло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лат.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Mál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 — род листопадных деревьев и кустарников семейства Розовые с шаровидными сладкими или кисло-сладкими плод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д насчитывает 36 видов (1976). Наиболее распространены: яблоня домашняя, или культурная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Malus domestic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к которой относится большинство возделываемых в мире сортов, яблоня сливолистная, китайская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Malus prunifoli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и яблоня низкая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Malus pumil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гие виды яблони выращивают в качестве декоративных растений в садах и парках, используют в полезащитном лесоразведении. Все виды — хорошие медоносы. Древесина у яблони плотная, крепкая, легко режется и хорошо полируется; пригодна для токарных и столярных изделий, мелких подел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3168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редител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нная запятовидная щит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нная медя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нная т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нная фол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нный цвето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ерритория произраста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блони разводят в большинстве областей с умеренным климатом. Коммерческие сады размещены в местах, где не бывает экстремальных температур, почвы плодородны и достаточно воды для полива. Главные мировые производители плодов — Германия, Италия, Франция, Испания, Китай, Япония, США, Канада, Аргентина, Чили, Австралия, Новая Зеландия и ЮАР. Примерно половина продаваемых яблок приходится на сорта «Delicious» и «Golden Delicious», которые наиболее распространены в США. Оба этих сорта могут расти в широком диапазоне услов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00720" y="3789360"/>
            <a:ext cx="4378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4:52:04Z</dcterms:created>
  <dc:creator>User</dc:creator>
  <dc:description/>
  <dc:language>en-US</dc:language>
  <cp:lastModifiedBy>ЭльмиР</cp:lastModifiedBy>
  <dcterms:modified xsi:type="dcterms:W3CDTF">2012-02-08T18:20:14Z</dcterms:modified>
  <cp:revision>3</cp:revision>
  <dc:subject/>
  <dc:title>Презентация на тему: «Яблони»</dc:title>
</cp:coreProperties>
</file>