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3.gif" ContentType="image/gif"/>
  <Override PartName="/ppt/media/image11.png" ContentType="image/png"/>
  <Override PartName="/ppt/media/image23.jpeg" ContentType="image/jpeg"/>
  <Override PartName="/ppt/media/image20.jpeg" ContentType="image/jpeg"/>
  <Override PartName="/ppt/media/image21.gif" ContentType="image/gif"/>
  <Override PartName="/ppt/media/image19.gif" ContentType="image/gif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6A1D-B33A-40AA-8A05-F203431CF0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143F-0A36-4FD2-906C-B48670AE21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CC44-FC49-4FD9-9ADB-FC5C3F4B5D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AF6A-6573-44C3-97E8-4E63162144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BDB4-586D-4411-B404-4BF6B9E883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49A0-8122-4692-85DD-64BA0D7FE0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56E5-B5D1-4DC6-BCF1-B79DF45209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D0D5-7270-4BDE-A8F6-0C1D390847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D464-95F2-4B7E-99BE-AAAF622707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00C0-D5AD-48D8-8A09-6ED3CF5986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B7F3-8B71-4C27-9669-E50C374BCE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E657-7944-4380-9DB1-53428CB2C0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32BE-30BF-4E5D-B95B-7FBEA3B8C4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D814-53DD-43C8-9A29-CBBE8A35F7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06B4-C7AA-4366-A687-0A311E9B5A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F9E9-2525-41D4-99DB-1C8AB508CB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19EC-A694-41A6-B261-EBA73150D2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DD8-08DD-4C63-A4D9-69BB319D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643-F89D-40B4-B9D1-430C2DF1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EA1-DD61-478A-AFC3-F570B23E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E54-A2CD-4131-9CF5-1E4EFCDC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244-4628-4755-89AF-7F0B9C31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F7E-A86A-4074-A3DB-E5196C19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DAA6-474B-40EE-A18F-4C745BBD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CBA-A541-4479-B079-2FF458C1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0EF3-CFBE-45BB-8954-F2F9426E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DD01-2C1F-4EB3-BA1E-CBA78E3B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2C5-3D7E-4C83-AAC9-2C5C5D0B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5CF-8B0E-43FC-AE57-DFABA5CB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ce3">
                <a:alpha val="61176"/>
              </a:srgbClr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BC42-2CEF-4A39-9A24-5C7FF3D3F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ce3">
                <a:alpha val="61176"/>
              </a:srgbClr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404640"/>
            <a:ext cx="828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 Black"/>
              </a:rPr>
              <a:t>Кто снег белый разбросал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 Black"/>
              </a:rPr>
              <a:t>Речку крепким льдом скова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 Black"/>
              </a:rPr>
              <a:t>С вьюгой, холодом приш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 Black"/>
              </a:rPr>
              <a:t>Как зовут её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40000" y="3716280"/>
            <a:ext cx="3462480" cy="2908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ce3">
                <a:alpha val="61176"/>
              </a:srgbClr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119700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7628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Без досок, без топоров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Через реку мост готов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Скользко, весело, светло!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04000" y="4653000"/>
            <a:ext cx="1771560" cy="19051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55640" y="4437000"/>
            <a:ext cx="1428840" cy="19051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659640" y="260280"/>
            <a:ext cx="1904760" cy="1533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ce3">
                <a:alpha val="61176"/>
              </a:srgbClr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260280"/>
            <a:ext cx="71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 Black"/>
              </a:rPr>
              <a:t>Лё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543640" cy="4157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ce3">
                <a:alpha val="61176"/>
              </a:srgbClr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11280" y="90792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765000"/>
            <a:ext cx="813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 Black"/>
              </a:rPr>
              <a:t>Что за звёздочки сквоз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 Black"/>
              </a:rPr>
              <a:t>На пальто и на плат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 Black"/>
              </a:rPr>
              <a:t>Все сквозные, вырезные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 Black"/>
              </a:rPr>
              <a:t>А возьмёшь – вода в руке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843280" y="4365720"/>
            <a:ext cx="2943000" cy="1942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236000" y="260280"/>
            <a:ext cx="1687320" cy="22320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ce3">
                <a:alpha val="61176"/>
              </a:srgbClr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 Black"/>
              </a:rPr>
              <a:t>Снежин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" descr="C:\Users\Наталья\Desktop\новый год2\snowflake001.gif"/>
          <p:cNvPicPr/>
          <p:nvPr/>
        </p:nvPicPr>
        <p:blipFill>
          <a:blip r:embed="rId1"/>
          <a:stretch/>
        </p:blipFill>
        <p:spPr>
          <a:xfrm>
            <a:off x="2484360" y="1628640"/>
            <a:ext cx="40323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ce3">
                <a:alpha val="61176"/>
              </a:srgbClr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620640"/>
            <a:ext cx="763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Красавица кака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Стоит, светло сверка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Как пышно убра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Скажите, кто она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948360" y="2205000"/>
            <a:ext cx="1506600" cy="2209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195640" y="4005360"/>
            <a:ext cx="29430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ce3">
                <a:alpha val="61176"/>
              </a:srgbClr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Наталья\Desktop\новый год2\1195409837_ng_18.gif"/>
          <p:cNvPicPr/>
          <p:nvPr/>
        </p:nvPicPr>
        <p:blipFill>
          <a:blip r:embed="rId1"/>
          <a:stretch/>
        </p:blipFill>
        <p:spPr>
          <a:xfrm>
            <a:off x="2627280" y="1916280"/>
            <a:ext cx="374508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4000" y="3333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 Black"/>
              </a:rPr>
              <a:t>Новогодняя ёл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ce3">
                <a:alpha val="61176"/>
              </a:srgbClr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55640" y="40464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1592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 Black"/>
              </a:rPr>
              <a:t>Кремлёвская ёл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11280" y="981000"/>
            <a:ext cx="4824720" cy="5472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ce3">
                <a:alpha val="61176"/>
              </a:srgbClr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179280" y="189000"/>
            <a:ext cx="885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Как по-другому называют ветки ели и сосны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Наталья\Desktop\новый год2\5f654b7fa859.jpg"/>
          <p:cNvPicPr/>
          <p:nvPr/>
        </p:nvPicPr>
        <p:blipFill>
          <a:blip r:embed="rId1"/>
          <a:stretch/>
        </p:blipFill>
        <p:spPr>
          <a:xfrm>
            <a:off x="755640" y="2133720"/>
            <a:ext cx="5521320" cy="3744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43640" y="1844640"/>
            <a:ext cx="2376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 Black"/>
              </a:rPr>
              <a:t>(лапа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ce3">
                <a:alpha val="61176"/>
              </a:srgbClr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:\Users\Наталья\Desktop\новый год2\5olo0_186.gif"/>
          <p:cNvPicPr/>
          <p:nvPr/>
        </p:nvPicPr>
        <p:blipFill>
          <a:blip r:embed="rId1"/>
          <a:stretch/>
        </p:blipFill>
        <p:spPr>
          <a:xfrm>
            <a:off x="2627280" y="1197000"/>
            <a:ext cx="395136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124000" y="26028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 Black"/>
              </a:rPr>
              <a:t>Зи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ce3">
                <a:alpha val="61176"/>
              </a:srgbClr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6"/>
          <p:cNvSpPr/>
          <p:nvPr/>
        </p:nvSpPr>
        <p:spPr>
          <a:xfrm>
            <a:off x="324000" y="1890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 Black"/>
              </a:rPr>
              <a:t>Скатерть бел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 Black"/>
              </a:rPr>
              <a:t>весь свет одела.</a:t>
            </a:r>
            <a:r>
              <a:rPr b="1" lang="en-US" sz="4800" spc="-1" strike="noStrike">
                <a:solidFill>
                  <a:srgbClr val="c00000"/>
                </a:solidFill>
                <a:latin typeface="Arial Black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Наталья\Desktop\новый год2\nature_35.gif"/>
          <p:cNvPicPr/>
          <p:nvPr/>
        </p:nvPicPr>
        <p:blipFill>
          <a:blip r:embed="rId1"/>
          <a:stretch/>
        </p:blipFill>
        <p:spPr>
          <a:xfrm>
            <a:off x="2556000" y="1989000"/>
            <a:ext cx="3510000" cy="468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443640" y="2276640"/>
            <a:ext cx="24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 Black"/>
              </a:rPr>
              <a:t>(Снег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ce3">
                <a:alpha val="61176"/>
              </a:srgbClr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 Black"/>
              </a:rPr>
              <a:t>Растёт она вниз головой,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 Black"/>
              </a:rPr>
              <a:t>Не летом растёт, а зимой.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 Black"/>
              </a:rPr>
              <a:t>Но солнце её припечёт,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 Black"/>
              </a:rPr>
              <a:t>Заплачет она и умрёт.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32000" y="2854440"/>
            <a:ext cx="3960720" cy="4003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83280" y="2637000"/>
            <a:ext cx="396072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ce3">
                <a:alpha val="61176"/>
              </a:srgbClr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2602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 Black"/>
              </a:rPr>
              <a:t>Сосуль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3880" y="1305000"/>
            <a:ext cx="6096240" cy="424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ce3">
                <a:alpha val="61176"/>
              </a:srgbClr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Arial Black"/>
              </a:rPr>
              <a:t>Он щиплет щёки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Arial Black"/>
              </a:rPr>
              <a:t>Кусает за нос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Arial Black"/>
              </a:rPr>
              <a:t>Кто он? Ответим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Arial Black"/>
              </a:rPr>
              <a:t>Конечно…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2411640" cy="300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ce3">
                <a:alpha val="61176"/>
              </a:srgbClr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6000" spc="-1" strike="noStrike">
                <a:solidFill>
                  <a:srgbClr val="cc0000"/>
                </a:solidFill>
                <a:latin typeface="Arial Black"/>
              </a:rPr>
              <a:t>Моро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429000" cy="4534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ce3">
                <a:alpha val="61176"/>
              </a:srgbClr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198900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Не колючий, светло-синий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По кустам развешан 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4221000"/>
            <a:ext cx="1781280" cy="1905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020000" y="4149720"/>
            <a:ext cx="1533600" cy="1905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877080" y="189000"/>
            <a:ext cx="1628640" cy="1904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258920" y="260280"/>
            <a:ext cx="1571760" cy="1905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ce3">
                <a:alpha val="61176"/>
              </a:srgbClr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465720" y="333360"/>
            <a:ext cx="217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 Black"/>
              </a:rPr>
              <a:t>Ине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761080" cy="3952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9:40:07Z</dcterms:created>
  <dc:creator>Наталья</dc:creator>
  <dc:description/>
  <dc:language>en-US</dc:language>
  <cp:lastModifiedBy>школа 143</cp:lastModifiedBy>
  <dcterms:modified xsi:type="dcterms:W3CDTF">2012-02-08T12:12:19Z</dcterms:modified>
  <cp:revision>14</cp:revision>
  <dc:subject/>
  <dc:title>Слайд 1</dc:title>
</cp:coreProperties>
</file>