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FCC-D50F-48A7-A286-E3DD9D529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074-ED35-4083-9F50-E7CAC594F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C35-8D51-4729-AF26-EB1B865B0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54D-A784-4DBD-A526-C9ACCB508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749C-9EBB-423F-89C7-44D21E907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0C4-81B2-448C-909F-FE4EDCE98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1B4-46C3-4E5E-ACFD-C137BDCF6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000E-1CA2-41B5-BD4B-94A769F35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6C54-27A8-4AA4-B7A2-6DD7FB4C5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B7D-F662-4DB2-A1BB-2DAF810D6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BF3-9770-487F-90A5-F33C130A9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BCF2-BA9F-4374-B01B-5CD250335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5AC-09A2-4E1E-8F68-A63F3BA11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2C6-5F06-46B7-B32E-1A4C0F5C7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96B-039B-4AD7-BF5B-E35031AA2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576-850E-4F7F-A2DD-1F1F9E701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F4D-E63A-4960-8FCA-BF969747C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445-EB60-4284-9C87-13F4D88BB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CF5-A12D-4ACA-A783-6D45CD55B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85C-9A52-494E-925E-550FB2D65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D0E-C1B9-4B86-8871-971079BD7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02D-8B4A-472B-B8A5-D409A68E5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9D8-B994-4C41-ADA8-C48BE6C82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33C7-1F93-4775-92D3-7BB94CF55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717-6693-47F9-8DFD-158F95944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134-FB69-403E-A9AF-29AB36073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838-3C2D-428C-8478-1D00C364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FBA-8909-44A3-B83A-59072BE1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0AE-0F10-4D7F-A0ED-FBC29467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A46-D92C-4D1D-AA6B-EA3BB242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D4A-3ACB-411E-87DD-34AA517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F86-3A1A-4E9B-8E4B-8A95737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8A0-056A-45CB-A1A3-EBD682D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422-1A41-493E-87BE-8DA7AB12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C06-B761-4851-8A95-6B5817C2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812-82B0-47BA-AD69-312C952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60C-AE6E-4196-8AAB-CC3BEC2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FF0-D1C0-4B63-AD0E-0698E40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860-BC87-4446-8E09-C3A29A392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СОШ с. Агафо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е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зюр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е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403280" y="981000"/>
            <a:ext cx="65534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З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фекты зр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изорукость и дальнозор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глаз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льто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иная слеп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дальноз"/>
          <p:cNvPicPr/>
          <p:nvPr/>
        </p:nvPicPr>
        <p:blipFill>
          <a:blip r:embed="rId1"/>
          <a:stretch/>
        </p:blipFill>
        <p:spPr>
          <a:xfrm>
            <a:off x="6300720" y="1989000"/>
            <a:ext cx="851040" cy="127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icto_05"/>
          <p:cNvPicPr/>
          <p:nvPr/>
        </p:nvPicPr>
        <p:blipFill>
          <a:blip r:embed="rId2"/>
          <a:stretch/>
        </p:blipFill>
        <p:spPr>
          <a:xfrm>
            <a:off x="6300720" y="4437000"/>
            <a:ext cx="10177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Близорук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приходится слишком долго рассматривать предметы на близком расстоянии, хрусталик принимает «меры предосторожности» - удлиняется, - и дальние предметы без очков уже не разглядеть (развивается близорукость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"/>
          <p:cNvPicPr/>
          <p:nvPr/>
        </p:nvPicPr>
        <p:blipFill>
          <a:blip r:embed="rId1"/>
          <a:stretch/>
        </p:blipFill>
        <p:spPr>
          <a:xfrm>
            <a:off x="6227640" y="2781360"/>
            <a:ext cx="2305080" cy="161280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альнозорк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дальноз"/>
          <p:cNvPicPr/>
          <p:nvPr/>
        </p:nvPicPr>
        <p:blipFill>
          <a:blip r:embed="rId1"/>
          <a:stretch/>
        </p:blipFill>
        <p:spPr>
          <a:xfrm>
            <a:off x="900000" y="2522520"/>
            <a:ext cx="2211480" cy="1879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ожилых людей хрусталик становится более плоским, тогда трудно рассмотреть близкие предметы (развивается дальнозорк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оррекция близорукости и дальнозор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близорукости и дальнозоркости осуществляется посредством подбора сферических ли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близор"/>
          <p:cNvPicPr/>
          <p:nvPr/>
        </p:nvPicPr>
        <p:blipFill>
          <a:blip r:embed="rId1"/>
          <a:stretch/>
        </p:blipFill>
        <p:spPr>
          <a:xfrm>
            <a:off x="5580000" y="2421000"/>
            <a:ext cx="2737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стигмат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асимметрия резкости изображения по вертикали и горизон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астигматизма осуществляется посредством подбора цилиндрических ли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астиг"/>
          <p:cNvPicPr/>
          <p:nvPr/>
        </p:nvPicPr>
        <p:blipFill>
          <a:blip r:embed="rId1"/>
          <a:stretch/>
        </p:blipFill>
        <p:spPr>
          <a:xfrm>
            <a:off x="2987640" y="3860640"/>
            <a:ext cx="2608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соглаз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ект, вызванный несогласованной работой мышц, из-за чего глаза смотрят в разные стороны. Мозг в этом случае принимает во внимание только одно изобра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заставить работать глаз с ослабленными мышцами, ребёнку временно закрывают правильно действующий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осогл"/>
          <p:cNvPicPr/>
          <p:nvPr/>
        </p:nvPicPr>
        <p:blipFill>
          <a:blip r:embed="rId1"/>
          <a:stretch/>
        </p:blipFill>
        <p:spPr>
          <a:xfrm>
            <a:off x="3419640" y="4724280"/>
            <a:ext cx="22334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5410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альтон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способность различать цвета, если колбочки какого – либо вида оказываются с дефектом. Это расстройство зрения названо по фамилии английского химика и физика Джона Дальтона, впервые исследовавшего это явление. Дальтонизмом страдают 8% мужчин и 0,5% женщин. Одни дальтоники не воспринимают красный цвет, другие – зелёный, третьи – фиолетовый. Встречаются и такие люди, для которых мир «окрашен» только в оттенки сер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show"/>
          <p:cNvPicPr/>
          <p:nvPr/>
        </p:nvPicPr>
        <p:blipFill>
          <a:blip r:embed="rId1"/>
          <a:stretch/>
        </p:blipFill>
        <p:spPr>
          <a:xfrm>
            <a:off x="6551640" y="1628640"/>
            <a:ext cx="1666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уриная слеп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теря зрения при слабом освещении. Этот дефект вызван нехваткой витамина А, вследствие чего в палочках не образуется белок зрительных пурпур (именно он под действием света разлагается, а в темноте восстанавлив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лево 4"/>
          <p:cNvSpPr/>
          <p:nvPr/>
        </p:nvSpPr>
        <p:spPr>
          <a:xfrm>
            <a:off x="7572240" y="59292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тические обм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ы смотрим не глазами, а мозгом»,- говорят физиологи. Зрительные обманы и иллюзии возникают из-за того, что, когда мы видим, то бессознательно рассуждаем, причём невольно вводим себя в заблуждение. Так что правильнее было бы говорить не об «обманах зрения», а об «обманах сужд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опт"/>
          <p:cNvPicPr/>
          <p:nvPr/>
        </p:nvPicPr>
        <p:blipFill>
          <a:blip r:embed="rId1"/>
          <a:stretch/>
        </p:blipFill>
        <p:spPr>
          <a:xfrm>
            <a:off x="6948360" y="4437000"/>
            <a:ext cx="160524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птические иллю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опт"/>
          <p:cNvPicPr/>
          <p:nvPr/>
        </p:nvPicPr>
        <p:blipFill>
          <a:blip r:embed="rId1"/>
          <a:stretch/>
        </p:blipFill>
        <p:spPr>
          <a:xfrm>
            <a:off x="1187280" y="1628640"/>
            <a:ext cx="1797120" cy="148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опт"/>
          <p:cNvPicPr/>
          <p:nvPr/>
        </p:nvPicPr>
        <p:blipFill>
          <a:blip r:embed="rId2"/>
          <a:stretch/>
        </p:blipFill>
        <p:spPr>
          <a:xfrm>
            <a:off x="6156360" y="4437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опт"/>
          <p:cNvPicPr/>
          <p:nvPr/>
        </p:nvPicPr>
        <p:blipFill>
          <a:blip r:embed="rId3"/>
          <a:stretch/>
        </p:blipFill>
        <p:spPr>
          <a:xfrm>
            <a:off x="6012000" y="1650960"/>
            <a:ext cx="1873080" cy="13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опт"/>
          <p:cNvPicPr/>
          <p:nvPr/>
        </p:nvPicPr>
        <p:blipFill>
          <a:blip r:embed="rId4"/>
          <a:stretch/>
        </p:blipFill>
        <p:spPr>
          <a:xfrm>
            <a:off x="1187280" y="4437000"/>
            <a:ext cx="1727280" cy="162576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лево 8"/>
          <p:cNvSpPr/>
          <p:nvPr/>
        </p:nvSpPr>
        <p:spPr>
          <a:xfrm>
            <a:off x="7643880" y="600084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Arial"/>
              </a:rPr>
              <a:t>З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Свойства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Дефекты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Оптические обманы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Зрение у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рение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амого большого в мире животного (голубого кита) – самые большие глаза: величиной с футбольный мяч, около 23 см в попереч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орла очень высокая острота зрения – он может увидеть зайца с высоты 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i"/>
          <p:cNvPicPr/>
          <p:nvPr/>
        </p:nvPicPr>
        <p:blipFill>
          <a:blip r:embed="rId1"/>
          <a:stretch/>
        </p:blipFill>
        <p:spPr>
          <a:xfrm>
            <a:off x="6588000" y="2133720"/>
            <a:ext cx="1635120" cy="155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A5SBMJT"/>
          <p:cNvPicPr/>
          <p:nvPr/>
        </p:nvPicPr>
        <p:blipFill>
          <a:blip r:embed="rId2"/>
          <a:stretch/>
        </p:blipFill>
        <p:spPr>
          <a:xfrm>
            <a:off x="6659640" y="4653000"/>
            <a:ext cx="1635120" cy="1227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2556000" y="1203480"/>
            <a:ext cx="41036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 знаете ли вы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562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хищников – объёмное стереоскопическое зрение, глаза широко расставлены в одной плоскости. Это помогает оценивать расстояние до добы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равоядных – панорамное зрение, глаза расположены по бокам головы, из-за этого поле зрения намного шире, но изображение плоское, не стереоскоп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AKXUFWT"/>
          <p:cNvPicPr/>
          <p:nvPr/>
        </p:nvPicPr>
        <p:blipFill>
          <a:blip r:embed="rId1"/>
          <a:stretch/>
        </p:blipFill>
        <p:spPr>
          <a:xfrm>
            <a:off x="6516720" y="981000"/>
            <a:ext cx="1655640" cy="162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9ZOO"/>
          <p:cNvPicPr/>
          <p:nvPr/>
        </p:nvPicPr>
        <p:blipFill>
          <a:blip r:embed="rId2"/>
          <a:stretch/>
        </p:blipFill>
        <p:spPr>
          <a:xfrm>
            <a:off x="6443640" y="3860640"/>
            <a:ext cx="187344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животные (например, кошки) ночью видят лучше, чем днём. Внутри их глаза имеется большое количество клеток, способных улавливать свет. Кроме того, в них есть «светящийся коврик» - дополнительный слой клеток, отражающих даже самый слабый луч и посылающих их на сетчатку. Поэтому кошачьи глаза ночью свет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j0181446"/>
          <p:cNvPicPr/>
          <p:nvPr/>
        </p:nvPicPr>
        <p:blipFill>
          <a:blip r:embed="rId1"/>
          <a:stretch/>
        </p:blipFill>
        <p:spPr>
          <a:xfrm>
            <a:off x="3851280" y="4292640"/>
            <a:ext cx="1380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идеть ночью, кобра снабжена специальной системой: между глазами и ноздрями у неё есть особые ячейки, способные улавливать инфракрасное излучение, т. е. тепловые лучи. Поэтому кобра в состоянии обнаружить жертву, излучающую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225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екомых, ракообразных и некоторых других беспозвоночных фасеточные глаза. В них нет единой сетчатки, рецепторы собраны в маленькие группы (ретинулы), каждая из которых обслуживается отдельным диоптрическим аппаратом. Понятия аккомодации, близорукости или дальнозоркости к такому глазу неприме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"/>
          <p:cNvPicPr/>
          <p:nvPr/>
        </p:nvPicPr>
        <p:blipFill>
          <a:blip r:embed="rId1"/>
          <a:stretch/>
        </p:blipFill>
        <p:spPr>
          <a:xfrm>
            <a:off x="2987640" y="4076640"/>
            <a:ext cx="29624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льман Я. И. Занимательная физика. Книга 1и 2. – М.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. Энциклопедия для детей. Т. 18. – М.: Аванта+,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4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9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Строение гл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52560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 фор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з – шар диаметром 2,5 см и массой около 7-8 г. Глазное яблоко располагается в глазнице, спереди его оберегают веки. Брови предотвращают попадание в глаза пота со лба, а веки с ресницами защищают их от снега, дождя и пыли. Назначение слёз – смачивать поверхность глазного яблока, чтобы она не высохла. Слёзные желёзки за сутки вырабатывают до 1 мл слё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2592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атистике, женщины плачут в четыре раза чаще мужчин, но это связано не с мужественностью или женственностью, а с содержанием гормона пролактина, который отвечает за выработку грудного молока и слё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032200" cy="2260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gipet2"/>
          <p:cNvPicPr/>
          <p:nvPr/>
        </p:nvPicPr>
        <p:blipFill>
          <a:blip r:embed="rId1"/>
          <a:stretch/>
        </p:blipFill>
        <p:spPr>
          <a:xfrm>
            <a:off x="1403280" y="2205000"/>
            <a:ext cx="1725840" cy="3146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зантии, Персии, у древних славян замужние женщины собирали слёзную жидкость в специальные сосуды и использовали для лечения 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 строен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лаз похож на фотокам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нка его состоит из трёх оболоч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ой (белой непрозрачной склеры и прозрачной роговиц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удистой – с радуж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ча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Схематический разрез глаза"/>
          <p:cNvPicPr/>
          <p:nvPr/>
        </p:nvPicPr>
        <p:blipFill>
          <a:blip r:embed="rId1"/>
          <a:srcRect l="23072" t="689" r="37697" b="0"/>
          <a:stretch/>
        </p:blipFill>
        <p:spPr>
          <a:xfrm>
            <a:off x="5940360" y="1844640"/>
            <a:ext cx="15843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08000" y="259920"/>
            <a:ext cx="511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рач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рстие, которое «впускает» световые лучи внутрь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уста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ленькая двояковыпуклая лин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тча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кран глаза; именно она воспринимает световые волны и преобразует их в электрические импульсы, которые попадают в головной моз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22400" cy="29512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/>
          <p:cNvSpPr/>
          <p:nvPr/>
        </p:nvSpPr>
        <p:spPr>
          <a:xfrm>
            <a:off x="7358040" y="600084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войства гл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851280" y="2852640"/>
            <a:ext cx="1798560" cy="158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68360" y="2565360"/>
            <a:ext cx="1871640" cy="201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увст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ярк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7020000" y="2565360"/>
            <a:ext cx="1728720" cy="2089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б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увст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ны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2050920" y="1413000"/>
            <a:ext cx="5329440" cy="1152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пое пятно (место вы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ого нерва , свет в э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сти невид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195640" y="4869000"/>
            <a:ext cx="511164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ёлтое пятно (место напро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ачка с наибольшей плот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ых клеток, место наивыс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оты з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4788000" y="443700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5651640" y="3645000"/>
            <a:ext cx="136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2340000" y="36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4716360" y="256536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строта з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различать мелк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ккомод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глаза приспосабливаться к видению как на близком, так и на далёком рас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дап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ефлекторное приспособление глаза к изменению яр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Цвет радуж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ависимость от количества пигмента мел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нерцио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реднее время сохранения светового ощу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Цветоощу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различ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инокулярность з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нимать глубину пространства (стереоэффек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accommodation"/>
          <p:cNvPicPr/>
          <p:nvPr/>
        </p:nvPicPr>
        <p:blipFill>
          <a:blip r:embed="rId1"/>
          <a:stretch/>
        </p:blipFill>
        <p:spPr>
          <a:xfrm>
            <a:off x="6084720" y="3860640"/>
            <a:ext cx="280836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лево 5"/>
          <p:cNvSpPr/>
          <p:nvPr/>
        </p:nvSpPr>
        <p:spPr>
          <a:xfrm>
            <a:off x="8001000" y="6286680"/>
            <a:ext cx="977760" cy="483840"/>
          </a:xfrm>
          <a:prstGeom prst="leftArrow">
            <a:avLst>
              <a:gd name="adj1" fmla="val 50000"/>
              <a:gd name="adj2" fmla="val 500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7:17:23Z</dcterms:created>
  <dc:creator>_</dc:creator>
  <dc:description/>
  <dc:language>en-US</dc:language>
  <cp:lastModifiedBy>Валера</cp:lastModifiedBy>
  <dcterms:modified xsi:type="dcterms:W3CDTF">2009-11-18T16:30:21Z</dcterms:modified>
  <cp:revision>26</cp:revision>
  <dc:subject/>
  <dc:title>Слайд 1</dc:title>
</cp:coreProperties>
</file>