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3.jpeg" ContentType="image/jpeg"/>
  <Override PartName="/ppt/media/image24.jpeg" ContentType="image/jpeg"/>
  <Override PartName="/ppt/media/image2.gif" ContentType="image/gif"/>
  <Override PartName="/ppt/media/image25.gif" ContentType="image/gif"/>
  <Override PartName="/ppt/media/image27.jpeg" ContentType="image/jpeg"/>
  <Override PartName="/ppt/media/image26.gif" ContentType="image/gif"/>
  <Override PartName="/ppt/media/image20.jpeg" ContentType="image/jpeg"/>
  <Override PartName="/ppt/media/image14.gif" ContentType="image/gif"/>
  <Override PartName="/ppt/media/image23.jpeg" ContentType="image/jpeg"/>
  <Override PartName="/ppt/media/image19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189-8B8B-4839-8BAD-43D30897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CBD-B839-43E5-AF34-338DD40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320-07B8-466E-878B-C59CF039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E44-200E-410D-8A78-592EE719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4B0-F885-4BA4-9441-2045B95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84C-CDE9-4E73-9A5B-17C43DF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8FD-F760-4829-9D43-94ACCB2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75F-EB09-4A37-AF95-A682895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606-EF3F-442B-8335-DA9D7BE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927-3F30-4898-88B4-AEFE92B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EF9-1591-4DF4-901B-5A4EA69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C8C-31A1-4641-A487-414D87F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3A7-DAC7-4869-8973-1B46728E5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42920" y="13352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час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042920" y="2565360"/>
            <a:ext cx="684216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3639960"/>
            <a:ext cx="246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27640" y="4941720"/>
            <a:ext cx="426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 и рекомендации психолога Дубининой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4000" y="208116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(н-р., мя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2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17804675&amp;tov=3"/>
          <p:cNvPicPr/>
          <p:nvPr/>
        </p:nvPicPr>
        <p:blipFill>
          <a:blip r:embed="rId3"/>
          <a:stretch/>
        </p:blipFill>
        <p:spPr>
          <a:xfrm>
            <a:off x="7308720" y="4724280"/>
            <a:ext cx="11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21272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58760" y="327960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58760" y="45036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03120" y="34225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11280" y="3789360"/>
            <a:ext cx="85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BGFAQ"/>
          <p:cNvPicPr/>
          <p:nvPr/>
        </p:nvPicPr>
        <p:blipFill>
          <a:blip r:embed="rId1"/>
          <a:stretch/>
        </p:blipFill>
        <p:spPr>
          <a:xfrm>
            <a:off x="0" y="2637000"/>
            <a:ext cx="133200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542880"/>
            <a:ext cx="68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835280" y="404640"/>
            <a:ext cx="504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3120" y="2271600"/>
            <a:ext cx="40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ECREATIONALSWING1-T"/>
          <p:cNvPicPr/>
          <p:nvPr/>
        </p:nvPicPr>
        <p:blipFill>
          <a:blip r:embed="rId3"/>
          <a:stretch/>
        </p:blipFill>
        <p:spPr>
          <a:xfrm>
            <a:off x="4500720" y="21337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OFFICEWORKER-CIRCLE-TRANSP"/>
          <p:cNvPicPr/>
          <p:nvPr/>
        </p:nvPicPr>
        <p:blipFill>
          <a:blip r:embed="rId4"/>
          <a:stretch/>
        </p:blipFill>
        <p:spPr>
          <a:xfrm>
            <a:off x="6012000" y="4581360"/>
            <a:ext cx="136656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SMILE_BLK"/>
          <p:cNvPicPr/>
          <p:nvPr/>
        </p:nvPicPr>
        <p:blipFill>
          <a:blip r:embed="rId5"/>
          <a:stretch/>
        </p:blipFill>
        <p:spPr>
          <a:xfrm>
            <a:off x="7524720" y="5734080"/>
            <a:ext cx="1362240" cy="11239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ROBOT"/>
          <p:cNvPicPr/>
          <p:nvPr/>
        </p:nvPicPr>
        <p:blipFill>
          <a:blip r:embed="rId6"/>
          <a:stretch/>
        </p:blipFill>
        <p:spPr>
          <a:xfrm>
            <a:off x="6012000" y="2781360"/>
            <a:ext cx="15843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 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1865160"/>
            <a:ext cx="66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Наташа</cp:lastModifiedBy>
  <dcterms:modified xsi:type="dcterms:W3CDTF">2011-03-14T17:16:33Z</dcterms:modified>
  <cp:revision>13</cp:revision>
  <dc:subject/>
  <dc:title>Слайд 1</dc:title>
</cp:coreProperties>
</file>