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F01-86BF-4457-9221-829B8AA9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577-C1A0-4A95-B9D5-DC08AFC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956-56D3-4D1D-9D76-7BD38C25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DA9-275F-4349-8A00-01E1EA1C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32D-37EB-4C5A-AC5F-5FD66DD8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BD2-6DBA-49DE-BD1A-311AE9D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FD4-05BC-4338-A983-5F2CDD0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66B-45F0-41D8-9A22-7FC4C20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EAB-3CEE-4DC9-AF2F-3883B39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5E47-DCB2-41BD-8502-C335BFFD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D71A-BF24-4D5B-93AE-8DB0FAD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B03-98A8-4B2B-8C1E-80397E4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0B38-7081-4597-A50E-0C8A10B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8794-F745-460F-B09D-1C8752B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D58-1CD1-449E-A241-2C69624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DC97-A640-4341-AFDE-9967E949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B22-8DF0-445B-A8E1-95AF8ACF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473-CA18-4131-9496-F4B0B8E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B9-233C-4AAE-8892-1723060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7DE-C6F7-47F8-B8AC-1D5D3BB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C44-4774-4DD9-BE5A-8A2C193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6D9-7F8D-4B7C-9788-34B55EC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CC-6AB3-4B9E-BF85-DEA1489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456-8333-4B1B-AC85-6C920B7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87F-FA55-41BB-A08C-AC4C1EF27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E64-CFE6-4BEA-B6AE-BA7B68EA3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по математике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Хураскина И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Г. Новоульянов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льяновск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57120" y="57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)Чтобы найти неизвестное уменьшаемое, на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)сложить вычитаемое и ра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)из разности вычесть вычита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)из вычитаемого вычесть ра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14240" y="3938040"/>
            <a:ext cx="77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Б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лощадь детской комнаты 10 м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а зала в 2раза больше , а зала в 2 раза больше. Площадь спальни на 6 м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меньше площади зала. Какова площадь спаль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)36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)30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)14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)18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357120" y="6490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) Одно число в 6 раз меньше другого. Какими могут быть эти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)36 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)36 и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)24 и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)5 и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785880" y="3934800"/>
            <a:ext cx="76438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) Экскурсия в музей заняла 2ч. Из этого времени на дорогу ушло 30 мин. Сколько времени туристы провели в музе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)1 ч 30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2ч 30 м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28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42960" y="793800"/>
            <a:ext cx="7786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) У Ани было 19 р. Она купила мороженое за 16 р. 50 к. Сколько денег у неё ост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3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3 р. 50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2 р.50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35р. 50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14240" y="3578040"/>
            <a:ext cx="8001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Е)Если а = 6, то 38 +а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500040" y="651600"/>
            <a:ext cx="792972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Ё) В 4 пакета разложили поровну 12 кг картофеля, а в пятый положили 2 кг картофеля. Сколько килограммов картофеля во всех пакет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(12 – 4) *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12 : (4 + 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12 : 4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12 *4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571760" y="3792240"/>
            <a:ext cx="72151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Ж) Что не является единицей дли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квадратный санти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деци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кил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28800" y="506160"/>
            <a:ext cx="61434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) Во сколько раз 560 больше 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920" y="2788920"/>
            <a:ext cx="5000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) Какое из равенств верно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500 -1 = 4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100 – 10 =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71720" y="4435200"/>
            <a:ext cx="63579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) Укажи верно выполнен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) 803 – 204 = 6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2)803 – 204 = 6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3)803 – 204 = 5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4)803 – 204 = 6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7:46Z</dcterms:created>
  <dc:creator>Helen</dc:creator>
  <dc:description/>
  <dc:language>en-US</dc:language>
  <cp:lastModifiedBy>Admin</cp:lastModifiedBy>
  <dcterms:modified xsi:type="dcterms:W3CDTF">2012-01-25T17:24:34Z</dcterms:modified>
  <cp:revision>7</cp:revision>
  <dc:subject/>
  <dc:title>Слайд 1</dc:title>
</cp:coreProperties>
</file>