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C98-F8C7-46D3-AA0A-91872445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0803-2B4B-4A0E-ACD8-833B07D9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0FC-8D49-41B3-8A39-B0ED9F2A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73F7-1C80-4893-8E2F-45661E55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F02B-7A80-41F7-AF9C-4F7BA7A8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A54C-1213-4886-9716-325C8154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61C0-F461-4767-98D8-89CD7EB1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24AB-117B-4580-88AB-08A1088F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0C2B-6AFF-4EC0-A8CA-8803B53D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03AA-E447-4E55-A547-023AD23B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ADE5-0A4F-4921-9C15-77FED713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12C-DBA8-4341-BB94-4B95394E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0D71-88DA-4823-B2EF-C34CE75E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2AA9-F1FC-4D7C-8651-C6B8CF72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7628-93D2-4620-A092-24AB09BA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0361-50CA-4F9C-9E4D-E84D18D9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15A3-CC7E-4B09-9928-850B384F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BD1DF-0CD6-4479-A500-A88F195C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EC713-3A48-4A53-9AAD-DF514720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BB4A2-0792-4C36-8082-11CA5F85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A1064-A2A0-4EB9-B86D-B0AF7D65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7C26F-C79C-4D92-AD60-CB822CDF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176-2CA6-4F82-A588-AB53AEF7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E163A-AE9C-4CA2-BCA4-B22D227C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179DA-9D23-44E6-8BEE-0CA2BC3A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0496A-37A5-491A-B0EB-19F60215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9EF1C-6504-462D-956D-85F369EF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CC31B-6717-4FCD-B133-129C136C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8C8A5-A3E2-45CA-985B-BF803676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FBC94-F11E-47B6-9199-F53BDB6A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82AEB-C5E6-4EA9-B278-296C4BCC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CDFCF-E838-42F9-8651-D487DAA8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F7DCC-2FE4-4D1E-AA0C-246FDEF1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0A9-1C32-40AB-8C1F-FED6C5A3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77166-3CA2-4DD9-B53A-6D163F97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858EB-5599-4245-B82A-5D6C5837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1F494-A69D-43E1-A838-E017ED9B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532BB-94F7-4D48-A7A1-B1E322C5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3DCD4-FAB6-4578-B41C-68D7254B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EBDDD-8746-45A2-A43F-1DDDFC23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D683B-F7EF-4FE2-BD6C-8262AB29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7778C-DCD3-4F74-B7B6-4FDE7C96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33872-6F72-4C0E-826A-D53F4113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107DA-6DEF-42EE-B889-0B4DE5EA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E85-659F-4496-82B4-9E88834D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914DC-7327-4123-B644-DD8E00BF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A4132-5F5A-4164-BB4E-F99B3352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B6CF3-F1FA-46E6-BF34-34E869BE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6534E-8DD6-490D-806E-EF87C3FB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448E2-AB45-4E4A-8A77-BFEA28C1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340EB-9D3A-49E9-B158-93039FE4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2C07C-BEAC-44F3-AD14-C8308327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3329F-21E4-4ED8-B7F6-022192B7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25F3A-3E74-44D1-8DFA-59430760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8FDFA-DAC0-4FBC-88F9-6706C6BA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B92-E2C1-4C26-94C6-927D263D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EC469-3A89-493B-94AC-1BE84567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ABD76-1827-4E66-8378-9EC04519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CF39E-5F99-4A9C-A0C0-5621CE6F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5430E-00EB-4E09-864B-53A16025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72007-5328-4DBF-816E-F4B0FCF9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EAF0F-0C0D-4F92-895C-E3258CDC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C1182-AB98-4434-8150-D943E5EB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BB326-F270-4D63-BF29-67658484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442E0-D44E-4E35-8DBF-DB005A9C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B8842-DEE9-4985-8507-60F24025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44C4-73FA-4DDB-9FA1-D949C4B0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37FE8-79C0-436A-96D2-5875D795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FA46D-0A5D-4EA5-911C-9607EF45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C19B8-EFB7-4597-A673-66BBC8EE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5A8-DA9E-499F-894D-DCECFF24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A3B-19E8-44CB-9C09-0151E67D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7966-5425-42B1-B9D6-12C84A21EDC9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2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21C8-B28F-4724-A661-846546757668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9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97" name="Freeform 14"/>
            <p:cNvSpPr/>
            <p:nvPr/>
          </p:nvSpPr>
          <p:spPr>
            <a:xfrm>
              <a:off x="6046920" y="8593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2618640" y="73080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9" name="Freeform 22"/>
            <p:cNvSpPr/>
            <p:nvPr/>
          </p:nvSpPr>
          <p:spPr>
            <a:xfrm>
              <a:off x="2828160" y="74304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5608800" y="72972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5756-DC9A-4C37-B08A-C6054EE20492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45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9687-0355-4092-AEEE-973F95FE6BAF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193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5B0D-FB44-49F4-A2C8-C49493089688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41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0262-A334-47CA-802F-B08F7C2219F3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68000" y="-360"/>
            <a:ext cx="76597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Candara"/>
              </a:rPr>
              <a:t>My dream school</a:t>
            </a:r>
            <a:endParaRPr b="0" lang="en-US" sz="8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061240" cy="2981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84360" y="5877000"/>
            <a:ext cx="777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566100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чинникова Маргарита, Ситникова Елизавета. 7 г класс. Моу «Сош №1 г. Калининска»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Do not wear a school uniform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92" name="Picture 2" descr="C:\Documents and Settings\User\Рабочий стол\307206f9836a67378a5804e7e0072d2d.jpg"/>
          <p:cNvPicPr/>
          <p:nvPr/>
        </p:nvPicPr>
        <p:blipFill>
          <a:blip r:embed="rId1"/>
          <a:stretch/>
        </p:blipFill>
        <p:spPr>
          <a:xfrm>
            <a:off x="2987640" y="1773360"/>
            <a:ext cx="273672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5,-12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5,-12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6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000066"/>
                </a:solidFill>
                <a:latin typeface="Candara"/>
              </a:rPr>
              <a:t>We would like to have a swimming  pool.</a:t>
            </a:r>
            <a:endParaRPr b="0" lang="en-US" sz="4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381480" cy="4508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4608720" cy="4508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5,-12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5,-12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We would like to cancel our homework. It is a waste of time!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3726000" cy="4969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5,-12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5,-12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96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362800" cy="23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We would like to improve the menu in our canteen . We think that students need more salads, fruits and vegetables.</a:t>
            </a: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79280" y="2924280"/>
            <a:ext cx="4248360" cy="3051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4643280" y="2921040"/>
            <a:ext cx="3961080" cy="305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5,-12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5,-12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840"/>
                            </p:stCondLst>
                            <p:childTnLst>
                              <p:par>
                                <p:cTn id="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0752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ndara"/>
              </a:rPr>
              <a:t>We</a:t>
            </a:r>
            <a:r>
              <a:rPr b="1" lang="ru-RU" sz="3200" spc="-1" strike="noStrike">
                <a:solidFill>
                  <a:srgbClr val="000066"/>
                </a:solidFill>
                <a:latin typeface="Candara"/>
              </a:rPr>
              <a:t> would </a:t>
            </a:r>
            <a:r>
              <a:rPr b="1" lang="en-US" sz="3200" spc="-1" strike="noStrike">
                <a:solidFill>
                  <a:srgbClr val="000066"/>
                </a:solidFill>
                <a:latin typeface="Candara"/>
              </a:rPr>
              <a:t>have</a:t>
            </a:r>
            <a:r>
              <a:rPr b="1" lang="ru-RU" sz="3200" spc="-1" strike="noStrike">
                <a:solidFill>
                  <a:srgbClr val="000066"/>
                </a:solidFill>
                <a:latin typeface="Candara"/>
              </a:rPr>
              <a:t> more excursions and school trips</a:t>
            </a:r>
            <a:r>
              <a:rPr b="1" lang="en-US" sz="3200" spc="-1" strike="noStrike">
                <a:solidFill>
                  <a:srgbClr val="000066"/>
                </a:solidFill>
                <a:latin typeface="Candara"/>
              </a:rPr>
              <a:t>.I</a:t>
            </a:r>
            <a:r>
              <a:rPr b="1" lang="ru-RU" sz="3200" spc="-1" strike="noStrike">
                <a:solidFill>
                  <a:srgbClr val="000066"/>
                </a:solidFill>
                <a:latin typeface="Candara"/>
              </a:rPr>
              <a:t>t is very important to travel with classmates and  share impressions.</a:t>
            </a:r>
            <a:r>
              <a:rPr b="0" lang="ru-RU" sz="3200" spc="-1" strike="noStrike">
                <a:solidFill>
                  <a:srgbClr val="000066"/>
                </a:solidFill>
                <a:latin typeface="Candar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6551640" cy="4249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5,-12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5,-12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4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We would like to have school locker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1835280" y="2130480"/>
            <a:ext cx="5616360" cy="4257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We would like to have new furniture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480000" cy="449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5,-12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5,-12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200"/>
                            </p:stCondLst>
                            <p:childTnLst>
                              <p:par>
                                <p:cTn id="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0" y="-316080"/>
            <a:ext cx="9252000" cy="8582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12:07:19Z</dcterms:created>
  <dc:creator>User</dc:creator>
  <dc:description/>
  <dc:language>en-US</dc:language>
  <cp:lastModifiedBy>1</cp:lastModifiedBy>
  <dcterms:modified xsi:type="dcterms:W3CDTF">2012-02-05T17:48:20Z</dcterms:modified>
  <cp:revision>11</cp:revision>
  <dc:subject/>
  <dc:title>Презентацию по английскому языку подготовили ученицы 7 класса Г Овчинникова Маргарита и Ситникова Елизавета</dc:title>
</cp:coreProperties>
</file>