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56C-EF0B-47FA-8DD7-9D055B40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E9C-C1F3-45C8-B5F5-DDE50034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055-55B4-4098-A2DE-C913CD99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294-0D24-4130-85C5-2FB861BC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90E-2C1F-4DAB-B76B-798DCB83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5E6-585F-4548-A0AE-EF611677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F4A-B494-4828-858F-F8329671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2D5-15A1-4242-B9D4-0C173A49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A91-BE2D-4F9D-9225-059149B6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31A-45B9-43ED-B2E1-D820B5DE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560-0606-4C37-8BFB-F60229F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2B9-1255-4C57-8FB9-0F43662B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8519-4DEA-4D99-AF54-139692E76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905120" y="2286000"/>
            <a:ext cx="327636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и-Джей (Dj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048120" y="762120"/>
            <a:ext cx="2971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Профе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410080" y="39625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248520" y="5253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efaa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efaa"/>
                </a:solidFill>
                <a:latin typeface="Arial"/>
              </a:rPr>
              <a:t>Ученица СОШ №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efaa"/>
                </a:solidFill>
                <a:latin typeface="Arial"/>
              </a:rPr>
              <a:t>7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efaa"/>
                </a:solidFill>
                <a:latin typeface="Arial"/>
              </a:rPr>
              <a:t>Бахтиева Эльв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609480"/>
            <a:ext cx="87631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8ffb"/>
                </a:solidFill>
                <a:latin typeface="Arial"/>
              </a:rPr>
              <a:t>Высшая, последняя и единственная цель диджея — побуждать народ к танц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8ffb"/>
                </a:solidFill>
                <a:latin typeface="Arial"/>
              </a:rPr>
              <a:t>Хороший ди-джей — это вовсе не тот, у которого хорошие грампластинки, и не тот, кто их умеет состыковывать в длинную кишку, а тот, кто способен управлять настроением танцующих, заводить публику, доводить её до состояния экст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27432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-джей(англ. DJ от disc jockey — диск-жок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, осуществляющий публичное воспроизведение записанных на звуковые носители музыкальных произведений с изменением или без изменения материала техническими сред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2666880" y="990720"/>
            <a:ext cx="312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тор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2209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раз слово диск-жокей (англ. disc jockey) прозвучало в 1935 году от американского комментатора Уолтера Уинчелла. Он использовал этот термин по отношению к радиоведущему Мартину Блоку , первому диджею, который стал впоследствии звездой. Позже это словосочетание сократили до привычной нам теперь аббревиатуры DJ, от которой появилось производное «диджеинг» (англ. DJing), то есть работа дидж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4267080"/>
            <a:ext cx="8534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м DJ СССР является Dj VORoff — с 1976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официальный день диджея отмечается 9 м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2209680" y="228600"/>
            <a:ext cx="6686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мый первый ДиДжей мира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0"/>
            <a:ext cx="91440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дение композиций ди-джей осуществляет с помощью двух воспроизводящих устройств (обычно проигрывателей грампластинок) и особого микшерного пульта: ди-джей-микшера. При воспроизведении музыки на обоих проигрывателях должна быть плавно регулируемая скорость вращения (необходимо для «гладкого» сведения записей с разными темпами и ритмами). Также на современных ди-джейских пультах имеются семплеры (для записи и цикличного воспроизведения коротких звуковых фрагментов — лупов) и звуковые эффекты.Бесперерывная тематическая музыкальная композиция называется миксом.Программа выступления называется сетом. Бывают сеты, в которых вместе или поочерёдно участвуют несколько (двое или более) диджеев. Конкурсные состязания диджеев (6-минутные выступления) называются батлами.Основным исходным материалом для создания миксов являются грамзаписи других музыкантов: в результате получаемое после творческой переработки ди-джеем музыкальное произведение приобретает самостоятельный вид, называемый компиляцией. В этом смысле близкой аналогией диджеинга в изобразительном искусстве можно считать коллаж и аппликацию. Помимо готовых грамзаписей, в арсенале диджея могут быть грампластинки, записанные им специально (например, состоящие из однотипных семплов).Современные диджеи чаще всего не пользуются готовыми композициями других исполнителей, а создают свои с помощю компьютерных программ и различной электроники (микшерный пульт, touch pad миди клавиатура и т. д.)В качестве звуковых носителей используются грампластинки, реже магнитные ленты. В настоящее время широко используются проигрыватели аудио- и MP3-компакт-дисков. Диджеи, использующие компьютер (ноутбук) с различными виртуальными звуковыми системами (миди-устройства, редакторы, студии), называются также си-джеями (CJ). В противовес им ди-джеев, использующих «традиционные» средства (проигрыватели виниловых грампластинок), называют «вертушечниками».Вообще в мире насчитываются сотни тысяч представителей профессии диджея. Как и в любом направлении искусства, среди них также есть «звезды первой величины». Ежегодно происходят соревнования, чемпионаты, составляются списки (топы) лучших диджеев мира, стран, городов. Например — ежегодный топ-100 ди-джеев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380880" y="152280"/>
            <a:ext cx="4343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кшерный Пуль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99072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шерный пульт («микшер», или «микшерная консоль», от англ. «mixing console») — электронное устройство, предназначенное для сведения звуковых сигналов: суммирования нескольких источников в один или более выходов. Также при помощи микшерного пульта осуществляется маршрутизация сигналов. Микшерный пульт используют при звукозаписи, сведении и концертном звукоусилении. Существуют аналоговые и цифровые микшерные пульты, и у каждого из этих видов существуют свои сторонники и противники, так как оба вида имеют свои очевидные преимущества и недостатки. Также микшерные пульты различаются по количеству входов и выходов. Профессиональные концертные и студийные микшерные консоли, как правило, имеют не менее 32 входов, более 6 Aux-шин, мощный эквалайзер на входах, 4 или более подгрупп, а также оснащаются высокоточными и длинноходными фейдерами. В свою очередь компактные и бюджетные микшеры имеют малое количество каналов, более скудные эквалайзеры, и нередко лишены фейдеров (которые заменяются обычными потенциометр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ет отдельный класс микшерных пультов, предназначенных для работы ди-джея. Основное отличие DJ-пульта состоит в меньшем количестве входных каналов (например, один микрофонный и два стерео канала), наличию кроссфейдера, с помощью которого диджей плавно сводит сигналы входных каналов, а также наличию блока специальных звуковых эфф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офо́н (сокращение от устаревшего термина «электропатефон») — устройство для воспроизведения звука с граммофонной пласт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152280" y="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лектрофон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914400"/>
            <a:ext cx="89154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ту электрофон часто обозначается также термином прои́грыватель, обозначающим аналогичный прибор, но предназначенный для подключения к внешнему усилителю мощности звуковой частоты. Таким образом, на самом деле проигрыватель от электрофона отличается тем же, чем магнитофонная приставка отличается от магнитофона, то есть наличием встроенного усилителя мощности и использование термина «проигрыватель» в отношении электрофона некорректно.Электрофон отличается от граммофона и патефона принципом действия, а именно тем, что в электрофоне механические колебания иглы звукоснимателя преобразуются в электрические колебания, которые проходят через усилитель и затем преобразуются в звук электроакустической системой, включающей, в зависимости от типа электрофона, от одного до четырёх электродинамических громкоговорителей).До 1950г. бытовал термин «радиограммофон».Различают электрофоны с прямым приводом (Direct-drive turntable) и ременным Belt-drive turntable), где передача вращающего момента от электромотора идёт непосредственно на вал или через ременную передачу соответственно. Трансмиссия многоскоростных электропроигрывающих устройств может содержать механизм переключения передаточного отношения, в частности, с использованием ступенчатого вала двигателя и промежуточного обрезиненного колеса, прижимающегося одновременно к ободу планшайбы и, в зависимости от выбранной скорости вращения, к одной из ступеней вала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ектрофон мог быть рассчитан на воспроизведение моно-, стерео- или квадрофонической за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21T08:03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