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B9E-7637-44C1-B4F2-5F8BB42F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935-A926-4D6A-A309-44CB63A7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D50-E26C-45A3-81CC-4A00DC8D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19E-D518-4787-9954-9E8A4025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B13-522C-49A5-9689-C4834E96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0D5-03D6-4F53-9EAB-0873DFC5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3B4-ED54-4A9A-840E-416C5FE7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95A-CB82-45B3-9D94-C6498BCE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322-9183-45DF-A027-C54AEE2F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3D7-79D9-479C-B8B9-C5EFE5CF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7A7-34F3-4927-ADD7-F291CA8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03E-5DFF-4697-A003-E0558A1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0793-CA49-4A85-A17E-4CB9E92A0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Хотите узнать 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как растут пан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5300640"/>
            <a:ext cx="7632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День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НУ, НЕ ДУШКА ЛИ?!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309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Есть шанс посмотреть... 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День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421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Ты понимаешь, что живешь в 2009 году, когд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ошибке, ты печатаешь свой пароль почтового ящика на микроволнов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У  тебя список из 15 номеров, чтобы связаться со своей семьей, которая состоит из 3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Ты отправляешь e-mail своему коллеге, что сидит в соседней  комн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Ты потерял контакт со своими друзьями или семьей, потому что у них нет  адреса электронной поч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осле рабочего дня ты возвращаешься домой и отвечаешь по телефону так, словно ты еще на раб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Ты впадаешь в состояние паники, если вышел из дома без мобильного телефона и ты возвращаешься за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 Ты просыпаешься утром и первая вещь, которую ты делаешь - подсоединяешься к Интернет, даже до того, как выпьешь коф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 Ты склоняешь голову на бок, чтобы улыбнуться: -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 Сейчас ты читаешь этот текст, ты с ним согласен и улыбаеш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Еще хуже, ты уже знаешь, кому ты перешлешь это сообщ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Ты слишком увлечен, чтобы заметить, что номер 6 в этом списке отсутству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 Тебе понадобилась лишь секунда, чтобы пробежать еще раз по сообщению и убедиться, что номера 6 действительно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А СЕЙЧАС ТЫ СМЕЕШЬС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47:48Z</dcterms:created>
  <dc:creator>mila</dc:creator>
  <dc:description/>
  <dc:language>en-US</dc:language>
  <cp:lastModifiedBy>mila</cp:lastModifiedBy>
  <dcterms:modified xsi:type="dcterms:W3CDTF">2009-01-31T14:04:27Z</dcterms:modified>
  <cp:revision>2</cp:revision>
  <dc:subject/>
  <dc:title>Хотите узнать  как растут панды?</dc:title>
</cp:coreProperties>
</file>