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775-1365-46AA-8F2A-EB54A6D4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EF7-D1D0-4595-AA66-5B0F53F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3AA-8B48-4D3A-8FD0-371BD129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C81-0E7F-458C-8BAE-4415ED72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70E3-41B5-4CD5-91CE-84A48C4C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07E-DE2D-4B46-A76A-3E3CA2B1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FCFE-3D78-4068-804F-1DE7BBF6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9B86-129A-4E40-A319-2BB65BB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D3A1-0E8F-4914-9AEA-16AB7D0D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4C5-8876-46B6-B462-DEBDF969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F498-4775-4883-BAEE-0107DFE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BB1-6B91-4552-8D46-98DEC3B6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B524-8F59-4E36-BCB9-2A31C784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9F5-72D8-4DA9-85EB-814F913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752A-2451-43AE-BC19-332505CD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CBD6-DA22-44E9-8F68-8C5C6E37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F2F3-093D-4955-9CF0-F8DFDE49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E7B-A9BE-4B39-A8E2-60068B8B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0E0-D35B-4FE7-A6C8-DAE3AAD5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6C7-F200-4621-9F44-68AA530D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B38-F741-4A19-A1E1-D03AF3CF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230-E2D2-4423-9B87-2972111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211-477A-4568-9965-4D44D29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1DA-436E-4765-BA54-596E9E9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B96D-391F-4DB8-9CDD-634C79E65B9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EDDE-FF1D-4C1D-8B5B-2E16B2FD27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Brush Script MT"/>
              </a:rPr>
              <a:t>Из истории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Brush Script MT"/>
              </a:rPr>
              <a:t> книг и библиотек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1905120"/>
            <a:ext cx="4724640" cy="761760"/>
          </a:xfrm>
          <a:prstGeom prst="rect">
            <a:avLst/>
          </a:prstGeom>
          <a:gradFill rotWithShape="0">
            <a:gsLst>
              <a:gs pos="0">
                <a:srgbClr val="6d3beb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Comic Sans MS"/>
              </a:rPr>
              <a:t>Библиоте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590920" y="2666880"/>
            <a:ext cx="1600200" cy="1828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486040" y="266652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495680"/>
            <a:ext cx="3429000" cy="1143000"/>
          </a:xfrm>
          <a:prstGeom prst="rect">
            <a:avLst/>
          </a:prstGeom>
          <a:gradFill rotWithShape="0">
            <a:gsLst>
              <a:gs pos="0">
                <a:srgbClr val="4e0ca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Comic Sans MS"/>
              </a:rPr>
              <a:t>Библио - кни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723560" y="4343400"/>
            <a:ext cx="3962520" cy="1219320"/>
          </a:xfrm>
          <a:prstGeom prst="rect">
            <a:avLst/>
          </a:prstGeom>
          <a:gradFill rotWithShape="0">
            <a:gsLst>
              <a:gs pos="0">
                <a:srgbClr val="7c6cf4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Comic Sans MS"/>
              </a:rPr>
              <a:t>Тека - хранилищ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0"/>
            <a:ext cx="787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omic"/>
              </a:rPr>
              <a:t>Первые русские рукописные книг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5040" y="1270080"/>
            <a:ext cx="2100240" cy="2114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29400" y="3962520"/>
            <a:ext cx="2152800" cy="2209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086600" y="137160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Страница древнерусской рукописной книги «Киевская псалтырь». 139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114800"/>
            <a:ext cx="17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Страница «Апостола» Ивана Федорова. 15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038480"/>
            <a:ext cx="2057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Миниатюра русской рукописной книги «Евангелие от Матфея». 15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22440" y="156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523880"/>
            <a:ext cx="2362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«Слово о полку Игорев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Величайший памятн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древнерусской литерату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Конца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XII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 ве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Автор неизвесте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Brush Script MT"/>
              </a:rPr>
              <a:t>Главные библиотеки Ми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257800" cy="457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57800" y="1600200"/>
            <a:ext cx="388620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иблиотека британского музея в Лондоне. Она является национальной библиотекой страны, основана в 1753 году. Фонд библиотеки более 9 мил. экземпляров, более 400 тыс. на иностранных языках, 38 тыс рукописных книг. В библиотеке хранятся египетские, греческие, римские папирусы из древних библиотек мира. В ней 6 читальных залов на более 700 мест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лностью компьютеризирована, выход в Интернет, можно узнать о любой книге, изданной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076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Brush Script MT"/>
              </a:rPr>
              <a:t>Главные библиотеки Ми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6248520" cy="5562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48520" y="990720"/>
            <a:ext cx="2895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Библиотека Конгресса США. Основана в 1800. В 1993 фонд составлял свыше 86 млн. ед. хр., он почти универсален (кроме иностранной, сельскохозяйственной и медицинской литературы). Редкие американские издания, коллекции инкунабул, китайской, японской и других литератур; собрание русских издани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Brush Script MT"/>
              </a:rPr>
              <a:t>Главные библиотеки Ми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5791320" cy="6019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867280" y="685800"/>
            <a:ext cx="3276720" cy="70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ГБ в  Москве, национальная библиотека. Основана в 1862 в составе московского Румянцевского музея, В 1993 св. 38 млн. ед. хр. на 247 языках мира. По содержанию фонды универсальны. Хранятся рукописи 6-20 вв., в т. ч. Архангельское Евангелие (1002), Мариинское Евангелие (11 в.), собрание греческих, арабских, персидских, китайских, древнееврейских и средневековых европейских рукописей. В отделе редких книг — старопечатные книги 15-18 вв. («Октоих» Ш. Фиоля (1491), Ф. Скорины (1525), книги И. Федорова и др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Brush Script MT"/>
              </a:rPr>
              <a:t>Главные библиотеки Росс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5638680" cy="5181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15000" y="1117440"/>
            <a:ext cx="34290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БИБЛИОТЕКА ПЕДАГОГИЧЕСКАЯ научная им. К. Д. Ушинского в Москве. Произошла от справочной библиотеки при информационном отделе Народного комиссариата просвещения РСФСР в 1925. В 1939 году библиотека получила статус Государственной библиотеки по образов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ейчас это руководящий орган для всех школьных библиот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Викторина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табличек (книг) насчитывала первая библиотека Ашшурабанипа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чего были сделаны первые книг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ком веке появились первые библиоте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количество книг александрийской библиот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ком году основана первая русская библиот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нователь первой древнерусской библиоте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tebulb">
            <a:hlinkClick r:id="rId1" action="ppaction://hlinksldjump"/>
          </p:cNvPr>
          <p:cNvSpPr/>
          <p:nvPr/>
        </p:nvSpPr>
        <p:spPr>
          <a:xfrm>
            <a:off x="8686800" y="1676520"/>
            <a:ext cx="45720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tebulb">
            <a:hlinkClick r:id="rId2" action="ppaction://hlinksldjump"/>
          </p:cNvPr>
          <p:cNvSpPr/>
          <p:nvPr/>
        </p:nvSpPr>
        <p:spPr>
          <a:xfrm>
            <a:off x="7315200" y="2514600"/>
            <a:ext cx="457200" cy="4572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tebulb"/>
          <p:cNvSpPr/>
          <p:nvPr/>
        </p:nvSpPr>
        <p:spPr>
          <a:xfrm>
            <a:off x="8458200" y="2819520"/>
            <a:ext cx="45720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tebulb"/>
          <p:cNvSpPr/>
          <p:nvPr/>
        </p:nvSpPr>
        <p:spPr>
          <a:xfrm>
            <a:off x="3733920" y="3809880"/>
            <a:ext cx="45720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tebulb"/>
          <p:cNvSpPr/>
          <p:nvPr/>
        </p:nvSpPr>
        <p:spPr>
          <a:xfrm>
            <a:off x="3733920" y="4648320"/>
            <a:ext cx="45720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tebulb"/>
          <p:cNvSpPr/>
          <p:nvPr/>
        </p:nvSpPr>
        <p:spPr>
          <a:xfrm>
            <a:off x="3200400" y="5562720"/>
            <a:ext cx="45720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7520" y="1981080"/>
            <a:ext cx="86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2 тысячи табличе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UTurnArrow"/>
          <p:cNvSpPr/>
          <p:nvPr/>
        </p:nvSpPr>
        <p:spPr>
          <a:xfrm>
            <a:off x="8534520" y="6095880"/>
            <a:ext cx="609480" cy="762120"/>
          </a:xfrm>
          <a:custGeom>
            <a:avLst/>
            <a:gdLst>
              <a:gd name="textAreaLeft" fmla="*/ 0 w 609480"/>
              <a:gd name="textAreaRight" fmla="*/ 157320 w 609480"/>
              <a:gd name="textAreaTop" fmla="*/ 293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Камень, глина,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шелк, пергамент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UTurnArrow"/>
          <p:cNvSpPr/>
          <p:nvPr/>
        </p:nvSpPr>
        <p:spPr>
          <a:xfrm>
            <a:off x="8534520" y="6095880"/>
            <a:ext cx="609480" cy="762120"/>
          </a:xfrm>
          <a:custGeom>
            <a:avLst/>
            <a:gdLst>
              <a:gd name="textAreaLeft" fmla="*/ 0 w 609480"/>
              <a:gd name="textAreaRight" fmla="*/ 157320 w 609480"/>
              <a:gd name="textAreaTop" fmla="*/ 293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98760" y="1676520"/>
            <a:ext cx="48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VII</a:t>
            </a:r>
            <a:r>
              <a:rPr b="0" lang="ru-RU" sz="7200" spc="-1" strike="noStrike">
                <a:solidFill>
                  <a:srgbClr val="ffff00"/>
                </a:solidFill>
                <a:latin typeface="Arial"/>
              </a:rPr>
              <a:t> век до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Arial"/>
              </a:rPr>
              <a:t>нашей эр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UTurnArrow"/>
          <p:cNvSpPr/>
          <p:nvPr/>
        </p:nvSpPr>
        <p:spPr>
          <a:xfrm>
            <a:off x="8534520" y="6095880"/>
            <a:ext cx="609480" cy="762120"/>
          </a:xfrm>
          <a:custGeom>
            <a:avLst/>
            <a:gdLst>
              <a:gd name="textAreaLeft" fmla="*/ 0 w 609480"/>
              <a:gd name="textAreaRight" fmla="*/ 157320 w 609480"/>
              <a:gd name="textAreaTop" fmla="*/ 293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79640" y="4267080"/>
            <a:ext cx="176184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1752840" cy="259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057400" y="13716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257800" y="1523880"/>
            <a:ext cx="2133720" cy="152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248520" y="4254480"/>
            <a:ext cx="2666880" cy="1316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46280" y="26496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Brush Script MT"/>
              </a:rPr>
              <a:t>Первые «книги»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Brush Script MT"/>
              </a:rPr>
              <a:t>Тексты на глиняных табличк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447920"/>
            <a:ext cx="678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Примерно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700 тысяч кни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UTurnArrow"/>
          <p:cNvSpPr/>
          <p:nvPr/>
        </p:nvSpPr>
        <p:spPr>
          <a:xfrm>
            <a:off x="8534520" y="6095880"/>
            <a:ext cx="609480" cy="762120"/>
          </a:xfrm>
          <a:custGeom>
            <a:avLst/>
            <a:gdLst>
              <a:gd name="textAreaLeft" fmla="*/ 0 w 609480"/>
              <a:gd name="textAreaRight" fmla="*/ 157320 w 609480"/>
              <a:gd name="textAreaTop" fmla="*/ 293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0" y="1808280"/>
            <a:ext cx="522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1037 году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В Киев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UTurnArrow"/>
          <p:cNvSpPr/>
          <p:nvPr/>
        </p:nvSpPr>
        <p:spPr>
          <a:xfrm>
            <a:off x="8534520" y="6095880"/>
            <a:ext cx="609480" cy="762120"/>
          </a:xfrm>
          <a:custGeom>
            <a:avLst/>
            <a:gdLst>
              <a:gd name="textAreaLeft" fmla="*/ 0 w 609480"/>
              <a:gd name="textAreaRight" fmla="*/ 157320 w 609480"/>
              <a:gd name="textAreaTop" fmla="*/ 293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14600" y="1981080"/>
            <a:ext cx="469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Ярослав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Мудры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UTurnArrow"/>
          <p:cNvSpPr/>
          <p:nvPr/>
        </p:nvSpPr>
        <p:spPr>
          <a:xfrm>
            <a:off x="8534520" y="6095880"/>
            <a:ext cx="609480" cy="762120"/>
          </a:xfrm>
          <a:custGeom>
            <a:avLst/>
            <a:gdLst>
              <a:gd name="textAreaLeft" fmla="*/ 0 w 609480"/>
              <a:gd name="textAreaRight" fmla="*/ 157320 w 609480"/>
              <a:gd name="textAreaTop" fmla="*/ 293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ffff00"/>
                </a:solidFill>
                <a:latin typeface="Brush Script MT"/>
              </a:rPr>
              <a:t>Ашшурбанипал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743200" cy="35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2240" y="5257800"/>
            <a:ext cx="2940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Фрагмент баральефа.Пере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Царем Ашшурбанипал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аходится стол для кур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лад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321920"/>
            <a:ext cx="525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rush Script MT"/>
              </a:rPr>
              <a:t>Ашшурбанипал собрал первую библиотеку на Древнем Востоке (20.720 табличек и фрагментов из этой коллекции хранятся в Британском музее). По приказу царя писцы разыскивали, собирали и переписывали тексты, хранившиеся в храмовых библиотеках других государств.</a:t>
            </a:r>
            <a:r>
              <a:rPr b="1" i="1" lang="ru-RU" sz="2000" spc="-1" strike="noStrike">
                <a:solidFill>
                  <a:srgbClr val="ffff00"/>
                </a:solidFill>
                <a:latin typeface="Brush Script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4572000"/>
            <a:ext cx="853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 неё входят предзнаменования, основанные на истолковании событий, необычного поведения людей, животных и растений, а также на наблюдениях за движением Солнца, Луны, планет и звезд. Словари —  необходимые для обучения писцов, содержат перечень шумерских, аккадских и др. слов. В библиотеке Ашшурбанипала также собраны заклинания, молитвы, ритуальные тексты, басни, пословицы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0"/>
            <a:ext cx="771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roadway"/>
              </a:rPr>
              <a:t>Библиотека Ашшурбанипа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620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Древний Египет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743200" cy="464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5105160" cy="3911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680" y="6284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ирамида Хеопса, иероглифы в гробниц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557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133720"/>
            <a:ext cx="939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Александрийска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библиоте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ffff00"/>
              </a:solidFill>
              <a:latin typeface="Brush Script MT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2260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Наиболее известная в древности библиотека, основанная в Александрии в начале 3 в. до н. э. при царской династии Птолемеи. Возглавляли библиотеку крупнейшие учёные: Эратосфен, Зенодот, Аристарх  и др. Древние учёные насчитывали в ней от 100 тыс. до 700 тыс. томов. Кроме произведений древнегреческой литературы и науки, составлявших основу этой библиотеки, имелись книги на восточных языках. При библиотеке работал штат копиистов, занимавшихся перепиской кни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2533680" cy="3378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227304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57200" y="21337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5334120"/>
            <a:ext cx="26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Аристофан –величайш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древнегреческий писатель 400-е гг. н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26708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рхимед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еликий Древнегре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ученый, математ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механ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51814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Евклид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Великий древнегре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математик; пер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математик александрий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432240"/>
            <a:ext cx="5105520" cy="3425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14800" cy="3962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3943440"/>
            <a:ext cx="4343400" cy="2914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91120" y="76212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mic"/>
              </a:rPr>
              <a:t>Первые библиоте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mic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comic"/>
              </a:rPr>
              <a:t>на Ру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6:13:59Z</dcterms:created>
  <dc:creator>User</dc:creator>
  <dc:description/>
  <dc:language>en-US</dc:language>
  <cp:lastModifiedBy>Пользователь</cp:lastModifiedBy>
  <dcterms:modified xsi:type="dcterms:W3CDTF">2010-09-08T09:21:52Z</dcterms:modified>
  <cp:revision>17</cp:revision>
  <dc:subject/>
  <dc:title>Из истории  книг и библиотек</dc:title>
</cp:coreProperties>
</file>