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88F-06A0-440A-83A7-B667952F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CD2-70C8-4D86-AFD5-B13BF409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14E-F455-415E-A460-9A59025A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912-375E-45FC-BF7C-282E1343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F23-303A-4747-9297-69CCD39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031-F4B5-4A36-878A-57E92C17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67C-0E5B-4A33-837C-F84392FE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526-2804-48A3-993D-87A30075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6E2-E08E-46A4-9709-11360924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CF0-B8DE-45CA-87D1-CC42F04D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B7D-2BB6-48D8-921B-BB8CC32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B8C-1E7E-46F5-90B7-B165F35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3B3-CB59-4136-A190-3FD6BD085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доровье-это богат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ниверси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ниверсиада – второе по значимости и представительству международное комплексное спортивное мероприятие после Олимпийских игр. Универсиада проводится раз в два года, в ней принимают участие студенты и аспиранты в возрасте от 17 до 28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3году наш Татарстан принимает Универсиа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о бояться, что будут смеять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ядку свою не бросай никогд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шь тот, кто не плачет, добьется удач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что не дается легко, без труд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равству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 золотое сол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голубое не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маленький ду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,мой хороший друж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равствуйте,ребя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говорю ва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а это значит,что я всем желаю здоровья.Сегодня классный час посвящается к здоровому образу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ята,что такое здоровь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-это не просто отсутствие болезней,это состояние физического,психического,социального благополуч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жите пожалуйста, от чего зависит здоровь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е факторы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дви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с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йчас мы проверим,хорошо ли вы разбираете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опросах здоровья? Я буду зачитывать различные высказывания.Если вы считаете его верным,то хлопаете в ладоши 1 раз,если не верным,то 2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ы ли вы,что спорт укрепляет здоровья?.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что жвачка сохраняет зубы?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что от курения ежегодно погибают более 10000 человек?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да ли,что бананы поднимают настроения?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аться от курения легко?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ы ли вы,что зарядка-источник бодрости и здоровья?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ое упр.для голов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ое упр. Руки на плечо полож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ое упр.Накл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е упр. Присе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ое упр.Пры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ое упр. Легкий бег на ме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ое упр. Вдох.Выдо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твердо должен зн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ье надо сохраня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жно правильно пита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жно спортом заним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ята,а вы какие вида спорта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фут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олей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баскет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енн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биат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лыжние го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ята,вы знаете про Олимпийских иг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лимпийские игры зародились вДревней Греции. Один раз в четыре года спортсмены всего мира приезжают на Олимпиаду для того, чтобы посоревноваться: кто самый сильный, кто самый быстрый, самый ловкий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ссийские спортсмены впервые участвовали в Олимпиаде в 1908 году в Лондоне. Их было всего 8 человек. Люди тогда не верили в Россию. И каково же было их удивление, когда на этой Олимпиаде фигурист Николай Панин-Коломенский стал олимпийским чемпионом, а борцы Николай Орлов и Александр Петров завоевали серебряные медали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24:31Z</dcterms:created>
  <dc:creator>Разия</dc:creator>
  <dc:description/>
  <dc:language>en-US</dc:language>
  <cp:lastModifiedBy>Разия</cp:lastModifiedBy>
  <dcterms:modified xsi:type="dcterms:W3CDTF">2011-11-15T19:05:04Z</dcterms:modified>
  <cp:revision>14</cp:revision>
  <dc:subject/>
  <dc:title>Здоровый образ жизни</dc:title>
</cp:coreProperties>
</file>