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122-730E-47E9-8691-7B282F34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377-C93F-4D55-8FCF-743C5E1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6AA-28B4-4879-B282-447D377D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5DC-BAA9-4F5A-A531-C7BDF99A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B85-093E-4C7C-97FD-49C5D021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D67-79C4-4D8D-84F0-6C427C8F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990-00D8-4CA6-B110-3856B9C4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DF5-FA3E-4901-90D4-2A53BF9A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EDD-D2C7-4600-8B36-288FA59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DE-7001-4D8F-B91D-3288E90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112-131D-4A50-96E6-0CE86DE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01A-190C-44BE-854E-434DD99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9E4F-A8B1-45B5-B310-10805AF88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доровье-это богат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ниверси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ниверсиада – второе по значимости и представительству международное комплексное спортивное мероприятие после Олимпийских игр. Универсиада проводится раз в два года, в ней принимают участие студенты и аспиранты в возрасте от 17 до 28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3году наш Татарстан принимает Универси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о бояться, что будут смеять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ядку свою не бросай никог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шь тот, кто не плачет, добьется удач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то не дается легко, без труд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 золотое сол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голубое не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маленький ду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мой хороший друж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те,ребя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говорю ва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а это значит,что я всем желаю здоровья.Сегодня классный час посвящается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что такое здоровь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-это не просто отсутствие болезней,это состояние физического,психического,социального благополуч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жите пожалуйста, от чего зависит здоровь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е факторы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дви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йчас мы проверим,хорошо ли вы разбираете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опросах здоровья? Я буду зачитывать различные высказывания.Если вы считаете его верным,то хлопаете в ладоши 1 раз,если не верным,то 2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ы ли вы,что спорт укрепляет здоровья?.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что жвачка сохраняет зубы?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что от курения ежегодно погибают более 10000 человек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да ли,что бананы поднимают настроения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аться от курения легко?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ы ли вы,что зарядка-источник бодрости и здоровья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ое упр.для голов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ое упр. Руки на плечо полож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ое упр.Накл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е упр. Присе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ое упр.Пры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ое упр. Легкий бег на ме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ое упр. Вдох.Выдо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твердо должен зн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ье надо сохраня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жно правильно пита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жно спортом заним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а вы какие вида спорта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фут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олей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баскет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енн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биат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лыжние го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вы знаете про Олимпийских иг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лимпийские игры зародились вДревней Греции. Один раз в четыре года спортсмены всего мира приезжают на Олимпиаду для того, чтобы посоревноваться: кто самый сильный, кто самый быстрый, самый ловкий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ссийские спортсмены впервые участвовали в Олимпиаде в 1908 году в Лондоне. Их было всего 8 человек. Люди тогда не верили в Россию. И каково же было их удивление, когда на этой Олимпиаде фигурист Николай Панин-Коломенский стал олимпийским чемпионом, а борцы Николай Орлов и Александр Петров завоевали серебряные медали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24:31Z</dcterms:created>
  <dc:creator>Разия</dc:creator>
  <dc:description/>
  <dc:language>en-US</dc:language>
  <cp:lastModifiedBy>Разия</cp:lastModifiedBy>
  <dcterms:modified xsi:type="dcterms:W3CDTF">2011-11-15T19:05:04Z</dcterms:modified>
  <cp:revision>14</cp:revision>
  <dc:subject/>
  <dc:title>Здоровый образ жизни</dc:title>
</cp:coreProperties>
</file>