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EFCB-E2DD-431A-91ED-DC6F74F2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E7BE-5B46-4878-B729-CC4C9D2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6B55-62F3-4353-9711-0D652F26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9054-4ED3-42DD-8D90-E6AA113C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2E2-4960-4FD6-98BE-7A03DE37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67E9-6E63-43D2-ABE4-A8AA709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869C-C5E9-4C9D-8746-A355DF7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583-23DB-4761-8B1C-781C1380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666-FC9A-4C13-B8A4-22D0096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902D-A8C0-4659-930C-DA47AE5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67C2-1D98-4468-B8AB-FBAE526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9629-941E-4FE7-969F-F0EDECB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1AA-081D-4F02-9978-22EA4B78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D5E-3C30-43A1-9665-F2092DD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0840-4B95-4F24-A65A-A7D8C059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C304-398C-49BA-86ED-3090F3F8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5213-8E30-460E-A1DC-CAA63A75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57B5-82B5-4C2D-A1CB-9ED862AF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001D-2685-491F-8E51-80B0AD38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79E2-1232-492C-8736-814BFFE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AAF6-BFDF-43A1-B944-7E18C51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95B8-FC57-4AC8-8485-9DAA86E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F038-DE2D-4349-9885-7B9A9857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E3EE-6079-42DF-A07B-8ADECFE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DEF-73EA-4923-BA5D-A8A7839851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796-E3E0-4E6E-8586-941F6674E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«Луна спутник земли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МБОУ «Средняя общеобразовательная школа №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 углубленным изучением предмет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художественно-эстетического цикл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круг Муром Владимирской обла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03840" y="4635360"/>
            <a:ext cx="412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508720" y="4286160"/>
            <a:ext cx="34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а ученица 1 «Б» 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репахина Валентина Андреев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: Петошина О.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2" descr="D:\Фото\школа\1 Б КЛАСС\DSC01597.JPG"/>
          <p:cNvPicPr/>
          <p:nvPr/>
        </p:nvPicPr>
        <p:blipFill>
          <a:blip r:embed="rId1"/>
          <a:stretch/>
        </p:blipFill>
        <p:spPr>
          <a:xfrm>
            <a:off x="1143000" y="364320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. Томилин, Б. Сергеев - Большая энциклопедия начальной школы. Вопрос – отв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ент-источ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Цели и задач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знать что такое Лун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ть ли жизнь на Лун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блюдение за изменением вида Луны, заносить изменения в Лунный календ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e5ff"/>
                </a:solidFill>
                <a:latin typeface="Garamond"/>
              </a:rPr>
              <a:t>Луна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ая близкая соседка Земли в Космосе. Это наш спутник.  Мы видим Луну в небе, потому что она отражает солнечный с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95640" y="3357360"/>
            <a:ext cx="143820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9974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e5ff"/>
                </a:solidFill>
                <a:latin typeface="Garamond"/>
              </a:rPr>
              <a:t>Жизнь на лун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Луне нет воздуха и воды. Там не может существовать ничего живог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84360" y="2204640"/>
            <a:ext cx="237204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лнолуни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 время полнолуния вся поверхность Лу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вещена так, что она предстает перед нами кругло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Новолуние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гда Луна повернута к Земле своей темной невидимой сторон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61214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на движется вокруг Земли, поэтому в течение календарного месяца видится нам по-разному в зависимости от её положения относительно Земли и Солнца. Луна меняет свой вид полного круга  до тонкого серпа. Эти изменения называются фазами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47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Лунный календар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блюдать за изменениями Луны можно ведя лунный календар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Я веду такой календарь и заношу туда свои наблюд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вечер зарисовываю то, что наблюдаю, даже если облачно, и не имею возможности видеть Лун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08360" y="2488680"/>
            <a:ext cx="273348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844720" y="4221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140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Луне нет жизни, так как там нет воздух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течение календарного месяца Луна видится нам по-разному в зависимости от её положения относительно Земли и Солн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2484360" y="4581360"/>
            <a:ext cx="410364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23:10Z</dcterms:created>
  <dc:creator>Админ</dc:creator>
  <dc:description/>
  <dc:language>en-US</dc:language>
  <cp:lastModifiedBy>владимир</cp:lastModifiedBy>
  <dcterms:modified xsi:type="dcterms:W3CDTF">2012-02-09T18:03:29Z</dcterms:modified>
  <cp:revision>4</cp:revision>
  <dc:subject/>
  <dc:title>«Луна спутник земли»</dc:title>
</cp:coreProperties>
</file>