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jpeg" ContentType="image/jpeg"/>
  <Override PartName="/ppt/media/image15.png" ContentType="image/png"/>
  <Override PartName="/ppt/media/image29.jpeg" ContentType="image/jpeg"/>
  <Override PartName="/ppt/media/image2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7.png" ContentType="image/pn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1A13-2A41-4CEE-BC3B-554E2B0E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D050-55E3-468C-9CC4-442E827C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A73E-0502-4907-9ED9-66352A723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2409-4228-404A-A3A7-DA0738598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111A-F6F9-4D54-86CA-AE5BA316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3934-207C-462B-ACB5-53F04E08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8DF5-BEE8-4B3D-830E-CF332C6B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304B-49A0-43E0-9663-CA123D81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4C9F-819C-411E-A3D0-6D397F00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1EE6-96E0-434C-B44C-926CAB38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77E6-CA53-4FEE-9FEB-4C316399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5EB7-969F-4A98-BAC1-F8B058E2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FBD5-0F84-4525-B4D2-9C739AB9B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2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astrostar.ru/horoscopes/personal/bazi/" TargetMode="External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numerology.astrostar.ru/number/263344.html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Картинка 1 из 28306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773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21359400">
            <a:off x="250920" y="1196640"/>
            <a:ext cx="813744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УМЕРОЛОГ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284720" y="3716280"/>
            <a:ext cx="417204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гтярева Елизавета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илина Виктория</a:t>
            </a:r>
            <a:endParaRPr b="1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ахалов Ратибор</a:t>
            </a:r>
            <a:endParaRPr b="1" lang="en-US" sz="2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8 "М" класс ГБОУ СОШ №290</a:t>
            </a:r>
            <a:endParaRPr b="1" lang="en-US" sz="2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№ 1. Изобразите простое число 5 как: а) Линейное б) Плоское в) Пространственное. Решение: а) Так как число 5 – простое, то является линейным, тогда число 5 изображается в виде точек расположенных на одной прямой. б) Так же число 5 можно показать в виде правильного пятиугольника 2 – го порядка. в) Представим число 5 в виде телесного числа."/>
          <p:cNvPicPr/>
          <p:nvPr/>
        </p:nvPicPr>
        <p:blipFill>
          <a:blip r:embed="rId1"/>
          <a:stretch/>
        </p:blipFill>
        <p:spPr>
          <a:xfrm>
            <a:off x="2340000" y="2060640"/>
            <a:ext cx="3960720" cy="2679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Картинка 32 из 562"/>
          <p:cNvPicPr/>
          <p:nvPr/>
        </p:nvPicPr>
        <p:blipFill>
          <a:blip r:embed="rId2"/>
          <a:stretch/>
        </p:blipFill>
        <p:spPr>
          <a:xfrm>
            <a:off x="0" y="5329080"/>
            <a:ext cx="212400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6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434 -0.00671 L 0.76597 -0.00671 E">
                                      <p:cBhvr>
                                        <p:cTn id="172" dur="3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55640" y="476280"/>
            <a:ext cx="7345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9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РЕУГОЛЬНЫЕ  ЧИСЛ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8" name="" descr="Картинка 32 из 562"/>
          <p:cNvPicPr/>
          <p:nvPr/>
        </p:nvPicPr>
        <p:blipFill>
          <a:blip r:embed="rId1"/>
          <a:stretch/>
        </p:blipFill>
        <p:spPr>
          <a:xfrm>
            <a:off x="0" y="5278320"/>
            <a:ext cx="2195640" cy="1579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Надо отметить, что фигурные числа пифагорейцами классифицировались на: 1) линейные числа 2) плоские числа 3) телесные числа. 1) К линейным числам относятся простые числа, которые нельзя было разложить на множители. Эти числа изображались в виде точек, расположенных на одной прямой. Например, число 7. 2) Все плоские числа изображаются в виде правильных геометрических фигур. Одинаковые шары можно укадывать на плоскости так, чтобы они образовывали различные фигуры – треугольники, квадраты, пятиугольники и т. д. 1 4 9 16."/>
          <p:cNvPicPr/>
          <p:nvPr/>
        </p:nvPicPr>
        <p:blipFill>
          <a:blip r:embed="rId2"/>
          <a:stretch/>
        </p:blipFill>
        <p:spPr>
          <a:xfrm>
            <a:off x="0" y="2060640"/>
            <a:ext cx="8893080" cy="18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9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434 -0.00671 L 0.76597 -0.00671 E">
                                      <p:cBhvr>
                                        <p:cTn id="195" dur="5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8000"/>
                            </p:stCondLst>
                            <p:childTnLst>
                              <p:par>
                                <p:cTn id="1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*"/>
          <p:cNvPicPr/>
          <p:nvPr/>
        </p:nvPicPr>
        <p:blipFill>
          <a:blip r:embed="rId1"/>
          <a:stretch/>
        </p:blipFill>
        <p:spPr>
          <a:xfrm>
            <a:off x="155520" y="46080"/>
            <a:ext cx="152280" cy="133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*"/>
          <p:cNvPicPr/>
          <p:nvPr/>
        </p:nvPicPr>
        <p:blipFill>
          <a:blip r:embed="rId2"/>
          <a:stretch/>
        </p:blipFill>
        <p:spPr>
          <a:xfrm>
            <a:off x="155520" y="46080"/>
            <a:ext cx="152280" cy="133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826920" y="476280"/>
            <a:ext cx="74901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8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ВАДРАТНЫЕ ЧИСЛ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3" name="" descr="Картинка 32 из 562"/>
          <p:cNvPicPr/>
          <p:nvPr/>
        </p:nvPicPr>
        <p:blipFill>
          <a:blip r:embed="rId3"/>
          <a:stretch/>
        </p:blipFill>
        <p:spPr>
          <a:xfrm>
            <a:off x="0" y="5278320"/>
            <a:ext cx="2195640" cy="157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Надо отметить, что фигурные числа пифагорейцами классифицировались на: 1) линейные числа 2) плоские числа 3) телесные числа. 1) К линейным числам относятся простые числа, которые нельзя было разложить на множители. Эти числа изображались в виде точек, расположенных на одной прямой. Например, число 7. 2) Все плоские числа изображаются в виде правильных геометрических фигур. Одинаковые шары можно укадывать на плоскости так, чтобы они образовывали различные фигуры – треугольники, квадраты, пятиугольники и т. д. 1 4 9 16."/>
          <p:cNvPicPr/>
          <p:nvPr/>
        </p:nvPicPr>
        <p:blipFill>
          <a:blip r:embed="rId4"/>
          <a:stretch/>
        </p:blipFill>
        <p:spPr>
          <a:xfrm>
            <a:off x="611280" y="1700280"/>
            <a:ext cx="792144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2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434 -0.00671 L 0.76597 -0.00671 E">
                                      <p:cBhvr>
                                        <p:cTn id="214" dur="5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0"/>
                            </p:stCondLst>
                            <p:childTnLst>
                              <p:par>
                                <p:cTn id="2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826920" y="404640"/>
            <a:ext cx="7129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9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ЯТИУГОЛЬНЫЕ ЧИСЛ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6" name="" descr="Картинка 32 из 562"/>
          <p:cNvPicPr/>
          <p:nvPr/>
        </p:nvPicPr>
        <p:blipFill>
          <a:blip r:embed="rId1"/>
          <a:stretch/>
        </p:blipFill>
        <p:spPr>
          <a:xfrm>
            <a:off x="0" y="5278320"/>
            <a:ext cx="2195640" cy="1579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Надо отметить, что фигурные числа пифагорейцами классифицировались на: 1) линейные числа 2) плоские числа 3) телесные числа. 1) К линейным числам относятся простые числа, которые нельзя было разложить на множители. Эти числа изображались в виде точек, расположенных на одной прямой. Например, число 7. 2) Все плоские числа изображаются в виде правильных геометрических фигур. Одинаковые шары можно укадывать на плоскости так, чтобы они образовывали различные фигуры – треугольники, квадраты, пятиугольники и т. д. 1 4 9 16."/>
          <p:cNvPicPr/>
          <p:nvPr/>
        </p:nvPicPr>
        <p:blipFill>
          <a:blip r:embed="rId2"/>
          <a:stretch/>
        </p:blipFill>
        <p:spPr>
          <a:xfrm>
            <a:off x="395280" y="1700280"/>
            <a:ext cx="81374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1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434 -0.00671 L 0.76597 -0.00671 E">
                                      <p:cBhvr>
                                        <p:cTn id="237" dur="5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8000"/>
                            </p:stCondLst>
                            <p:childTnLst>
                              <p:par>
                                <p:cTn id="2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Картинка 38 из 28306"/>
          <p:cNvPicPr/>
          <p:nvPr/>
        </p:nvPicPr>
        <p:blipFill>
          <a:blip r:embed="rId1"/>
          <a:stretch/>
        </p:blipFill>
        <p:spPr>
          <a:xfrm>
            <a:off x="539640" y="0"/>
            <a:ext cx="806472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8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73280" cy="1844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916360" y="1413000"/>
            <a:ext cx="381780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37 -0.00209 L 0.81598 -0.00209 E">
                                      <p:cBhvr>
                                        <p:cTn id="258" dur="3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1597 -0.00208 L 0.82378 0.72925 E">
                                      <p:cBhvr>
                                        <p:cTn id="261" dur="3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9000"/>
                            </p:stCondLst>
                            <p:childTnLst>
                              <p:par>
                                <p:cTn id="26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2379 0.72924 L -0.00885 0.74265 E">
                                      <p:cBhvr>
                                        <p:cTn id="264" dur="3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85 0.74265 L -0.00885 -0.00209 E">
                                      <p:cBhvr>
                                        <p:cTn id="267" dur="3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979640" y="907920"/>
            <a:ext cx="4608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3  02  1997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403280" y="3213000"/>
            <a:ext cx="1297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348000" y="3284640"/>
            <a:ext cx="7923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716360" y="3284640"/>
            <a:ext cx="115092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372360" y="3284640"/>
            <a:ext cx="936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4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2411280" y="1125360"/>
          <a:ext cx="1368720" cy="1440000"/>
        </p:xfrm>
        <a:graphic>
          <a:graphicData uri="http://schemas.openxmlformats.org/drawingml/2006/table">
            <a:tbl>
              <a:tblPr/>
              <a:tblGrid>
                <a:gridCol w="136872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780000" y="1125360"/>
          <a:ext cx="1441080" cy="1436400"/>
        </p:xfrm>
        <a:graphic>
          <a:graphicData uri="http://schemas.openxmlformats.org/drawingml/2006/table">
            <a:tbl>
              <a:tblPr/>
              <a:tblGrid>
                <a:gridCol w="1441080"/>
              </a:tblGrid>
              <a:tr h="14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2411280" y="2565360"/>
          <a:ext cx="1363320" cy="1368000"/>
        </p:xfrm>
        <a:graphic>
          <a:graphicData uri="http://schemas.openxmlformats.org/drawingml/2006/table">
            <a:tbl>
              <a:tblPr/>
              <a:tblGrid>
                <a:gridCol w="1363320"/>
              </a:tblGrid>
              <a:tr h="136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219640" y="2565360"/>
          <a:ext cx="1440000" cy="1368360"/>
        </p:xfrm>
        <a:graphic>
          <a:graphicData uri="http://schemas.openxmlformats.org/drawingml/2006/table">
            <a:tbl>
              <a:tblPr/>
              <a:tblGrid>
                <a:gridCol w="1440000"/>
              </a:tblGrid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780000" y="2565360"/>
          <a:ext cx="1439640" cy="1368360"/>
        </p:xfrm>
        <a:graphic>
          <a:graphicData uri="http://schemas.openxmlformats.org/drawingml/2006/table">
            <a:tbl>
              <a:tblPr/>
              <a:tblGrid>
                <a:gridCol w="1439640"/>
              </a:tblGrid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3780000" y="3933720"/>
          <a:ext cx="1439640" cy="1440000"/>
        </p:xfrm>
        <a:graphic>
          <a:graphicData uri="http://schemas.openxmlformats.org/drawingml/2006/table">
            <a:tbl>
              <a:tblPr/>
              <a:tblGrid>
                <a:gridCol w="143964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2411280" y="3933720"/>
          <a:ext cx="1368720" cy="1440000"/>
        </p:xfrm>
        <a:graphic>
          <a:graphicData uri="http://schemas.openxmlformats.org/drawingml/2006/table">
            <a:tbl>
              <a:tblPr/>
              <a:tblGrid>
                <a:gridCol w="136872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5219640" y="1125360"/>
          <a:ext cx="1439640" cy="1440000"/>
        </p:xfrm>
        <a:graphic>
          <a:graphicData uri="http://schemas.openxmlformats.org/drawingml/2006/table">
            <a:tbl>
              <a:tblPr/>
              <a:tblGrid>
                <a:gridCol w="143964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5219640" y="3933720"/>
          <a:ext cx="1440000" cy="1440000"/>
        </p:xfrm>
        <a:graphic>
          <a:graphicData uri="http://schemas.openxmlformats.org/drawingml/2006/table">
            <a:tbl>
              <a:tblPr/>
              <a:tblGrid>
                <a:gridCol w="144000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155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1155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1155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1155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155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1155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" dur="115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115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000"/>
                            </p:stCondLst>
                            <p:childTnLst>
                              <p:par>
                                <p:cTn id="32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155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2" dur="1155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4" dur="115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6" dur="115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9000"/>
                            </p:stCondLst>
                            <p:childTnLst>
                              <p:par>
                                <p:cTn id="33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15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2" dur="1155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4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6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155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2" dur="1155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4" dur="115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6" dur="115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15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2" dur="1155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4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6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8000"/>
                            </p:stCondLst>
                            <p:childTnLst>
                              <p:par>
                                <p:cTn id="36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155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2" dur="1155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4" dur="1155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6" dur="1155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1000"/>
                            </p:stCondLst>
                            <p:childTnLst>
                              <p:par>
                                <p:cTn id="37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155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2" dur="1155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4" dur="115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6" dur="115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4000"/>
                            </p:stCondLst>
                            <p:childTnLst>
                              <p:par>
                                <p:cTn id="38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155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2" dur="1155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4" dur="1155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6" dur="1155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484360" y="2492280"/>
          <a:ext cx="4176720" cy="3984480"/>
        </p:xfrm>
        <a:graphic>
          <a:graphicData uri="http://schemas.openxmlformats.org/drawingml/2006/table">
            <a:tbl>
              <a:tblPr/>
              <a:tblGrid>
                <a:gridCol w="1392120"/>
                <a:gridCol w="1392480"/>
                <a:gridCol w="13921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3 3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 txBox="1"/>
          <p:nvPr/>
        </p:nvSpPr>
        <p:spPr>
          <a:xfrm>
            <a:off x="611280" y="404640"/>
            <a:ext cx="4321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3  02  1997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4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ИСЛО – 1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ПРЕДЕЛЕНИЕ ХАРАКТ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Обладатель ее — утонченный эгоист. Он не обращает внимания на окружающих и стремится извлечь выгоду из всех ситуаций только для себя. Его мало интересуют другие люди и то, чем они живут. Главное, что живет и должен жить только он од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Характер, очень близкий к эгоистичному. Вечно ищет одобрения окружающих, даже если для этого нет никаких предпосылок. Любит хвалить себя. Кажется себе самым умным и талантливым и удивлен, что окружающие этого не замеча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«Золотая середина». Характер спокойный, покладистый. Человек коммуникабельный, не очень любит подчиняться, но и не рвется к руководству. Если с таким человеком поговорить по душам, всегда можно найти компромис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1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Человек сильного характера, волевой. Он не терпит лжи и подхалимажа, но иногда может пойти на это ради близких людей. Мужчины с таким характером избирают роль профессиональных военных, женщины обычно властно держат в руках сем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11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Диктатор и самодур. Ради соей идеи или прихоти может пустить по ветру миллионы человеческих жизней. Для достижения цели идет, что называется, «по трупам». Если не хватает данных для большего, становится тираном в семье, отшельником, в противном случае получает психическое расстройство. Настойчив в намерениях, в мести, хорошо приспосабливается. Почти всегда обладает некой манией. Испытывает привязанность к детям (своим)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111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Редкая комбинация. Человек необычайно жестокий, но для близких или «ради человечества» способен совершить невозможное. Человек одной фанатичной идеи и очень тяжелый в общен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Картинка 2 из 28306"/>
          <p:cNvPicPr/>
          <p:nvPr/>
        </p:nvPicPr>
        <p:blipFill>
          <a:blip r:embed="rId1"/>
          <a:stretch/>
        </p:blipFill>
        <p:spPr>
          <a:xfrm>
            <a:off x="324000" y="1700280"/>
            <a:ext cx="4248000" cy="424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НУМЕРОЛОГ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27280" y="1341360"/>
            <a:ext cx="43923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ревняя наука самопознания человека, своей судьбы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ë нередко называют магией чисел, на самом же деле, эта наука гораздо ближе к астрологии, чем к магии.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3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000"/>
                            </p:stCondLst>
                            <p:childTnLst>
                              <p:par>
                                <p:cTn id="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3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ЧИСЛО – 2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РЕДЕЛЕНИЕ БИОЭНЕРГ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воек не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Биоэнергия на самом низком уровне; открыт канал для ее интенсивного набора. Эти люди любят антиквариат, старинные книги, хорошо относятся к окружающим, стараясь подпитаться от них; воспитанны и благородны. Исключения противоположного плана встречаются редк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Обычные в биоэнергетическом плане люди. Они избегают стрессовых ситуаций, сильных эмоций.Для них просто необходимы занятия физкультурой и спортом, а еще лучше йогой. Чувствительны к изменениям в атмосфер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Относительно большой запас биоэнергии. Люди, способные стать хорошими врачами, медсестрами, санитарами. Их призвание — медицина. В их семьях редки нервные стресс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2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Знак экстрасенса. Возможно, он сам и не подозревает о таких способностях, но лечит своим биополем, даже своим присутствием. Такие люди долгие годы находятся в ожидании толчка, для того чтобы раскрыть свои способ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22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Если встречается женщина, в которую все влюблены, или неотразимый мужчина, то это объясняется наличием у них избытка биоэнергии, которой они готовы со всеми поделиться. К сожалению, эти люди очень уязвимы для злых, энергетически голодных типов с «сатанинскими возможностям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ИСЛО – 3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ПРЕДЕЛЕНИЕ ВНУТРЕННЕГО СКЛАДА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9152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оек н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Чистоплотные и порядочные люди, отличные хозяева, но несколько навязчивые в своем постоянном стремлении к чистоте. Очень пунктуальны, любят смотреться в зеркало, объясняются витиевато. Кропотливый труд выполняют безукоризн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Люди настроения. Не любят экономить, широкие натуры, нередко противоречивые. В доме беспорядочны, но иногда все сразу и неожиданно приводят в совершенное состоя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Люди, склонные к наукам. Имеют определенный аналитический склад у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33 и боле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Склонность к наукам. Реализация этой склонности порождает педантичность, отрешенность, скупость, наконец, постоянную потребность в справедлив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ЧИСЛО – 4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РЕДЕЛЕНИЕ ЗДОРОВЬ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етверок н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Здоровье очень слабое, человек с детства подвержен различным заболеваниям. Болеть такой человек будет тем дольше, чем больше в его математическом прогнозе двоек, потому что он отдает в мир свою энерг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Здоровье среднее, его нужно закалять, иначе к старости человек превратится в развалину. Главные виды спорта — плавание и бе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Здоровье крепко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4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Люди с очень крепким здоровьем, встречающиеся крайне редко. Темперамент таких людей неимоверно притягател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ЧИСЛО – 5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РЕДЕЛЕНИЕ ИНТУИЦ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ятерок н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Канал связи с тонким миром, с Космосом, закрыт при рождении. Такой человек занят расчетами, экспериментами и доказательствами, напряженными размышлениями. Эти люди делают очень много ошиб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Канал связи открыт. Количество ошибок таких людей сокращено, жизненные ситуации находятся под контролем для извлечения из них максимальной поль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Сильно развитая интуиция. Наличие «вещих снов», предчувствий событий. Откровения при наличии единственной детали. Умение предугадывать прошлое так же, как и будущее. Потребность в юридической и следственной рабо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Почти ясновидящие. Без всяких знаний и подсказок такие люди знают, как действовать самому и своему окружению. В отдельных случаях точно предсказывают грядущие события, но не могут указать, как избежать неприят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5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Ясновидящие. Им ясно и безразлично все происходящее вокруг. Они часто пребывают вне времени и пространства, будто включаясь в некую иную систему существ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ИСЛО – 6. ОПРЕДЕЛЕНИЕ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ЕПЕНИ ПРИЗЕМЛЕННОСТИ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естерок не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Этот человек пришел на землю, чтобы приобрести ремесло. Для развития и продвижения по лестнице жизни ему необходим физический труд, который он не любит. Воображение, фантазия, художественный вкус — главные двигатели его развития. Однако, несмотря на отвлекающие потребности, способен на серьезные поступ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Заземленный человек, но способный по духовным качествам на гуманные поступки. Может заниматься творческими или точными науками, но для продления его существования обязателен физический труд. Бывают достаточно часто проявления в художественных областях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6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Заземленный человек. Стремится к физическому труду, который мешает его развитию. Умственная деятельность и занятие искусством — единственное, что может приподнять таких людей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66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«Знак сатаны», зловещий знак. Темпераментные люди, стремящиеся за счет своего обаяния быть всегда в центре общества. Человек ненадежный, ищущий, часто меняющий случайных партне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666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Человек, перебравший в прежних воплощениях злонамеренности, зазем-ленности и пытающийся изгнать это через труд, занятия умственной деятельностью, совершенствующийся. Такому человеку обязательно нужно поступать в институт, особенно если есть еще и девятки.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ИСЛО – 7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ПРЕДЕЛЕНИЕ МЕРЫ ТАЛАНТА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мерок нет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Человек, рожденный, дабы понять, что такое талант. Его жизненный опыт и поступки помогают обрести талант, а страдания и религия подталкивают к его пониманию. Главное — уловить момент, когда талант будет послан свы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Такие люди живут легко, но удача приходит к ним в результате творческого труда. Талант выражен не ярк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Одаренный человек с тонким художественным, музыкальным вкусом и склонностью к живописи. Эгоистическое начало в его творчестве имеет как плохие, так и хорошие стороны. Он удачлив в азартных играх и забывчив в добродет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7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Особый знак людей, ненадолго посещающих землю. Если они задерживаются на этом пути, их ждут тяжелые болезни. Чувствительность губит их самих из-за обостренного чувства справедливости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77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Знак ангела. Люди, постоянно заботящиеся об окружающих, но, как правило, не доживающие до старости. Эти люди столкнутся с серьезными трудностями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ИСЛО – 8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ПРЕДЕЛЕНИЕ ЧУВСТВА ДОЛГ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ьмерок н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Человек, у которого полностью отсутствует чувство долга. Если, скажем, он берет взаймы, то не спешит отдавать и пропускает все сроки расч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ти люди наделены чувством долга и предельно добросовест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8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звитое чувство долга. Удивительная готовность помогать ближнему. Этот человек - прекрасный семьянин, но зависим от непорядочных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88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нак долга перед народом, который воспитал его владельца. Символ избранных людей, возглавляющих народы. Люди, добивающиеся выдающихся результа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888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нак несет пэрапсихологические способности и безмерную восприимчивость к точным наукам. Удивительный знак людей, идущих сверхъестественными пут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ИСЛО – 9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ПРЕДЕЛЕНИЕ ИНТЕЛЛЕК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амый таинственный знак. Чтобы его постичь, человек должен трудиться всю жиз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9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Умны от рождения. Не любят учиться, потому что привыкли легко получать знания. Главным препятствием в этом является чувство иронии. Независим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99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чень умные люди. Познание не представляет для них никаких затруднений. Прекрасные собеседники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999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Люди, которым открывается истина. Если при этом у них развита интуиция, то существует полная гарантия от провала в любом начинании. Эти люди достаточно неприятны, грубы, немилосердны и жестоки. Их трудно, временами невозможно сделать адекватными в обще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УМЕРОЛОГИЯ И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ОМЕР ТЕЛЕФОН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1301903668_57012" descr="1"/>
          <p:cNvPicPr/>
          <p:nvPr/>
        </p:nvPicPr>
        <p:blipFill>
          <a:blip r:embed="rId1"/>
          <a:stretch/>
        </p:blipFill>
        <p:spPr>
          <a:xfrm>
            <a:off x="4067280" y="3284640"/>
            <a:ext cx="952560" cy="1143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0920" y="1180080"/>
            <a:ext cx="8569080" cy="558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54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исло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 сильный телефонный номер, который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увеличивает вашу энергию и помогает влиять на окружающих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 Но проявите аккуратность, не слишком полагайтесь на счастливое стечение обстоятельств. Это прекрасный номер для бизнесменов и карьеристов, однако не самый удачный для тех, кто находится в поисках своей второй половин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исло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т номер несет в себе романтику и идеально подходит для людей, которые хотят встретить свою любовь. Этот номер придает такие качества, как доброжелательность, дипломатичность, тактичность, настраивает на сотрудничество. Он хорош для сильных, самоуверенных людей, а также всех, кто связан с продаж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исло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т номер говорит о творчестве и веселье, благодаря чему подходит для артистов, музыкантов и молодежи. Он вдохновляет, придает оригинальности, а также популярности. Этот номер лучше выбрать писателям или любым другим людям,  чья работа связана с сочинительством. Однако если вы амбициозны и настроены на достижение целей во что бы то ни стало, стоит предпочесть другое чис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1301903668_57012" descr="1"/>
          <p:cNvPicPr/>
          <p:nvPr/>
        </p:nvPicPr>
        <p:blipFill>
          <a:blip r:embed="rId3"/>
          <a:stretch/>
        </p:blipFill>
        <p:spPr>
          <a:xfrm>
            <a:off x="179280" y="189000"/>
            <a:ext cx="1201680" cy="1439640"/>
          </a:xfrm>
          <a:prstGeom prst="rect">
            <a:avLst/>
          </a:prstGeom>
          <a:ln w="0">
            <a:noFill/>
          </a:ln>
        </p:spPr>
      </p:pic>
      <p:pic>
        <p:nvPicPr>
          <p:cNvPr id="121" name="1301903668_29004" descr="2"/>
          <p:cNvPicPr/>
          <p:nvPr/>
        </p:nvPicPr>
        <p:blipFill>
          <a:blip r:embed="rId4"/>
          <a:stretch/>
        </p:blipFill>
        <p:spPr>
          <a:xfrm>
            <a:off x="7380360" y="333360"/>
            <a:ext cx="137772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4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0"/>
                            </p:stCondLst>
                            <p:childTnLst>
                              <p:par>
                                <p:cTn id="41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8000"/>
                            </p:stCondLst>
                            <p:childTnLst>
                              <p:par>
                                <p:cTn id="42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7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0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3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6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Число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тот номер несет за собой стабильность, надежность, что делает его подходящим для банковских организаций, адвокатских контор и прочих фирм, основывающихся на доверии и репутации. Если у вас большая семья, также можно выбрать число 4. Однако не стоит пользоваться этим номером телефона, если вы живете одни, а ваша деятельность не связана с перечисленными выше сфер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Число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тот номер привносит приключения, изменения, его никак нельзя назвать стабильным. Обладатели этого номера телефона 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огут ожидать чего угодно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. Подобное число подходит для людей, любящих свободу и путешествия, живущих одни. Оно указывает на дисциплинированность и слабое чувство ответственности у его обладателей. Это не самый подходящий номер для семьянинов, а также всех тех, кто страдает от какого-либо психологического неду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Число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то наилучший номер для семьянинов. Он привносит тепло, заботу и защиту, усиливает семейные узы и укрепляет дружбу. Номер подходит также для бизнесменов. Людям же, стремящимся найти свою вторую половинку, лучше подобрать другой номер телефо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Число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то сильный и отчасти мистический номер, который просто создан для учащихся и мыслителей. Он положительно влияет на ваше внутреннее состояние, придает стабильности и делает вас более уравновешенны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Число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то наиболее удачное число для бизнесменов, поскольку оно буквально притягивает к себе деньги и усиливает доверие партнеров. Также номер подходит для амбициозных людей, поскольку положительно влияет на карьеру и финансовое состояние. Число говорит о практичности и материализме, что делает его не слишком удачным для людей, настроенных на личностный рос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Число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деализм и сострадание - главные характеристики этого числа. Такой номер могут выбрать себе работники благотворительных или медицинских учреждений. Это один из наиболее счастливых номеров, его обладатели часто будут испытывать на себе благосклонность фортуны. В то же время число не слишком подходит для людей, имеющих проблемы со здоровьем, а также всех тех, кто настроен на увеличение своего финансового состоя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9" dur="3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000"/>
                            </p:stCondLst>
                            <p:childTnLst>
                              <p:par>
                                <p:cTn id="4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3" dur="3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7" dur="3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9000"/>
                            </p:stCondLst>
                            <p:childTnLst>
                              <p:par>
                                <p:cTn id="45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1" dur="3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5" dur="3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9" dur="3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8000"/>
                            </p:stCondLst>
                            <p:childTnLst>
                              <p:par>
                                <p:cTn id="4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3" dur="30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1000"/>
                            </p:stCondLst>
                            <p:childTnLst>
                              <p:par>
                                <p:cTn id="4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7" dur="30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4000"/>
                            </p:stCondLst>
                            <p:childTnLst>
                              <p:par>
                                <p:cTn id="4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1" dur="30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7000"/>
                            </p:stCondLst>
                            <p:childTnLst>
                              <p:par>
                                <p:cTn id="4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5" dur="30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30000"/>
                            </p:stCondLst>
                            <p:childTnLst>
                              <p:par>
                                <p:cTn id="4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9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33000"/>
                            </p:stCondLst>
                            <p:childTnLst>
                              <p:par>
                                <p:cTn id="4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3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42920" y="33480"/>
            <a:ext cx="6985080" cy="6798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395280" y="476280"/>
            <a:ext cx="8353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ШКОЛЫ НУМЕРОЛОГИ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 rot="20720400">
            <a:off x="395280" y="2133360"/>
            <a:ext cx="46562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ИФАГОРЕЙСКАЯ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 rot="838800">
            <a:off x="4571640" y="2997000"/>
            <a:ext cx="40323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ХАЛДЕЙСКАЯ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 rot="20802000">
            <a:off x="539640" y="4437000"/>
            <a:ext cx="489744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БАЛЛИСТИЧЕСКАЯ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 rot="241800">
            <a:off x="3708360" y="5516280"/>
            <a:ext cx="475308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ЕОПЛАТОНИЧЕСКАЯ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9000"/>
                            </p:stCondLst>
                            <p:childTnLst>
                              <p:par>
                                <p:cTn id="7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187280" y="260280"/>
            <a:ext cx="6985080" cy="60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 ВНИМАНИЕ !!!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_3.1203581762" descr=""/>
          <p:cNvPicPr/>
          <p:nvPr/>
        </p:nvPicPr>
        <p:blipFill>
          <a:blip r:embed="rId1"/>
          <a:stretch/>
        </p:blipFill>
        <p:spPr>
          <a:xfrm>
            <a:off x="5011560" y="476280"/>
            <a:ext cx="3857760" cy="5905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 rot="21222000">
            <a:off x="1115640" y="765000"/>
            <a:ext cx="410544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МИР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ПОСТРОЕН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НА СИЛЕ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ЧИСЕ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0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9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Картинка 10 из 562"/>
          <p:cNvPicPr/>
          <p:nvPr/>
        </p:nvPicPr>
        <p:blipFill>
          <a:blip r:embed="rId1"/>
          <a:stretch/>
        </p:blipFill>
        <p:spPr>
          <a:xfrm>
            <a:off x="1403280" y="0"/>
            <a:ext cx="584856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826920" y="5661000"/>
            <a:ext cx="6913800" cy="8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ИФАГОР СО СВОИМИ УЧЕНИКАМ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4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d90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Школа Пифагора"/>
          <p:cNvPicPr/>
          <p:nvPr/>
        </p:nvPicPr>
        <p:blipFill>
          <a:blip r:embed="rId1"/>
          <a:stretch/>
        </p:blipFill>
        <p:spPr>
          <a:xfrm>
            <a:off x="611280" y="41400"/>
            <a:ext cx="7991280" cy="6816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1258920" y="5589720"/>
            <a:ext cx="6913440" cy="8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ИФАГОР СО СВОИМИ УЧЕНИКАМ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5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2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делятся только на единицу и на самих себя, изображены в виде ли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Надо отметить, что фигурные числа пифагорейцами классифицировались на: 1) линейные числа 2) плоские числа 3) телесные числа. 1) К линейным числам относятся простые числа, которые нельзя было разложить на множители. Эти числа изображались в виде точек, расположенных на одной прямой. Например, число 7. 2) Все плоские числа изображаются в виде правильных геометрических фигур. Одинаковые шары можно укадывать на плоскости так, чтобы они образовывали различные фигуры – треугольники, квадраты, пятиугольники и т. д. 1 4 9 16."/>
          <p:cNvPicPr/>
          <p:nvPr/>
        </p:nvPicPr>
        <p:blipFill>
          <a:blip r:embed="rId1"/>
          <a:stretch/>
        </p:blipFill>
        <p:spPr>
          <a:xfrm>
            <a:off x="468360" y="4076640"/>
            <a:ext cx="8459640" cy="881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Картинка 32 из 562"/>
          <p:cNvPicPr/>
          <p:nvPr/>
        </p:nvPicPr>
        <p:blipFill>
          <a:blip r:embed="rId2"/>
          <a:stretch/>
        </p:blipFill>
        <p:spPr>
          <a:xfrm>
            <a:off x="0" y="5278320"/>
            <a:ext cx="219564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9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434 -0.00671 L 0.76597 -0.00671 E">
                                      <p:cBhvr>
                                        <p:cTn id="138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6 8. Сложим полученные числа. Сравним результаты. 14 14. В этом примере можно “ разглядеть” распределительный закон сложения относительно умножения: а(в+с)=ав+ас."/>
          <p:cNvPicPr/>
          <p:nvPr/>
        </p:nvPicPr>
        <p:blipFill>
          <a:blip r:embed="rId1"/>
          <a:stretch/>
        </p:blipFill>
        <p:spPr>
          <a:xfrm>
            <a:off x="2124000" y="1989000"/>
            <a:ext cx="4824360" cy="2468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Картинка 32 из 562"/>
          <p:cNvPicPr/>
          <p:nvPr/>
        </p:nvPicPr>
        <p:blipFill>
          <a:blip r:embed="rId2"/>
          <a:stretch/>
        </p:blipFill>
        <p:spPr>
          <a:xfrm>
            <a:off x="0" y="5278320"/>
            <a:ext cx="219564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9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434 -0.00671 L 0.76597 -0.00671 E">
                                      <p:cBhvr>
                                        <p:cTn id="155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1T12:07:57Z</dcterms:created>
  <dc:creator>Надежда</dc:creator>
  <dc:description/>
  <dc:language>en-US</dc:language>
  <cp:lastModifiedBy>Надежда</cp:lastModifiedBy>
  <dcterms:modified xsi:type="dcterms:W3CDTF">2012-02-01T19:39:45Z</dcterms:modified>
  <cp:revision>8</cp:revision>
  <dc:subject/>
  <dc:title>Слайд 1</dc:title>
</cp:coreProperties>
</file>