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7B13-313C-48CE-A7F3-B6458201B1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6140-948A-4AB3-89C4-733B86BAC6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FBD3-3D6C-46D4-AAD4-B466494708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2B9-F9A6-444D-8AB8-B4D06BBA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12F-CEED-4A16-AD02-339B0ADA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012-B02F-42CE-AC45-AE4F9A05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8DD-05C6-4370-AF3A-9B1A9909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38E2-7D49-4CF9-8D81-668FAC1B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BA3-B549-4118-8669-4AB095A9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0AE-18D9-4C7B-820F-F8288F3F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61D-425D-476F-8523-FF08E34B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E60-B9B6-45CB-B82D-0D1F35CA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182-5E01-4A97-902F-1BE666DC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FD7-6CE6-4354-AE5B-9D3B7660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395-EFCA-49A8-9B75-B7909090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1583-2011-47C0-B459-E076495FB3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1125000"/>
            <a:ext cx="84582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24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Times New Roman"/>
              </a:rPr>
              <a:t>Будьте всегда  вежливы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MCj04375550000[1]"/>
          <p:cNvPicPr/>
          <p:nvPr/>
        </p:nvPicPr>
        <p:blipFill>
          <a:blip r:embed="rId1"/>
          <a:stretch/>
        </p:blipFill>
        <p:spPr>
          <a:xfrm>
            <a:off x="5940360" y="1763640"/>
            <a:ext cx="2664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зеленеет старый п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да услыши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imes New Roman"/>
              </a:rPr>
              <a:t>      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ОБРЫЙ ДЕ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льчик вежливый и развит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ворит, встречаяс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imes New Roman"/>
              </a:rPr>
              <a:t>        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ДРАВСТВУЙ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Times New Roman"/>
              </a:rPr>
              <a:t>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b23"/>
          <p:cNvPicPr/>
          <p:nvPr/>
        </p:nvPicPr>
        <p:blipFill>
          <a:blip r:embed="rId1"/>
          <a:stretch/>
        </p:blipFill>
        <p:spPr>
          <a:xfrm>
            <a:off x="357120" y="3571920"/>
            <a:ext cx="2808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да нас бранят за шал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говори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imes New Roman"/>
              </a:rPr>
              <a:t>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ОСТИТЕ, ПОЖАЛУЙС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о Франции, и в Да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прощанье говоря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О СВИД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Times New Roman"/>
              </a:rPr>
              <a:t>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23"/>
          <p:cNvPicPr/>
          <p:nvPr/>
        </p:nvPicPr>
        <p:blipFill>
          <a:blip r:embed="rId1"/>
          <a:stretch/>
        </p:blipFill>
        <p:spPr>
          <a:xfrm>
            <a:off x="357120" y="3571920"/>
            <a:ext cx="2808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14240" y="356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е вежливые  слова хороши, когда человек  искренне, от  души желает человеку добра, здоровь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3" descr="cdolls66.gif"/>
          <p:cNvPicPr/>
          <p:nvPr/>
        </p:nvPicPr>
        <p:blipFill>
          <a:blip r:embed="rId1"/>
          <a:stretch/>
        </p:blipFill>
        <p:spPr>
          <a:xfrm>
            <a:off x="2286000" y="2928960"/>
            <a:ext cx="4714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57120" y="1981080"/>
            <a:ext cx="8501040" cy="44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000000"/>
                </a:solidFill>
                <a:latin typeface="Times New Roman"/>
              </a:rPr>
              <a:t>«Ничего не стоит так дёшево и не ценится так</a:t>
            </a:r>
            <a:r>
              <a:rPr b="0" i="1" lang="ru-RU" sz="5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800" spc="-1" strike="noStrike">
                <a:solidFill>
                  <a:srgbClr val="000000"/>
                </a:solidFill>
                <a:latin typeface="Times New Roman"/>
              </a:rPr>
              <a:t>дорого, как вежливость».             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66"/>
                </a:solidFill>
                <a:latin typeface="Times New Roman"/>
              </a:rPr>
              <a:t>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ерванте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MCj04374950000[1]"/>
          <p:cNvPicPr/>
          <p:nvPr/>
        </p:nvPicPr>
        <p:blipFill>
          <a:blip r:embed="rId1"/>
          <a:stretch/>
        </p:blipFill>
        <p:spPr>
          <a:xfrm>
            <a:off x="324000" y="0"/>
            <a:ext cx="1944360" cy="220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MCj04375050000[1]"/>
          <p:cNvPicPr/>
          <p:nvPr/>
        </p:nvPicPr>
        <p:blipFill>
          <a:blip r:embed="rId2"/>
          <a:stretch/>
        </p:blipFill>
        <p:spPr>
          <a:xfrm>
            <a:off x="7164360" y="0"/>
            <a:ext cx="1682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Вежливый человек не причиняет  другому  неприятностей и оби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Вежливый человек всегда здоровается и прощае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Вежливый человек не отвечает грубостью на груб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Вежливый человек приветлив и внимателен к люд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MCj04343830000[1]"/>
          <p:cNvPicPr/>
          <p:nvPr/>
        </p:nvPicPr>
        <p:blipFill>
          <a:blip r:embed="rId1"/>
          <a:stretch/>
        </p:blipFill>
        <p:spPr>
          <a:xfrm>
            <a:off x="5724360" y="4581360"/>
            <a:ext cx="1936800" cy="1895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MCj03980970000[1]"/>
          <p:cNvPicPr/>
          <p:nvPr/>
        </p:nvPicPr>
        <p:blipFill>
          <a:blip r:embed="rId2"/>
          <a:stretch/>
        </p:blipFill>
        <p:spPr>
          <a:xfrm>
            <a:off x="826920" y="5013360"/>
            <a:ext cx="18100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Игр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660066"/>
                </a:solidFill>
                <a:latin typeface="Times New Roman"/>
              </a:rPr>
              <a:t>«Вежливо – невежливо»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MCj03102400000[1]"/>
          <p:cNvPicPr/>
          <p:nvPr/>
        </p:nvPicPr>
        <p:blipFill>
          <a:blip r:embed="rId1"/>
          <a:stretch/>
        </p:blipFill>
        <p:spPr>
          <a:xfrm>
            <a:off x="6286680" y="4143240"/>
            <a:ext cx="1849320" cy="122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MCj00887540000[1]"/>
          <p:cNvPicPr/>
          <p:nvPr/>
        </p:nvPicPr>
        <p:blipFill>
          <a:blip r:embed="rId2"/>
          <a:stretch/>
        </p:blipFill>
        <p:spPr>
          <a:xfrm>
            <a:off x="1357200" y="4286160"/>
            <a:ext cx="18003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MCj04377930000[1]"/>
          <p:cNvPicPr/>
          <p:nvPr/>
        </p:nvPicPr>
        <p:blipFill>
          <a:blip r:embed="rId1"/>
          <a:stretch/>
        </p:blipFill>
        <p:spPr>
          <a:xfrm>
            <a:off x="214200" y="5000760"/>
            <a:ext cx="1892520" cy="1635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85520" y="571320"/>
            <a:ext cx="8001000" cy="45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Поздороваться при встрече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ежли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Толкнуть, не извинить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евежли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Помочь подняться, поднять упавшую вещ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ежли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Кричать на урок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евежли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MCj04378010000[1]"/>
          <p:cNvPicPr/>
          <p:nvPr/>
        </p:nvPicPr>
        <p:blipFill>
          <a:blip r:embed="rId2"/>
          <a:stretch/>
        </p:blipFill>
        <p:spPr>
          <a:xfrm>
            <a:off x="6732720" y="5300640"/>
            <a:ext cx="19303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MCj04377930000[1]"/>
          <p:cNvPicPr/>
          <p:nvPr/>
        </p:nvPicPr>
        <p:blipFill>
          <a:blip r:embed="rId1"/>
          <a:stretch/>
        </p:blipFill>
        <p:spPr>
          <a:xfrm>
            <a:off x="214200" y="5000760"/>
            <a:ext cx="1892520" cy="1635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85880" y="571320"/>
            <a:ext cx="7772400" cy="45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окупке продавцу сказать спасиб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ежли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уступить место пожилому челове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евежли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MCj04378010000[1]"/>
          <p:cNvPicPr/>
          <p:nvPr/>
        </p:nvPicPr>
        <p:blipFill>
          <a:blip r:embed="rId2"/>
          <a:stretch/>
        </p:blipFill>
        <p:spPr>
          <a:xfrm>
            <a:off x="6732720" y="5300640"/>
            <a:ext cx="19303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336600"/>
                </a:solidFill>
                <a:latin typeface="Times New Roman"/>
              </a:rPr>
              <a:t>Запомни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Здравствуй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обрый д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оброе ут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обрый веч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о свид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Извин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Благодар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Будьте доб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Если  вас  не затрудн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ост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ожалуй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MCj04324170000[1]"/>
          <p:cNvPicPr/>
          <p:nvPr/>
        </p:nvPicPr>
        <p:blipFill>
          <a:blip r:embed="rId1"/>
          <a:stretch/>
        </p:blipFill>
        <p:spPr>
          <a:xfrm>
            <a:off x="3348000" y="5084640"/>
            <a:ext cx="20480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2"/>
          <p:cNvPicPr/>
          <p:nvPr/>
        </p:nvPicPr>
        <p:blipFill>
          <a:blip r:embed="rId1"/>
          <a:stretch/>
        </p:blipFill>
        <p:spPr>
          <a:xfrm>
            <a:off x="2700360" y="1341360"/>
            <a:ext cx="4808520" cy="4869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2"/>
          <p:cNvPicPr/>
          <p:nvPr/>
        </p:nvPicPr>
        <p:blipFill>
          <a:blip r:embed="rId2"/>
          <a:stretch/>
        </p:blipFill>
        <p:spPr>
          <a:xfrm>
            <a:off x="826920" y="2924280"/>
            <a:ext cx="2303640" cy="360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2"/>
          <p:cNvPicPr/>
          <p:nvPr/>
        </p:nvPicPr>
        <p:blipFill>
          <a:blip r:embed="rId3"/>
          <a:stretch/>
        </p:blipFill>
        <p:spPr>
          <a:xfrm>
            <a:off x="2700360" y="1341360"/>
            <a:ext cx="4808520" cy="4869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1692360" y="333360"/>
            <a:ext cx="53276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        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1116000" y="1844640"/>
            <a:ext cx="73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чень хорошо поработали 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New Stories (Highway Blues).wma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wmpaud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2"/>
          <p:cNvPicPr/>
          <p:nvPr/>
        </p:nvPicPr>
        <p:blipFill>
          <a:blip r:embed="rId8"/>
          <a:stretch/>
        </p:blipFill>
        <p:spPr>
          <a:xfrm>
            <a:off x="4335480" y="1989000"/>
            <a:ext cx="4808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тает даже ледяная глыб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 слова тёплого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Times New Roman"/>
              </a:rPr>
              <a:t>      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ПАСИБ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b23"/>
          <p:cNvPicPr/>
          <p:nvPr/>
        </p:nvPicPr>
        <p:blipFill>
          <a:blip r:embed="rId1"/>
          <a:stretch/>
        </p:blipFill>
        <p:spPr>
          <a:xfrm>
            <a:off x="6335640" y="3714840"/>
            <a:ext cx="2808360" cy="2923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Times New Roman"/>
              </a:rPr>
              <a:t>Игра «Вежливые слов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4-04T10:24:59Z</dcterms:modified>
  <cp:revision>29</cp:revision>
  <dc:subject/>
  <dc:title>PowerPoint Presentation</dc:title>
</cp:coreProperties>
</file>