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9266-4A43-49F0-AC28-10F7E13E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2FA-0D6B-4F0E-A714-6D81C7BE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6E1D-3F24-402B-86E5-5045B47A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091E-265B-4D45-837C-7D8E61F3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3B07-474F-4753-A8BD-9709F8BA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6048-C04B-460B-8CD2-4B694076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5929-170A-47A7-A91D-D379665B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2280-A6AB-4C7B-B0CE-DE8AAEDE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7C3C-293E-4476-8D37-7CA75F32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9E29-74E7-4527-85F4-186F2A2C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24D1-5A72-47D8-8BA0-793FAC2F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A0C8-29D6-4961-A068-BE6C0F4B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C6AC-A16E-4785-850F-496E96F3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69E9-8206-49AA-836F-394D01A6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9CB1-5CE8-4773-936D-1B8E151F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BA61-F3C0-43CB-8C88-69120185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FC90-52F6-4B90-B372-C64088CE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A790-5F03-4B49-8948-81DAD972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B86E-6927-4B66-8645-E9F7DA34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3198-8B83-4BDF-BFA8-0B184DE0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5902-D0DC-4369-8534-D88D2FF9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A2D-6878-4B38-BAFE-4A32E3D6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9D43-FF77-47A1-8A59-5BCE15FA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635-5286-481D-9EE0-CA28282C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52B0-A00C-4EA0-BDC4-A8087A30693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F0C2-54A1-45AE-B7F3-EDB96D17111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ПОРТФОЛИО ШКОЛЬНОГО БИБЛИОТЕКАРЯ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71628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тодические рекомендац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составл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708360" y="4941720"/>
            <a:ext cx="2087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Потрфолио отзывов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 характеристики отношения библиотекаря к различным видам деятель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отзыве дается письменный анализ  отношения библиотекаря к своей деятельности и ее результатам (тексты заключений, рецензии, отзывы, резюме и т.д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ключает: оценки мероприятий коллегами, методистами РОО/ГОО, администрацией ОУ, РМО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Виды портфолио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ич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рофессиональный портрет библиотекаря. Идеальный вариант включает все типы портфоли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ематическ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если вы постоянно и целенаправленно занимаетесь какой-нибудь темой. Он может включать: план (структуру, схему) занятий или разработки темы; пояснительную записку; обоснование темы, свое видение данной темы, каких результатов ожидаете; программу курса; работы детей, самоанализ проведенной работы; фактографический материал по теме; отзывы коллег, учителей; подведение итогов, определение перспекти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Структура и содержание портфолио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Титульный лис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вание образовательного учрежд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вание пап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тограф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амилия, имя, отчество, долж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Структура и содержание портфолио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держа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визитка сотрудника и библиоте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рта профессионального рос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кументы о повышении квалифик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кументы о результатах участия в педагогических мероприятия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ощрения и награ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рские разработ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зыв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Визитка сотрудни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амилия, имя, отче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ата рожд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разование (что, где, когда закончил, специальность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ата прохождения предыдущей аттест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лжность, шко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щий стаж рабо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аж работы по долж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грады и звания, год получ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ение квалификации (кратко: где, когда проходили, количество час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иблиографическая и учебно-педагогическая деятельность(краткое перечислен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Визитка библиотек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арактеристика (площадь, этаж, читальный зал, зоны библиотеки, помещение для учебников, оборудование, технические сре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сти деятельности данной библиотеки (проект, эксперимент, программа, спецкурс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трольные показатели(количество учащихся, читателей, книжного фонда, учебников, читаемость, посещаемость, книгообеспеченность, обращаемость фонда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Карта профессионального рост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едения об участии в работе методического объединения, педагогических советов, родительских собраний, в педагогических мероприятиях, детских литературных праздниках и конференциях в школе, городе (районе), обла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тографии (альбом с фотографиями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териалы о результатах деятельности ШБ за определенный период (текущий учебный год, сравнительный анализ показателей за 2,3 года), результаты аттестации библиотекаря, методических проверок библиоте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Документы о повышении квалификаци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достоверение об окончании курс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т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зы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00720" y="3645000"/>
            <a:ext cx="3889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Документы о результатах участия в педагогических мероприятиях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ертифика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амоты, благодар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тограф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зы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076720" y="4076640"/>
            <a:ext cx="40672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Поощрения и наград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пло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амо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лагодар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достоверения о награ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867280" y="4653000"/>
            <a:ext cx="3276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онцепция библиотечного портфолио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ртфолио – это способ фиксирования, накопления, оценки и самооценки индивидуальных достижений за какой-то период време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ь портфолио: накопление достижений, отслеживание индивидуального прогресса, представление деятельности и профессионального развития за определенный период време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300720" y="4292640"/>
            <a:ext cx="28432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Публикаци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убликации о сотруднике, библиотеке, читателя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аши статьи, доклады, сценарии, опубликованные в СМИ, брошюр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Авторские разработк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ценарии и интересные планы библиотечных мероприят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тодические рекоменд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работки библиотечной продукции (плакатов, памяток, буклетов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актографический материал(списки книг, копии публикаци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Отзыв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зыв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ценз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лож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глаш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здравл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епис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равки о комплексной, аттестационной провер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писки из протоколов педагогических советов, методических совещ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284720" y="1413000"/>
            <a:ext cx="43196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Основные требования к оформлению портфолио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ность и регулярность самомониторинг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овер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ктив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целенность автора на самосовершенств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изация материалов, логичность и лаконичность всех письменных поясн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куратность и эстетичность оформ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остность и тематическая завершенность представленных материал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глядность результа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Задачи портфолио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анализировать и обобщить свою работ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язать воедино отдельные аспекты своей деятель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разить динамику профессионального развит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дставить опыт своей работы наиболее полно и эффектив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Функции портфолио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иагностическа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фиксирует изменения за определенный период времен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одержательна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раскрывает спектр выполняемых рабо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азвивающа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обеспечивает непрерывный процесс обучения и самообраз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мотивационна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поощряет результаты де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ейтингова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позволяет определить количественные и качественные индивидуальные дости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рактическая значимость портфолио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ттестация в будуще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цензирование, аттестация, аккредитация О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стематизация деятельности библиотекар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актор, стимулирующий профессиональное развит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596360" y="1125360"/>
            <a:ext cx="1225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Модели портфолио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ортфель достижени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для себя и для других) – цель: оценить прогресс в исследовательской, профессиональной или творческ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ортфель-самооцен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для себя)- цель: показать прогресс или регресс в каких-либо видах или отдельных аспектах профессиональн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ортфель-отче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для других) – цель: показать успешность и доказать прогресс исследовательской, профессиональной и творческ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Типы портфолио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тфолио доку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тфолио рабо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тфолио отзыв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859280" y="2852640"/>
            <a:ext cx="3889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Портфолио документов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пло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амо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идетель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достовер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рав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ертифика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00720" y="4005360"/>
            <a:ext cx="43192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Портфолио работ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курсные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екты развития библиоте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ксты (тезисы) выступлений на семинарах, методических объединениях (или их аудио- и видеозапис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ценарии различных массовых мероприя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лектронные документы – презентации, разработки в помощь проведению библиотечных уро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идеозаписи, фотоальбомы различных мероприя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торские образовательные программы и УМК к н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чатные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08:02:35Z</dcterms:created>
  <dc:creator>Библио</dc:creator>
  <dc:description/>
  <dc:language>en-US</dc:language>
  <cp:lastModifiedBy>User</cp:lastModifiedBy>
  <dcterms:modified xsi:type="dcterms:W3CDTF">2008-03-24T12:19:27Z</dcterms:modified>
  <cp:revision>29</cp:revision>
  <dc:subject/>
  <dc:title>ПОРТФОЛИО ШКОЛЬНОГО БИБЛИОТЕКАРЯ</dc:title>
</cp:coreProperties>
</file>