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F7D-4B66-406C-8985-1C2E50A9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A083-BAAC-4211-86C6-CD4A4584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745-C5C6-4146-AB6D-E1758F28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E04B-7F23-4755-B5DE-9350FE7C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2000-934F-45A5-8E93-03B81A83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81BC-3615-4E62-836D-3EFFB8CD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3B62-E979-4983-B965-8BD99D1A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3897-0133-49BB-B281-BE6F205F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3982-F52B-4CF8-BD60-0679DBEE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3D05-4698-48EB-B516-D6933021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9398-C457-420E-A5CD-C9D565D0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8A22-E6C8-4DC5-8A52-E3827D63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1332-50BB-4CEC-B6F8-B8123DFC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86DC-086E-4D06-8098-3E69AFDD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15EC-976E-42B0-BA50-26B303DD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51AF-63F3-4345-B1A9-BAD27666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AD99-8701-483E-BA14-50AE1670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4D5-59A3-497F-A419-E1B6FD46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8AB-A38F-4B00-9A1F-7FD3888A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169E-E6A4-4A35-B843-B8F46EB3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588-958F-46BD-8B1C-487E8692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BD9E-3600-49AA-8EA5-043217AB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1116-DDCA-4B70-B5F0-B5580F25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944-BB9D-4839-BB79-ACBEFDFC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08BA-9525-4E3A-A73C-3266253D2E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23D6-0FA4-4B54-B8A9-96A3928789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752720" cy="3232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067280" y="3068640"/>
            <a:ext cx="472104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907560"/>
            <a:ext cx="800748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овместное проживание, эмоциональная связ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аключение брачного контракта, первичная социализация детей, юридические права супругов, совместное ведение хозяйства, взаимная моральная поддерж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емья- это общество в миниатюре, от целостности которого зависит безопасность всего человеческого общест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.Адле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дин отец даст больше, чем сто учител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.Гербе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7:08:56Z</dcterms:created>
  <dc:creator>Admin</dc:creator>
  <dc:description/>
  <dc:language>en-US</dc:language>
  <cp:lastModifiedBy>Admin</cp:lastModifiedBy>
  <dcterms:modified xsi:type="dcterms:W3CDTF">2012-02-09T08:52:29Z</dcterms:modified>
  <cp:revision>2</cp:revision>
  <dc:subject/>
  <dc:title>Слайд 1</dc:title>
</cp:coreProperties>
</file>