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36D8-174E-4CC2-820C-43844CC8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B7A2-5851-4B14-9ADF-034A7750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248-E0EE-4060-989C-316B852B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33B-EB42-45AD-8EAC-2384907C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3FF-AA07-48B3-97C8-4B10B74C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C0B-AFB3-4B72-979F-96507627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5B4-B226-49A4-91C5-57C90D4E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A35-31CB-4F9B-9DB3-7879B9E0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92A4-B918-4163-AA3D-F0EC837F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7C3-5216-46F8-B873-6CC593E8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273-55E8-4DB4-9A07-7A16E70D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45C-0277-4950-9346-51BD6B74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B654-C85E-4E2C-96DB-614A861CE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70028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Century Schoolbook"/>
              </a:rPr>
              <a:t>«ИГРА КАК КОРРЕКЦИОННЫЙ МЕТОД ПРИ ОРГАНИЗАЦИИ ВНЕУРОЧНЫХ ВИДОВ ДЕЯТЕЛЬНОСТИ ОБУЧАЮЩИХСЯ С УМЕРЕННОЙ И ТЯЖЕЛОЙ УМСТВЕННОЙ ОТСТАЛОСТЬ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0553000">
            <a:off x="250560" y="333000"/>
            <a:ext cx="2160360" cy="162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68360" y="4081320"/>
            <a:ext cx="4751640" cy="2660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 rot="17229000">
            <a:off x="5897520" y="-178920"/>
            <a:ext cx="2232000" cy="3527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rot="15362400">
            <a:off x="906480" y="-218880"/>
            <a:ext cx="2303280" cy="3538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204876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В коррекционной работе по развитию тонкой моторики с детьми мы использу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«ИГРЫ С ПРИЩЕПКАМ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Century Schoolbook"/>
              </a:rPr>
              <a:t>(пластмассовые бельевые прищепки разных цветов).</a:t>
            </a: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26920" y="26100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Century Schoolbook"/>
              </a:rPr>
              <a:t>Главная цель использования прищепок в коррекционной работе - это развитие тонких движений пальцев ру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3280" y="357336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941720" y="1989000"/>
            <a:ext cx="3805560" cy="4631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8000" y="260640"/>
            <a:ext cx="90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Century Schoolbook"/>
              </a:rPr>
              <a:t>В коррекционной работе по  развитию общей моторики мы  используем различные  подвижные игры, (речь с движение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38400"/>
            <a:ext cx="5219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Century Schoolbook"/>
              </a:rPr>
              <a:t>Учитель – логопед, учитель - дефектолог, учитель – олигофренопедагог используют игры с прищепками, подвижные игры и упражнения (речь с движением) на своих занятиях с учетом лексической 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4064040" cy="38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68760"/>
            <a:ext cx="864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Century Schoolbook"/>
              </a:rPr>
              <a:t>Учитель трудового обучения на уроках выполняет с детьми заготовки для игр с прищепками и закрепляет речевые упражнения по заданной лексической те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88000" y="2924280"/>
            <a:ext cx="4356000" cy="3752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432144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300720" y="2204280"/>
            <a:ext cx="136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узыки на уроках играет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4428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Century Schoolbook"/>
              </a:rPr>
              <a:t>Учитель музыки на уроках играет с детьми в подвижные игры, и они выполняют упражнения (речь с движением) под музыкальное сопровожд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23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Century Schoolbook"/>
              </a:rPr>
              <a:t>Системность и комплексность коррекционной работы в нашей школе осуществляется благодаря системе повторения усвоенного материала, что в конечном итоге обеспечивает поступательное разви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3022560" cy="180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227640" y="1628640"/>
            <a:ext cx="2737080" cy="223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24000" y="3933720"/>
            <a:ext cx="3024000" cy="2328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124160" y="4076640"/>
            <a:ext cx="267984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4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entury Schoolbook"/>
              </a:rPr>
              <a:t>Мы педагоги рекомендуем широко использовать игры с прищепками на коррекционных занятиях, так как это способствует развит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ff9900"/>
                </a:solidFill>
                <a:latin typeface="Century Schoolbook"/>
              </a:rPr>
              <a:t>основных видов речев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entury Schoolbook"/>
              </a:rPr>
              <a:t>формированию ассоциативного мыш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entury Schoolbook"/>
              </a:rPr>
              <a:t>памя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entury Schoolbook"/>
              </a:rPr>
              <a:t>навыков общения в коллекти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entury Schoolbook"/>
              </a:rPr>
              <a:t>творческой инициатив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entury Schoolbook"/>
              </a:rPr>
              <a:t>благотворно влияет на психическое развитие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2760840" cy="396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90640" y="2708280"/>
            <a:ext cx="296064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5640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Century Schoolbook"/>
              </a:rPr>
              <a:t>Игра помогает делать занятия интересны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Century Schoolbook"/>
              </a:rPr>
              <a:t>а общение искренним, дойти до ум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Century Schoolbook"/>
              </a:rPr>
              <a:t>сердца каждого ребенка, выз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Century Schoolbook"/>
              </a:rPr>
              <a:t>творческий интерес к предм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29"/>
                </a:solidFill>
                <a:latin typeface="Century Schoolbook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08360" y="261936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00720" y="152280"/>
            <a:ext cx="467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Century Schoolbook"/>
              </a:rPr>
              <a:t>У детей данной категории слабая учебная мотивация, поэтому на уроках и при организации внеурочных занятий мы в своей коррекционной работе используем игровые виды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16360" y="3573360"/>
            <a:ext cx="403380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00"/>
            <a:ext cx="795672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Использование различных игр помогает активизиров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  </a:t>
            </a: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деятельность ребен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  </a:t>
            </a: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развивает познавательную актив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наблюдатель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вним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памя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мышл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поддерживает интерес к изучаемо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развивает творческое воображ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образное мышл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снимает утомление у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11640" y="3354480"/>
            <a:ext cx="4567320" cy="3171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651672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Century Schoolbook"/>
              </a:rPr>
              <a:t>Для совершенствования нашей системы обучения, мы рассматриваем «</a:t>
            </a:r>
            <a:r>
              <a:rPr b="1" i="1" lang="ru-RU" sz="4400" spc="-1" strike="noStrike">
                <a:solidFill>
                  <a:srgbClr val="ff9900"/>
                </a:solidFill>
                <a:latin typeface="Century Schoolbook"/>
              </a:rPr>
              <a:t>игру»</a:t>
            </a:r>
            <a:r>
              <a:rPr b="1" i="1" lang="ru-RU" sz="3600" spc="-1" strike="noStrike">
                <a:solidFill>
                  <a:srgbClr val="ff9900"/>
                </a:solidFill>
                <a:latin typeface="Century Schoolbook"/>
              </a:rPr>
              <a:t>, как один из важных приемов развития детей с умеренной и тяжелой умственной отстал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371520"/>
            <a:ext cx="849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9900"/>
                </a:solidFill>
                <a:latin typeface="Century Schoolbook"/>
              </a:rPr>
              <a:t>Игра имеет чрезвычай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9900"/>
                </a:solidFill>
                <a:latin typeface="Century Schoolbook"/>
              </a:rPr>
              <a:t> </a:t>
            </a:r>
            <a:r>
              <a:rPr b="1" i="1" lang="ru-RU" sz="6000" spc="-1" strike="noStrike">
                <a:solidFill>
                  <a:srgbClr val="ff9900"/>
                </a:solidFill>
                <a:latin typeface="Century Schoolbook"/>
              </a:rPr>
              <a:t>большое знач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9900"/>
                </a:solidFill>
                <a:latin typeface="Century Schoolbook"/>
              </a:rPr>
              <a:t>в психическо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9900"/>
                </a:solidFill>
                <a:latin typeface="Century Schoolbook"/>
              </a:rPr>
              <a:t>развитии ребенка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116280"/>
            <a:ext cx="81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В процессе обучения детей с умеренной и тяжелой умственной отсталостью педагоги разработали содержание коррекционно-развивающих игр и систематизировали их применение в коррекционной рабо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2873520"/>
            <a:ext cx="7272360" cy="3868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04760"/>
            <a:ext cx="50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Century Schoolbook"/>
              </a:rPr>
              <a:t>Учитель – логопед, учитель - дефектолог, учитель – олигофренопедагог планируют свою коррекционную работу совме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45040" y="549360"/>
            <a:ext cx="3862440" cy="577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260280"/>
            <a:ext cx="87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entury Schoolbook"/>
              </a:rPr>
              <a:t>Музыкальный руководитель, учитель трудового обучения подключаются к ним, планируя свои занятия в соответствии с рекомендациями, полученными от педаг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2617920"/>
            <a:ext cx="3673440" cy="2755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03640" y="364500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0:53:29Z</dcterms:created>
  <dc:creator>USER001</dc:creator>
  <dc:description/>
  <dc:language>en-US</dc:language>
  <cp:lastModifiedBy>USER</cp:lastModifiedBy>
  <dcterms:modified xsi:type="dcterms:W3CDTF">2012-02-09T12:52:08Z</dcterms:modified>
  <cp:revision>5</cp:revision>
  <dc:subject/>
  <dc:title>«ИГРА КАК КОРРЕКЦИОННЫЙ МЕТОД ПРИ ОРГАНИЗАЦИИ ВНЕУРОЧНЫХ ВИДОВ ДЕЯТЕЛЬНОСТИ ОБУЧАЮЩИХСЯ С УМЕРЕННОЙ И ТЯЖЕЛОЙ УМСТВЕННОЙ ОТСТАЛОСТЬЮ»</dc:title>
</cp:coreProperties>
</file>