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7F64-350D-4DEB-AD17-233266091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2428-1DE3-4910-8C07-9EEDD348A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607F-BBA8-497F-BCAC-1E272CD34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4679-93C9-4877-8FF9-16D58BAD1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62E8-425E-406D-8EC8-2808138AD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56D2-FE6E-4509-8D54-CCB8FA84D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CCC9-03E7-4907-8F19-AFCB08325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4B14-29DF-4A4F-8E64-BEAA72683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B4FE-FC45-4F1B-8B5F-125F4A5A1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BF45-7367-49B5-8238-B2C02F94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B3F4-D7A2-4F9D-AA4F-AE13E440A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5894-5AB5-42C0-A4B8-A6C3E43F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D040E-35A2-4F4B-B197-78B400E7668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171360"/>
            <a:ext cx="777240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i="1" lang="ru-RU" sz="4000" spc="-1" strike="noStrike">
                <a:solidFill>
                  <a:srgbClr val="11488b"/>
                </a:solidFill>
                <a:latin typeface="Calibri"/>
              </a:rPr>
              <a:t> </a:t>
            </a:r>
            <a:br>
              <a:rPr sz="4000"/>
            </a:br>
            <a:r>
              <a:rPr b="1" lang="ru-RU" sz="4000" spc="-1" strike="noStrike" u="sng">
                <a:solidFill>
                  <a:srgbClr val="11488b"/>
                </a:solidFill>
                <a:uFillTx/>
                <a:latin typeface="Times New Roman"/>
                <a:ea typeface="Times New Roman"/>
              </a:rPr>
              <a:t>Как ориентируются муравьи в пространстве?</a:t>
            </a:r>
            <a:r>
              <a:rPr b="0" lang="ru-RU" sz="40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r>
              <a:rPr b="0" lang="ru-RU" sz="24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Интегрированное занятие по ознакомлению с окружающим миром и леп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16000" y="4868640"/>
            <a:ext cx="4427640" cy="19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0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 воспитатель ГБОУ ДЕТСКИЙ САД 756 ЮВАО г.Москв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четкова Г.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250920" y="3573360"/>
            <a:ext cx="4249800" cy="28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МУРАВЬ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2881440" cy="4035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4648320" y="2263680"/>
            <a:ext cx="4038480" cy="31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ПЕРЕДВИЖЕНИЕ МУРАВЬЕ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4838760" y="1849320"/>
            <a:ext cx="3657600" cy="4029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571680" y="243360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59280" y="274320"/>
            <a:ext cx="382752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МУРАВЕЙНИ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оляне возле ёлок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 построен из иголок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травой не виден он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жильцов в нём миллион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887400" y="1600200"/>
            <a:ext cx="317808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ЧТО ВНУТРИ МУРАВЕЙН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190600" y="2014560"/>
            <a:ext cx="4762800" cy="369576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4" descr=""/>
          <p:cNvPicPr/>
          <p:nvPr/>
        </p:nvPicPr>
        <p:blipFill>
          <a:blip r:embed="rId2"/>
          <a:stretch/>
        </p:blipFill>
        <p:spPr>
          <a:xfrm>
            <a:off x="2268360" y="1557360"/>
            <a:ext cx="142884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6840" y="476280"/>
            <a:ext cx="3683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равьев не нужно трогать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тий день в глуши лесов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идут, пройти не могут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сять тысяч муравьев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осильщик настоящий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сундуком семьи своей,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ый черный и блестящий,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ый сильный муравей!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оящие вокзалы –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равейники в лесу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ридоры, двери, залы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равьи багаж несут!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ый сильный, самый стойкий,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равей пришел уже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замечательной постройке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рок восемь этажей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3924360" y="1268280"/>
            <a:ext cx="414792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ЕРЕГИТЕ ПРИРОДУ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3640" y="1844280"/>
            <a:ext cx="3384360" cy="4187880"/>
          </a:xfrm>
          <a:prstGeom prst="rect">
            <a:avLst/>
          </a:prstGeom>
          <a:solidFill>
            <a:srgbClr val="92d050"/>
          </a:solidFill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разоряйте муравейники. Муравьи - лесные санитары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к прозвали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юди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3924360" y="2133720"/>
            <a:ext cx="5111640" cy="34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16:37:23Z</dcterms:created>
  <dc:creator>Дима</dc:creator>
  <dc:description/>
  <dc:language>en-US</dc:language>
  <cp:lastModifiedBy>Дима</cp:lastModifiedBy>
  <dcterms:modified xsi:type="dcterms:W3CDTF">2012-02-09T19:32:35Z</dcterms:modified>
  <cp:revision>39</cp:revision>
  <dc:subject/>
  <dc:title>Слайд 1</dc:title>
</cp:coreProperties>
</file>