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EBD-24CA-4150-8666-77604AFB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D86-05BC-42B0-AE4F-EEE159B2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2A9-2991-4D8A-8C8C-1DA27488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B44-E5A2-42AF-8518-D34F9FE2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D90C-17D3-4A76-9454-5DDFDED4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D957-362E-4175-AEB7-555F77AF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6A97-A598-4CCB-BBBE-3221C6CA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6185-ED9A-412A-88D4-8B97313F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23B4-4599-457E-B910-8711B42C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D4E7-74D3-49D3-BFCF-42E618F6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DE11-D9D4-4FB7-BDF3-D9DD791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DE4-A4BC-4589-9AF7-E42711DD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95F7-3D9C-4960-B56A-31BDCF6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94F9-7B65-47C8-BE7C-B49C2579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86BF-C5D8-4C6C-B891-BC1F9207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4DAF-7EB3-4CCF-904A-DCA9E2CE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BFF9-3DCE-4A31-8B26-EDAE359C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C6A-012C-4343-8306-C9E7051A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EA8-8437-4DA7-9E1D-3EF33213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14A-527C-4932-ADDA-82B71435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F71-6469-42E8-AC57-5518A756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3F9-C1D1-4E2D-BDA2-D48F33B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1F0-7D20-43C6-8AD7-4588168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139-3577-422B-A06C-25AC082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DED1-FC0B-4F47-B7F4-250583555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615-0FDD-4F8A-AD43-FFB9FB8CC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76309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a4"/>
                </a:solidFill>
                <a:latin typeface="Times New Roman"/>
              </a:rPr>
              <a:t>«Планета знаний» - УМК второго поколен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911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73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Основная особенность УМК заключается в его целостност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единстве структуры учебников и рабочих тетрадей по всем классам и предмет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единстве сквозных линий типовых зада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единстве подходов к организации учебной и внеуроч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2143080"/>
            <a:ext cx="3030480" cy="47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829480" y="2217600"/>
            <a:ext cx="3314520" cy="4640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411280" y="0"/>
            <a:ext cx="45277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557360"/>
            <a:ext cx="856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a4"/>
                </a:solidFill>
                <a:latin typeface="Times New Roman"/>
              </a:rPr>
              <a:t>Приказ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a4"/>
                </a:solidFill>
                <a:latin typeface="Times New Roman"/>
              </a:rPr>
              <a:t>Министерства образования Саратовской области №156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a4"/>
                </a:solidFill>
                <a:latin typeface="Times New Roman"/>
              </a:rPr>
              <a:t>от 18.06.2010 г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84360" y="3845160"/>
            <a:ext cx="10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0920" y="2205000"/>
            <a:ext cx="5053320" cy="432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042920" y="189000"/>
            <a:ext cx="71485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Основные современные принципы государственной политики РФ в области образования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уманистический характер образования, приоритет общечеловеческих ценнос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оспитание гражданственности, уважения к  правам  и  свободам  челов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единство  федерального  образовательного  пространства, защита  и  развитие  системы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образования  национальных  культу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общедоступность  образования, адаптивность  системы  образования  к  уровням  и  особенностям  развития  и  подготовки  учащихся  и  воспитан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свобода  и  плюрализм  в  образован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обеспечение  самоопределения  личности, создание  условий  для  её  самореал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формирование  у  учащихся  адекватной  картины  ми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нтеграция  личности  в  национальную  и  мировую  культур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содействие  взаимопониманию  и  сотрудничеству  между  людьми, способствование  реализации  права  учащихся  на  свободный  выбор  мнений  и  убежд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1733400" cy="2295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9900"/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48000" y="333360"/>
            <a:ext cx="1733760" cy="2222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5a7dcc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80000" y="404640"/>
            <a:ext cx="1733760" cy="2222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69bd79"/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740720" y="260280"/>
            <a:ext cx="1230120" cy="1584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ff99"/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79280" y="2133720"/>
            <a:ext cx="1733760" cy="2222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70d355"/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411280" y="2133720"/>
            <a:ext cx="1733760" cy="2222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7c80"/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716360" y="2060640"/>
            <a:ext cx="1733760" cy="2222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cc00"/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7020000" y="2060640"/>
            <a:ext cx="1733400" cy="2222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cc99"/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116000" y="4221000"/>
            <a:ext cx="1733400" cy="2222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7ee31"/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3635280" y="4149720"/>
            <a:ext cx="1741680" cy="223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ee941c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6156360" y="4149720"/>
            <a:ext cx="1733400" cy="223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1960" y="476280"/>
            <a:ext cx="77724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Инвариантная и вариативная части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«Русский язык», 1 класс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727236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Newton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3280" y="981000"/>
            <a:ext cx="419112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Задания на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«информационный поиск»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требуют обращения детей к окружающим их взрослым, к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ознавательной литературе и словарям, развивает у них потребность в поиске 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 проверке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456000" cy="38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1112040"/>
            <a:ext cx="8510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280" y="1557000"/>
            <a:ext cx="4194360" cy="4422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5754600" cy="3706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425760" y="3003480"/>
            <a:ext cx="571824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роектная деятельность (1 класс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7993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8:50:55Z</dcterms:created>
  <dc:creator>Vika</dc:creator>
  <dc:description/>
  <dc:language>en-US</dc:language>
  <cp:lastModifiedBy>Лена</cp:lastModifiedBy>
  <dcterms:modified xsi:type="dcterms:W3CDTF">2012-02-09T15:26:29Z</dcterms:modified>
  <cp:revision>60</cp:revision>
  <dc:subject/>
  <dc:title>Слайд 1</dc:title>
</cp:coreProperties>
</file>