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40.jpeg" ContentType="image/jpeg"/>
  <Override PartName="/ppt/media/image4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13.png" ContentType="image/png"/>
  <Override PartName="/ppt/media/image43.jpeg" ContentType="image/jpeg"/>
  <Override PartName="/ppt/media/image36.png" ContentType="image/png"/>
  <Override PartName="/ppt/media/image6.png" ContentType="image/pn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9794-CA68-47A1-AD48-695F81C3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216B-9593-45D6-A224-78F6BAC3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FF7A-2D92-404D-98D7-897123165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796F-37E4-45B5-9EB1-DB6B18A2D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A70D-271F-4599-B526-FD2BF1C41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FEBB-C705-49EF-B4F3-F50B5757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350C-2A4D-47AE-B2D9-16B48AA6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1AAA-4775-4309-8AD9-56135791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E4A1-618E-4EC4-9C89-7D0C97CB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EB3C-A756-4B97-8019-6859C611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B34F-3BCE-43FC-8BB5-9AC4D0DB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CAC6-164B-4A0D-9CEE-D03685E8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7E5A-CCBD-4FE8-92AB-FE870A9F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DB88-99D8-4CC0-97D1-FE260DF0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7C7A-618C-4EC2-A9A1-D1464E66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EDF1-69D6-4F4E-A5F2-0FB290631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ECAB-4A73-4CFD-BF10-735194434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48E6D-D554-458E-B023-F5CE51B10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3C90E-9632-4DA2-8CB5-3D2F8BE9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9F5B1-8D70-4082-8C0E-08D38B97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C03FE-5D48-446A-9D07-6886F469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CFC9F-065A-4366-AB2A-16245F02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7D9C-3AC5-4E77-8E12-13E2555C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0CA29-31AE-4731-AB67-290AF6DB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EF867-54FE-45C6-9139-EB4884AE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19475-5833-4410-A2A7-95B6C00D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F4E67-B8E3-40B2-8C80-0527B62B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2F9C7-1641-403F-9469-E7B0917B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6C31D-18C9-4F8E-8E0D-A9C3C471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E9C85-805D-41BE-A3B1-18F74DCCB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73EE-D7CB-4962-9E3C-17026C56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678D-344B-47A3-B1E1-445C73FA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734E-301E-4308-8D78-74084220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8786-6910-4C0C-9A7C-FD01D573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789B-A753-4E70-AEF3-B2ECB7E8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A5CC-0AE6-41A8-8075-90171C3E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7DC2-0F45-4A96-B85E-5E2CBD83482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6E72-918D-455A-9400-C363427B194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E39E-AF87-48C0-889C-545A1FEDD25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hyperlink" Target="http://www.gothic.ru/subculture/faqshow.htm?earlygoth3.jpg" TargetMode="External"/><Relationship Id="rId5" Type="http://schemas.openxmlformats.org/officeDocument/2006/relationships/image" Target="../media/image7.jpeg"/><Relationship Id="rId6" Type="http://schemas.openxmlformats.org/officeDocument/2006/relationships/hyperlink" Target="http://www.gothic.ru/subculture/faqshow.htm?make-up1.jpg" TargetMode="External"/><Relationship Id="rId7" Type="http://schemas.openxmlformats.org/officeDocument/2006/relationships/image" Target="../media/image8.jpeg"/><Relationship Id="rId8" Type="http://schemas.openxmlformats.org/officeDocument/2006/relationships/hyperlink" Target="http://www.gothic.ru/subculture/faqshow.htm?goth29.jpg" TargetMode="External"/><Relationship Id="rId9" Type="http://schemas.openxmlformats.org/officeDocument/2006/relationships/image" Target="../media/image9.jpeg"/><Relationship Id="rId10" Type="http://schemas.openxmlformats.org/officeDocument/2006/relationships/hyperlink" Target="http://www.gothic.ru/subculture/faqshow.htm?vamp4.jpg" TargetMode="External"/><Relationship Id="rId11" Type="http://schemas.openxmlformats.org/officeDocument/2006/relationships/image" Target="../media/image10.jpeg"/><Relationship Id="rId12" Type="http://schemas.openxmlformats.org/officeDocument/2006/relationships/hyperlink" Target="http://ru.wikipedia.org/wiki/&#208;&#152;&#208;&#183;&#208;&#190;&#208;&#177;&#209;&#128;&#208;&#176;&#208;&#182;&#208;&#181;&#208;&#189;&#208;&#184;&#208;&#181;:Sunday_march.jpg" TargetMode="External"/><Relationship Id="rId13" Type="http://schemas.openxmlformats.org/officeDocument/2006/relationships/image" Target="../media/image11.jpeg"/><Relationship Id="rId14" Type="http://schemas.openxmlformats.org/officeDocument/2006/relationships/image" Target="../media/image12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208;&#164;&#208;&#176;&#208;&#185;&#208;&#187;:Flower-Power_Bus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ru.wikipedia.org/wiki/&#208;&#164;&#208;&#190;&#208;" TargetMode="External"/><Relationship Id="rId4" Type="http://schemas.openxmlformats.org/officeDocument/2006/relationships/hyperlink" Target="http://ru.wikipedia.org/wiki/&#208;&#156;&#208;&#184;&#208;&#186;&#209;&#128;&#208;&#190;&#208;&#176;&#208;&#178;&#209;&#130;&#208;&#190;&#208;&#177;&#209;&#131;&#209;&#129;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208;&#164;&#208;&#176;&#208;&#185;&#208;&#187;:XCx_self.jp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ru.wikipedia.org/wiki/&#208;&#164;&#208;&#176;&#208;&#185;&#208;&#187;:Emogirl.jpg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thic.ru/subculture/faqshow.htm?goth28.jpg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www.gothic.ru/subculture/faqshow.htm?dress1.jpg" TargetMode="External"/><Relationship Id="rId4" Type="http://schemas.openxmlformats.org/officeDocument/2006/relationships/image" Target="../media/image25.jpeg"/><Relationship Id="rId5" Type="http://schemas.openxmlformats.org/officeDocument/2006/relationships/hyperlink" Target="http://www.gothic.ru/subculture/faqshow.htm?dress2.jpg" TargetMode="External"/><Relationship Id="rId6" Type="http://schemas.openxmlformats.org/officeDocument/2006/relationships/image" Target="../media/image26.jpeg"/><Relationship Id="rId7" Type="http://schemas.openxmlformats.org/officeDocument/2006/relationships/hyperlink" Target="http://www.gothic.ru/subculture/faqshow.htm?dress6.jpg" TargetMode="External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thic.ru/subculture/faqshow.htm?goth39.jpg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www.gothic.ru/subculture/faqshow.htm?earlygoth4.jpg" TargetMode="External"/><Relationship Id="rId4" Type="http://schemas.openxmlformats.org/officeDocument/2006/relationships/image" Target="../media/image29.jpeg"/><Relationship Id="rId5" Type="http://schemas.openxmlformats.org/officeDocument/2006/relationships/hyperlink" Target="http://www.gothic.ru/subculture/faqshow.htm?goth32.jpg" TargetMode="External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208;&#144;&#208;&#189;&#208;&#179;&#208;&#187;&#208;&#184;&#208;&#185;&#209;&#129;&#208;&#186;&#208;&#184;&#208;&#185;_&#209;&#143;&#208;&#183;&#209;&#139;&#208;&#186;" TargetMode="External"/><Relationship Id="rId2" Type="http://schemas.openxmlformats.org/officeDocument/2006/relationships/hyperlink" Target="http://ru.wikipedia.org/wiki/&#208;&#161;&#209;&#131;&#208;&#177;&#208;&#186;&#209;&#131;&#208;&#187;&#209;&#140;&#209;&#130;&#209;&#131;&#209;&#128;&#208;&#176;" TargetMode="External"/><Relationship Id="rId3" Type="http://schemas.openxmlformats.org/officeDocument/2006/relationships/hyperlink" Target="http://ru.wikipedia.org/wiki/&#208;&#159;&#208;&#176;&#208;&#189;&#208;&#186;-&#209;&#128;&#208;&#190;&#208;&#186;" TargetMode="External"/><Relationship Id="rId4" Type="http://schemas.openxmlformats.org/officeDocument/2006/relationships/hyperlink" Target="http://ru.wikipedia.org/wiki/&#208;&#173;&#208;&#189;&#208;&#180;&#208;&#184;_&#208;&#163;&#208;&#190;&#209;&#128;&#209;&#133;&#208;&#190;&#208;&#187;" TargetMode="External"/><Relationship Id="rId5" Type="http://schemas.openxmlformats.org/officeDocument/2006/relationships/hyperlink" Target="http://ru.wikipedia.org/wiki/Velvet_Underground" TargetMode="External"/><Relationship Id="rId6" Type="http://schemas.openxmlformats.org/officeDocument/2006/relationships/hyperlink" Target="http://ru.wikipedia.org/wiki/&#208;&#155;&#209;&#131;_&#208;&#160;&#208;&#184;&#208;&#180;" TargetMode="External"/><Relationship Id="rId7" Type="http://schemas.openxmlformats.org/officeDocument/2006/relationships/hyperlink" Target="http://ru.wikipedia.org/wiki/&#208;&#144;&#208;&#187;&#209;&#140;&#209;&#130;&#208;&#181;&#209;&#128;&#208;&#189;&#208;&#176;&#209;&#130;&#208;&#184;&#208;&#178;&#208;&#189;&#209;&#139;&#208;&#185;_&#209;&#128;&#208;&#190;&#208;&#186;" TargetMode="External"/><Relationship Id="rId8" Type="http://schemas.openxmlformats.org/officeDocument/2006/relationships/hyperlink" Target="http://ru.wikipedia.org/wiki/Ramones" TargetMode="External"/><Relationship Id="rId9" Type="http://schemas.openxmlformats.org/officeDocument/2006/relationships/hyperlink" Target="http://ru.wikipedia.org/wiki/Damned" TargetMode="External"/><Relationship Id="rId10" Type="http://schemas.openxmlformats.org/officeDocument/2006/relationships/hyperlink" Target="http://ru.wikipedia.org/wiki/Sex_Pistols" TargetMode="External"/><Relationship Id="rId11" Type="http://schemas.openxmlformats.org/officeDocument/2006/relationships/image" Target="../media/image31.jpe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208;&#164;&#208;&#176;&#208;&#185;&#208;&#187;:User-Ich_with_Mohawk.jpg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208;&#144;&#208;&#189;&#208;&#179;&#208;&#187;&#208;&#184;&#208;&#185;&#209;&#129;&#208;&#186;&#208;&#184;&#208;&#185;_&#209;&#143;&#208;&#183;&#209;&#139;&#208;&#186;" TargetMode="External"/><Relationship Id="rId2" Type="http://schemas.openxmlformats.org/officeDocument/2006/relationships/hyperlink" Target="http://ru.wikipedia.org/wiki/&#208;&#156;&#208;&#190;&#209;&#130;&#208;&#190;&#209;&#134;&#208;&#184;&#208;&#186;&#208;&#187;" TargetMode="External"/><Relationship Id="rId3" Type="http://schemas.openxmlformats.org/officeDocument/2006/relationships/hyperlink" Target="http://ru.wikipedia.org/wiki/&#208;&#164;&#208;&#176;&#208;&#185;&#208;&#187;:Donetsk_slet_bykerov_01.jpg" TargetMode="External"/><Relationship Id="rId4" Type="http://schemas.openxmlformats.org/officeDocument/2006/relationships/image" Target="../media/image33.jpeg"/><Relationship Id="rId5" Type="http://schemas.openxmlformats.org/officeDocument/2006/relationships/hyperlink" Target="http://ru.wikipedia.org/wiki/&#208;&#164;&#208;&#176;&#208;&#185;&#208;&#187;:Russian-bikers-001.jpg" TargetMode="External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208;&#161;&#208;&#184;&#208;&#188;&#208;&#178;&#208;&#190;&#208;" TargetMode="External"/><Relationship Id="rId2" Type="http://schemas.openxmlformats.org/officeDocument/2006/relationships/hyperlink" Target="http://ru.wikipedia.org/wiki/&#208;&#164;&#208;&#176;&#208;&#185;&#208;&#187;:PA060901.JPG" TargetMode="External"/><Relationship Id="rId3" Type="http://schemas.openxmlformats.org/officeDocument/2006/relationships/image" Target="../media/image35.jpeg"/><Relationship Id="rId4" Type="http://schemas.openxmlformats.org/officeDocument/2006/relationships/hyperlink" Target="http://ru.wikipedia.org/wiki/&#208;&#164;&#208;&#176;&#208;&#185;&#208;&#187;:Confederate_Navy_Jack.svg" TargetMode="External"/><Relationship Id="rId5" Type="http://schemas.openxmlformats.org/officeDocument/2006/relationships/image" Target="../media/image36.png"/><Relationship Id="rId6" Type="http://schemas.openxmlformats.org/officeDocument/2006/relationships/hyperlink" Target="http://ru.wikipedia.org/wiki/&#208;&#154;&#208;&#190;&#208;&#189;&#209;&#132;&#208;&#181;&#208;&#180;&#208;&#181;&#209;&#128;&#208;&#176;&#209;&#130;&#208;&#184;&#208;&#178;&#208;&#189;&#209;&#139;&#208;&#181;_&#209;&#136;&#209;&#130;&#208;&#176;&#209;&#130;&#209;&#139;_&#208;&#144;&#208;&#188;&#208;&#181;&#209;&#128;&#208;&#184;&#208;&#186;&#208;&#184;" TargetMode="External"/><Relationship Id="rId7" Type="http://schemas.openxmlformats.org/officeDocument/2006/relationships/hyperlink" Target="http://ru.wikipedia.org/wiki/&#208;&#162;&#209;&#128;&#208;&#176;&#208;&#180;&#208;&#184;&#209;&#134;&#208;&#184;&#209;&#143;" TargetMode="External"/><Relationship Id="rId8" Type="http://schemas.openxmlformats.org/officeDocument/2006/relationships/hyperlink" Target="http://ru.wikipedia.org/wiki/&#208;&#161;&#208;&#168;&#208;&#144;" TargetMode="External"/><Relationship Id="rId9" Type="http://schemas.openxmlformats.org/officeDocument/2006/relationships/hyperlink" Target="http://ru.wikipedia.org/wiki/&#208;&#173;&#208;&#188;&#208;&#177;&#208;" TargetMode="External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208;&#161;&#209;&#131;&#208;&#177;&#208;&#186;&#209;&#131;&#208;&#187;&#209;&#140;&#209;&#130;&#209;&#131;&#209;&#128;&#208;&#176;" TargetMode="External"/><Relationship Id="rId2" Type="http://schemas.openxmlformats.org/officeDocument/2006/relationships/hyperlink" Target="http://ru.wikipedia.org/wiki/&#208;&#156;&#209;&#131;&#208;&#183;&#209;&#139;&#208;&#186;&#208;&#176;" TargetMode="External"/><Relationship Id="rId3" Type="http://schemas.openxmlformats.org/officeDocument/2006/relationships/hyperlink" Target="http://ru.wikipedia.org/wiki/&#208;&#156;&#208;&#181;&#209;&#130;&#208;&#176;&#208;&#187;" TargetMode="External"/><Relationship Id="rId4" Type="http://schemas.openxmlformats.org/officeDocument/2006/relationships/hyperlink" Target="http://ru.wikipedia.org/wiki/1970-&#208;&#181;" TargetMode="External"/><Relationship Id="rId5" Type="http://schemas.openxmlformats.org/officeDocument/2006/relationships/hyperlink" Target="http://ru.wikipedia.org/wiki/&#208;&#164;&#208;&#176;&#208;&#185;&#208;&#187;:PriestScorpionsNEC_017_Halford.jpg" TargetMode="External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208;&#164;&#208;&#176;&#208;&#185;&#208;&#187;:An_example_of_cyber_fashion.png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208;&#164;&#208;&#176;&#208;&#185;&#208;&#187;:Gesture_raised_fist_with_index_and_pinky_lifted.jpg" TargetMode="External"/><Relationship Id="rId2" Type="http://schemas.openxmlformats.org/officeDocument/2006/relationships/image" Target="../media/image38.jpeg"/><Relationship Id="rId3" Type="http://schemas.openxmlformats.org/officeDocument/2006/relationships/hyperlink" Target="http://ru.wikipedia.org/wiki/&#208;&#154;&#208;&#190;&#209;&#129;&#209;&#131;&#209;&#133;&#208;&#176;" TargetMode="External"/><Relationship Id="rId4" Type="http://schemas.openxmlformats.org/officeDocument/2006/relationships/hyperlink" Target="http://ru.wikipedia.org/w/index.php?title=&#1053;&#1072;&#1087;&#1091;&#1083;&#1100;&#1089;&#1085;&#1080;&#1082;&#1080;&amp;action=edit&amp;redlink=1" TargetMode="Externa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208;&#144;&#208;&#189;&#208;&#179;&#208;&#187;&#208;&#184;&#208;&#185;&#209;&#129;&#208;&#186;&#208;&#184;&#208;&#185;_&#209;&#143;&#208;&#183;&#209;&#139;&#208;&#186;" TargetMode="External"/><Relationship Id="rId2" Type="http://schemas.openxmlformats.org/officeDocument/2006/relationships/hyperlink" Target="http://ru.wikipedia.org/wiki/&#208;&#161;&#209;&#131;&#208;&#177;&#208;&#186;&#209;&#131;&#208;&#187;&#209;&#140;&#209;&#130;&#209;&#131;&#209;&#128;&#208;&#176;" TargetMode="External"/><Relationship Id="rId3" Type="http://schemas.openxmlformats.org/officeDocument/2006/relationships/hyperlink" Target="http://ru.wikipedia.org/wiki/1970-&#208;&#181;" TargetMode="External"/><Relationship Id="rId4" Type="http://schemas.openxmlformats.org/officeDocument/2006/relationships/hyperlink" Target="http://ru.wikipedia.org/wiki/&#208;&#160;&#209;&#141;&#208;&#191;" TargetMode="External"/><Relationship Id="rId5" Type="http://schemas.openxmlformats.org/officeDocument/2006/relationships/hyperlink" Target="http://ru.wikipedia.org/wiki/&#208;&#161;&#208;&#187;&#208;&#181;&#208;&#189;&#208;&#179;" TargetMode="External"/><Relationship Id="rId6" Type="http://schemas.openxmlformats.org/officeDocument/2006/relationships/hyperlink" Target="http://ru.wikipedia.org/wiki/&#208;&#165;&#208;&#184;&#208;&#191;-&#209;&#133;&#208;&#190;&#208;&#191;_&#208;&#188;&#208;&#190;&#208;&#180;&#208;&#176;" TargetMode="External"/><Relationship Id="rId7" Type="http://schemas.openxmlformats.org/officeDocument/2006/relationships/hyperlink" Target="http://ru.wikipedia.org/wiki/&#208;&#145;&#209;&#128;&#208;&#181;&#208;&#185;&#208;&#186;-&#208;&#180;&#208;&#176;&#208;&#189;&#209;&#129;" TargetMode="External"/><Relationship Id="rId8" Type="http://schemas.openxmlformats.org/officeDocument/2006/relationships/hyperlink" Target="http://ru.wikipedia.org/wiki/&#208;&#147;&#209;&#128;&#208;&#176;&#209;&#132;&#209;&#132;&#208;&#184;&#209;&#130;&#208;&#184;" TargetMode="External"/><Relationship Id="rId9" Type="http://schemas.openxmlformats.org/officeDocument/2006/relationships/hyperlink" Target="http://ru.wikipedia.org/wiki/&#208;&#154;&#208;&#184;&#208;&#189;&#208;&#181;&#208;&#188;&#208;&#176;&#209;&#130;&#208;&#190;&#208;&#179;&#209;&#128;&#208;&#176;&#209;&#132;" TargetMode="External"/><Relationship Id="rId10" Type="http://schemas.openxmlformats.org/officeDocument/2006/relationships/hyperlink" Target="http://ru.wikipedia.org/wiki/&#208;&#164;&#208;&#176;&#208;&#185;&#208;&#187;:51189164_3cc8f04821_o.jpg" TargetMode="External"/><Relationship Id="rId11" Type="http://schemas.openxmlformats.org/officeDocument/2006/relationships/image" Target="../media/image39.jpeg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bonus.kg/uploads/posts/2009-02/1235673326_emodreth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208;&#147;&#208;&#190;&#209;&#130;&#209;&#139;_(&#209;&#129;&#209;&#131;&#208;&#177;&#208;&#186;&#209;&#131;&#208;" TargetMode="External"/><Relationship Id="rId2" Type="http://schemas.openxmlformats.org/officeDocument/2006/relationships/hyperlink" Target="http://ru.wikipedia.org/wiki/&#208;&#147;&#208;&#190;&#209;&#130;&#208;&#184;&#208;&#186;-&#209;&#128;&#208;&#190;&#208;&#186;" TargetMode="External"/><Relationship Id="rId3" Type="http://schemas.openxmlformats.org/officeDocument/2006/relationships/hyperlink" Target="http://ru.wikipedia.org/wiki/&#208;&#147;&#208;&#190;&#209;&#130;&#208;&#184;&#208;&#186;-&#208;&#188;&#208;&#181;&#209;&#130;&#208;&#176;&#208;" TargetMode="External"/><Relationship Id="rId4" Type="http://schemas.openxmlformats.org/officeDocument/2006/relationships/hyperlink" Target="http://ru.wikipedia.org/wiki/&#208;&#148;&#208;&#182;&#208;&#176;&#208;&#189;&#208;&#179;&#208;" TargetMode="External"/><Relationship Id="rId5" Type="http://schemas.openxmlformats.org/officeDocument/2006/relationships/hyperlink" Target="http://ru.wikipedia.org/wiki/&#208;&#148;&#208;&#182;&#208;&#176;&#208;&#189;&#208;&#179;&#208;" TargetMode="External"/><Relationship Id="rId6" Type="http://schemas.openxmlformats.org/officeDocument/2006/relationships/hyperlink" Target="http://ru.wikipedia.org/wiki/&#208;&#148;&#209;&#128;&#208;&#176;&#208;&#188;-&#208;&#189;-&#208;&#177;&#208;&#181;&#208;&#185;&#209;&#129;" TargetMode="External"/><Relationship Id="rId7" Type="http://schemas.openxmlformats.org/officeDocument/2006/relationships/hyperlink" Target="http://ru.wikipedia.org/wiki/&#208;&#162;&#209;&#128;&#208;&#176;&#208;&#189;&#209;&#129;&#208;&#181;&#209;&#128;&#209;&#139;" TargetMode="External"/><Relationship Id="rId8" Type="http://schemas.openxmlformats.org/officeDocument/2006/relationships/hyperlink" Target="http://ru.wikipedia.org/wiki/&#208;&#162;&#209;&#128;&#208;&#176;&#208;&#189;&#209;&#129;_(&#208;&#188;&#209;&#131;&#208;&#183;&#209;&#139;&#208;&#186;&#208;&#176;&#208;" TargetMode="External"/><Relationship Id="rId9" Type="http://schemas.openxmlformats.org/officeDocument/2006/relationships/hyperlink" Target="http://ru.wikipedia.org/wiki/&#208;&#156;&#208;&#181;&#209;&#130;&#208;&#176;&#208;" TargetMode="External"/><Relationship Id="rId10" Type="http://schemas.openxmlformats.org/officeDocument/2006/relationships/hyperlink" Target="http://ru.wikipedia.org/wiki/&#208;&#156;&#208;&#181;&#209;&#130;&#208;&#176;&#208;" TargetMode="External"/><Relationship Id="rId11" Type="http://schemas.openxmlformats.org/officeDocument/2006/relationships/hyperlink" Target="http://ru.wikipedia.org/wiki/&#208;&#159;&#208;&#176;&#208;&#189;&#208;&#186;" TargetMode="External"/><Relationship Id="rId12" Type="http://schemas.openxmlformats.org/officeDocument/2006/relationships/hyperlink" Target="http://ru.wikipedia.org/wiki/&#208;&#159;&#208;&#176;&#208;&#189;&#208;&#186;-&#209;&#128;&#208;&#190;&#208;&#186;" TargetMode="External"/><Relationship Id="rId13" Type="http://schemas.openxmlformats.org/officeDocument/2006/relationships/hyperlink" Target="http://ru.wikipedia.org/wiki/&#208;&#160;&#208;&#176;&#209;&#129;&#209;&#130;&#208;&#176;&#208;&#188;&#208;&#176;&#208;&#189;&#209;&#139;" TargetMode="External"/><Relationship Id="rId14" Type="http://schemas.openxmlformats.org/officeDocument/2006/relationships/hyperlink" Target="http://ru.wikipedia.org/wiki/&#208;&#160;&#208;&#181;&#208;&#179;&#208;&#179;&#208;&#184;" TargetMode="External"/><Relationship Id="rId15" Type="http://schemas.openxmlformats.org/officeDocument/2006/relationships/hyperlink" Target="http://ru.wikipedia.org/wiki/&#208;&#160;&#208;&#176;&#209;&#129;&#209;&#130;&#208;&#176;&#209;&#132;&#208;&#176;&#209;&#128;&#208;&#184;&#208;&#176;&#208;&#189;&#209;&#129;&#209;&#130;&#208;&#178;&#208;&#190;" TargetMode="External"/><Relationship Id="rId16" Type="http://schemas.openxmlformats.org/officeDocument/2006/relationships/hyperlink" Target="http://ru.wikipedia.org/wiki/&#208;&#160;&#208;&#184;&#208;&#178;&#208;&#181;&#209;&#130;&#209;&#133;&#208;&#181;&#208;&#180;" TargetMode="External"/><Relationship Id="rId17" Type="http://schemas.openxmlformats.org/officeDocument/2006/relationships/hyperlink" Target="http://ru.wikipedia.org/wiki/&#208;&#152;&#208;&#189;&#208;&#180;&#208;&#176;&#209;&#129;&#209;&#130;&#209;&#128;&#208;&#184;&#208;&#176;&#208;" TargetMode="External"/><Relationship Id="rId18" Type="http://schemas.openxmlformats.org/officeDocument/2006/relationships/hyperlink" Target="http://ru.wikipedia.org/wiki/&#208;&#160;&#209;&#141;&#208;&#185;&#208;&#178;&#208;&#181;&#209;&#128;&#209;&#139;" TargetMode="External"/><Relationship Id="rId19" Type="http://schemas.openxmlformats.org/officeDocument/2006/relationships/hyperlink" Target="http://ru.wikipedia.org/wiki/&#208;&#160;&#209;&#141;&#208;&#191;&#208;&#181;&#209;&#128;&#209;&#139;" TargetMode="External"/><Relationship Id="rId20" Type="http://schemas.openxmlformats.org/officeDocument/2006/relationships/hyperlink" Target="http://ru.wikipedia.org/wiki/&#208;&#160;&#209;&#141;&#208;&#191;" TargetMode="External"/><Relationship Id="rId21" Type="http://schemas.openxmlformats.org/officeDocument/2006/relationships/hyperlink" Target="http://ru.wikipedia.org/wiki/&#208;&#165;&#208;&#184;&#208;&#191;-&#209;&#133;&#208;&#190;&#208;&#191;" TargetMode="External"/><Relationship Id="rId22" Type="http://schemas.openxmlformats.org/officeDocument/2006/relationships/hyperlink" Target="http://ru.wikipedia.org/wiki/&#208;&#162;&#209;&#128;&#208;&#176;&#208;&#180;&#208;&#184;&#209;&#134;&#208;&#184;&#208;&#190;&#208;&#189;&#208;&#189;&#209;&#139;&#208;&#181;_&#209;&#129;&#208;&#186;&#208;&#184;&#208;&#189;&#209;&#133;&#208;&#181;&#208;&#180;&#209;&#139;" TargetMode="External"/><Relationship Id="rId23" Type="http://schemas.openxmlformats.org/officeDocument/2006/relationships/hyperlink" Target="http://ru.wikipedia.org/wiki/&#208;&#161;&#208;&#186;&#208;&#176;" TargetMode="External"/><Relationship Id="rId24" Type="http://schemas.openxmlformats.org/officeDocument/2006/relationships/hyperlink" Target="http://ru.wikipedia.org/wiki/&#208;&#160;&#208;&#181;&#208;&#179;&#208;&#179;&#208;&#184;" TargetMode="External"/><Relationship Id="rId25" Type="http://schemas.openxmlformats.org/officeDocument/2006/relationships/hyperlink" Target="http://ru.wikipedia.org/wiki/&#208;&#173;&#208;&#188;&#208;&#190;-&#208;&#186;&#208;&#184;&#208;&#180;&#209;&#139;" TargetMode="External"/><Relationship Id="rId26" Type="http://schemas.openxmlformats.org/officeDocument/2006/relationships/hyperlink" Target="http://ru.wikipedia.org/wiki/&#208;&#173;&#208;&#188;&#208;&#190;" TargetMode="External"/><Relationship Id="rId27" Type="http://schemas.openxmlformats.org/officeDocument/2006/relationships/hyperlink" Target="http://ru.wikipedia.org/wiki/&#208;&#165;&#208;&#176;&#209;&#128;&#208;&#180;&#208;&#186;&#208;&#190;&#209;&#128;-&#208;&#191;&#208;&#176;&#208;&#189;&#208;&#186;" TargetMode="External"/><Relationship Id="rId28" Type="http://schemas.openxmlformats.org/officeDocument/2006/relationships/hyperlink" Target="http://ru.wikipedia.org/wiki/&#208;&#164;&#208;&#176;&#208;&#185;&#208;&#187;:Fille-goth.jpg" TargetMode="External"/><Relationship Id="rId29" Type="http://schemas.openxmlformats.org/officeDocument/2006/relationships/image" Target="../media/image16.jpeg"/><Relationship Id="rId3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208;&#154;&#208;&#184;&#208;&#177;&#208;&#181;&#209;&#128;-&#208;&#179;&#208;&#190;&#209;&#130;&#209;&#139;" TargetMode="External"/><Relationship Id="rId2" Type="http://schemas.openxmlformats.org/officeDocument/2006/relationships/hyperlink" Target="http://ru.wikipedia.org/wiki/&#208;&#156;&#208;&#190;&#208;&#180;&#209;&#139;" TargetMode="External"/><Relationship Id="rId3" Type="http://schemas.openxmlformats.org/officeDocument/2006/relationships/hyperlink" Target="http://ru.wikipedia.org/wiki/&#208;&#157;&#209;&#131;&#208;&#180;&#208;&#184;&#208;&#183;&#208;&#188;" TargetMode="External"/><Relationship Id="rId4" Type="http://schemas.openxmlformats.org/officeDocument/2006/relationships/hyperlink" Target="http://ru.wikipedia.org/wiki/&#208;&#161;&#209;&#130;&#208;&#184;&#208;" TargetMode="External"/><Relationship Id="rId5" Type="http://schemas.openxmlformats.org/officeDocument/2006/relationships/hyperlink" Target="http://ru.wikipedia.org/wiki/&#208;&#162;&#208;&#181;&#208;&#180;&#208;&#180;&#208;&#184;-&#208;&#177;&#208;&#190;&#208;&#184;" TargetMode="External"/><Relationship Id="rId6" Type="http://schemas.openxmlformats.org/officeDocument/2006/relationships/hyperlink" Target="http://ru.wikipedia.org/wiki/&#208;&#156;&#208;&#184;&#208;" TargetMode="External"/><Relationship Id="rId7" Type="http://schemas.openxmlformats.org/officeDocument/2006/relationships/hyperlink" Target="http://ru.wikipedia.org/wiki/&#208;&#164;&#209;&#128;&#208;&#184;&#208;&#186;&#208;&#184;" TargetMode="External"/><Relationship Id="rId8" Type="http://schemas.openxmlformats.org/officeDocument/2006/relationships/hyperlink" Target="http://ru.wikipedia.org/wiki/&#208;&#164;&#208;&#176;&#208;&#185;&#208;&#187;:Cosplay.jpg" TargetMode="Externa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208;&#144;&#208;&#189;&#208;&#176;&#209;&#128;&#209;&#133;&#208;&#190;-&#208;&#191;&#208;&#176;&#208;&#189;&#208;&#186;" TargetMode="External"/><Relationship Id="rId2" Type="http://schemas.openxmlformats.org/officeDocument/2006/relationships/hyperlink" Target="http://ru.wikipedia.org/wiki/&#208;&#144;&#208;&#189;&#209;&#130;&#208;&#184;&#209;&#132;&#208;&#176;" TargetMode="External"/><Relationship Id="rId3" Type="http://schemas.openxmlformats.org/officeDocument/2006/relationships/hyperlink" Target="http://ru.wikipedia.org/wiki/&#208;&#157;&#208;&#161;-&#209;&#129;&#208;&#186;&#208;&#184;&#208;&#189;&#209;&#133;&#208;&#181;&#208;&#180;&#209;&#139;" TargetMode="External"/><Relationship Id="rId4" Type="http://schemas.openxmlformats.org/officeDocument/2006/relationships/hyperlink" Target="http://ru.wikipedia.org/wiki/&#208;&#145;&#208;&#184;&#209;&#130;&#208;&#189;&#208;&#184;&#208;&#186;&#208;&#184;" TargetMode="External"/><Relationship Id="rId5" Type="http://schemas.openxmlformats.org/officeDocument/2006/relationships/hyperlink" Target="http://ru.wikipedia.org/wiki/&#208;&#157;&#208;&#181;&#209;&#132;&#208;&#190;&#209;&#128;&#208;&#188;&#208;&#176;&#208;" TargetMode="External"/><Relationship Id="rId6" Type="http://schemas.openxmlformats.org/officeDocument/2006/relationships/hyperlink" Target="http://ru.wikipedia.org/wiki/&#208;&#157;&#209;&#140;&#209;&#142;-&#208;&#173;&#208;&#185;&#208;&#180;&#208;&#182;" TargetMode="External"/><Relationship Id="rId7" Type="http://schemas.openxmlformats.org/officeDocument/2006/relationships/hyperlink" Target="http://ru.wikipedia.org/wiki/Straight_edge" TargetMode="External"/><Relationship Id="rId8" Type="http://schemas.openxmlformats.org/officeDocument/2006/relationships/hyperlink" Target="http://ru.wikipedia.org/wiki/&#208;&#165;&#208;&#184;&#208;&#191;&#208;&#191;&#208;&#184;" TargetMode="External"/><Relationship Id="rId9" Type="http://schemas.openxmlformats.org/officeDocument/2006/relationships/hyperlink" Target="http://ru.wikipedia.org/wiki/&#208;&#175;&#208;&#191;&#208;&#191;&#208;&#184;" TargetMode="External"/><Relationship Id="rId10" Type="http://schemas.openxmlformats.org/officeDocument/2006/relationships/hyperlink" Target="http://ru.wikipedia.org/wiki/&#208;&#164;&#208;&#176;&#208;&#185;&#208;&#187;:Neo-Nazi_Skinhead.jpg" TargetMode="External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208;&#144;&#208;&#189;&#208;&#179;&#208;&#187;&#208;&#184;&#208;&#185;&#209;&#129;&#208;&#186;&#208;&#184;&#208;&#185;_&#209;&#143;&#208;&#183;&#209;&#139;&#208;&#186;" TargetMode="External"/><Relationship Id="rId2" Type="http://schemas.openxmlformats.org/officeDocument/2006/relationships/hyperlink" Target="http://ru.wikipedia.org/wiki/&#208;&#164;&#208;&#184;&#208;&#187;&#208;&#190;&#209;&#129;&#208;&#190;&#209;&#132;&#208;&#184;&#209;&#143;" TargetMode="External"/><Relationship Id="rId3" Type="http://schemas.openxmlformats.org/officeDocument/2006/relationships/hyperlink" Target="http://ru.wikipedia.org/wiki/&#208;&#161;&#209;&#131;&#208;&#177;&#208;&#186;&#209;&#131;&#208;&#187;&#209;&#140;&#209;&#130;&#209;&#131;&#209;&#128;&#208;&#176;" TargetMode="External"/><Relationship Id="rId4" Type="http://schemas.openxmlformats.org/officeDocument/2006/relationships/hyperlink" Target="http://ru.wikipedia.org/wiki/&#208;&#161;&#208;&#168;&#208;&#144;" TargetMode="External"/><Relationship Id="rId5" Type="http://schemas.openxmlformats.org/officeDocument/2006/relationships/hyperlink" Target="http://ru.wikipedia.org/wiki/1960-&#208;&#181;" TargetMode="External"/><Relationship Id="rId6" Type="http://schemas.openxmlformats.org/officeDocument/2006/relationships/hyperlink" Target="http://ru.wikipedia.org/wiki/1970-&#208;&#181;" TargetMode="External"/><Relationship Id="rId7" Type="http://schemas.openxmlformats.org/officeDocument/2006/relationships/hyperlink" Target="http://ru.wikipedia.org/wiki/&#208;&#156;&#208;&#190;&#209;&#128;&#208;&#176;&#208;&#187;&#209;&#140;" TargetMode="External"/><Relationship Id="rId8" Type="http://schemas.openxmlformats.org/officeDocument/2006/relationships/hyperlink" Target="http://ru.wikipedia.org/wiki/&#208;&#155;&#209;&#142;&#208;&#177;&#208;&#190;&#208;&#178;&#209;&#140;" TargetMode="External"/><Relationship Id="rId9" Type="http://schemas.openxmlformats.org/officeDocument/2006/relationships/hyperlink" Target="http://ru.wikipedia.org/wiki/&#208;&#159;&#208;&#176;&#209;&#134;&#208;&#184;&#209;&#132;&#208;&#184;&#208;&#183;&#208;&#188;" TargetMode="External"/><Relationship Id="rId10" Type="http://schemas.openxmlformats.org/officeDocument/2006/relationships/hyperlink" Target="http://ru.wikipedia.org/wiki/&#208;&#164;&#208;&#176;&#208;&#185;&#208;&#187;:RussianRainbowGathering_4Aug2005.jpg" TargetMode="External"/><Relationship Id="rId11" Type="http://schemas.openxmlformats.org/officeDocument/2006/relationships/image" Target="../media/image19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1" descr="23972301_1185371192_1157870885"/>
          <p:cNvPicPr/>
          <p:nvPr/>
        </p:nvPicPr>
        <p:blipFill>
          <a:blip r:embed="rId1"/>
          <a:stretch/>
        </p:blipFill>
        <p:spPr>
          <a:xfrm>
            <a:off x="3132000" y="4653000"/>
            <a:ext cx="1440000" cy="1874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46" name="Picture 10" descr="dez"/>
          <p:cNvPicPr/>
          <p:nvPr/>
        </p:nvPicPr>
        <p:blipFill>
          <a:blip r:embed="rId2"/>
          <a:stretch/>
        </p:blipFill>
        <p:spPr>
          <a:xfrm>
            <a:off x="5076720" y="5084640"/>
            <a:ext cx="3657600" cy="151452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147" name="Rectangle 2" descr=""/>
          <p:cNvPicPr/>
          <p:nvPr/>
        </p:nvPicPr>
        <p:blipFill>
          <a:blip r:embed="rId3"/>
          <a:stretch/>
        </p:blipFill>
        <p:spPr>
          <a:xfrm>
            <a:off x="390600" y="1841400"/>
            <a:ext cx="8515440" cy="15415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33200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Bonzai"/>
              </a:rPr>
              <a:t>МОЛОДЕЖНЫЕ СУБКУЛЬТУРЫ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9" name="Picture 4" descr="Ранние Готы">
            <a:hlinkClick r:id="rId4"/>
          </p:cNvPr>
          <p:cNvPicPr/>
          <p:nvPr/>
        </p:nvPicPr>
        <p:blipFill>
          <a:blip r:embed="rId5"/>
          <a:stretch/>
        </p:blipFill>
        <p:spPr>
          <a:xfrm rot="1079400">
            <a:off x="6732360" y="476280"/>
            <a:ext cx="1714320" cy="1428840"/>
          </a:xfrm>
          <a:prstGeom prst="rect">
            <a:avLst/>
          </a:prstGeom>
          <a:ln w="25560">
            <a:solidFill>
              <a:srgbClr val="e2d700"/>
            </a:solidFill>
            <a:miter/>
          </a:ln>
        </p:spPr>
      </p:pic>
      <p:pic>
        <p:nvPicPr>
          <p:cNvPr id="150" name="Picture 5" descr="готический make-up (Scary Lady Sarah - одна из самых известных американских gothic DJ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11280" y="3357720"/>
            <a:ext cx="1342800" cy="14284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151" name="Picture 6" descr="готическая прическа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857160" y="1857240"/>
            <a:ext cx="1019160" cy="142884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152" name="Picture 7" descr="Vampyre Goth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851280" y="404640"/>
            <a:ext cx="1001880" cy="14320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53" name="Picture 8" descr="Активист «Британского движения» Никки Крейн на марше неонацистов, 1986 год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11280" y="5300640"/>
            <a:ext cx="1904760" cy="127620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  <p:pic>
        <p:nvPicPr>
          <p:cNvPr id="154" name="Picture 9" descr="photo05_small"/>
          <p:cNvPicPr/>
          <p:nvPr/>
        </p:nvPicPr>
        <p:blipFill>
          <a:blip r:embed="rId14"/>
          <a:stretch/>
        </p:blipFill>
        <p:spPr>
          <a:xfrm>
            <a:off x="250920" y="189000"/>
            <a:ext cx="2371680" cy="149544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  <p:pic>
        <p:nvPicPr>
          <p:cNvPr id="155" name="Picture 10" descr="dez"/>
          <p:cNvPicPr/>
          <p:nvPr/>
        </p:nvPicPr>
        <p:blipFill>
          <a:blip r:embed="rId15"/>
          <a:stretch/>
        </p:blipFill>
        <p:spPr>
          <a:xfrm>
            <a:off x="5072040" y="5072040"/>
            <a:ext cx="3657600" cy="151452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156" name="Picture 10" descr="dez"/>
          <p:cNvPicPr/>
          <p:nvPr/>
        </p:nvPicPr>
        <p:blipFill>
          <a:blip r:embed="rId16"/>
          <a:stretch/>
        </p:blipFill>
        <p:spPr>
          <a:xfrm>
            <a:off x="5072040" y="5072040"/>
            <a:ext cx="3657600" cy="151452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6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Рисунок 2" descr="D:\Документы!!!\Федотова З.М\субкку\Хиппи — Википедия.files\180px-Flower-Power_Bu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1571760"/>
            <a:ext cx="2214360" cy="37144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"/>
          <p:cNvSpPr/>
          <p:nvPr/>
        </p:nvSpPr>
        <p:spPr>
          <a:xfrm>
            <a:off x="2643120" y="738000"/>
            <a:ext cx="5572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дним из символов движения хиппи считается старый микроавтобус «</a:t>
            </a:r>
            <a:r>
              <a:rPr b="0" lang="ru-RU" sz="2800" spc="-1" strike="noStrike" u="sng">
                <a:solidFill>
                  <a:srgbClr val="e2d700"/>
                </a:solidFill>
                <a:uFillTx/>
                <a:latin typeface="Calibri"/>
                <a:ea typeface="Times New Roman"/>
                <a:hlinkClick r:id="rId3"/>
              </a:rPr>
              <a:t>Фольксваге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», который хиппи традиционно раскрашивали в стиле «Flower Power». На таких </a:t>
            </a:r>
            <a:r>
              <a:rPr b="0" lang="ru-RU" sz="2800" spc="-1" strike="noStrike" u="sng">
                <a:solidFill>
                  <a:srgbClr val="e2d700"/>
                </a:solidFill>
                <a:uFillTx/>
                <a:latin typeface="Calibri"/>
                <a:ea typeface="Times New Roman"/>
                <a:hlinkClick r:id="rId4"/>
              </a:rPr>
              <a:t>микроавтобусах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группы хиппи любили ездить по небольшим консервативным американским городкам и шокировать их обитателей разными выходками. На картинке представлен микроавтобус Barkas B 1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D:\Документы!!!\Федотова З.М\субкку\Эмо-киды — Википедия.files\180px-XCx_self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785880"/>
            <a:ext cx="2286000" cy="3357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D:\Документы!!!\Федотова З.М\субкку\Эмо-киды — Википедия.files\200px-Emogirl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72160" y="2643120"/>
            <a:ext cx="2262240" cy="393876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3"/>
          <p:cNvSpPr/>
          <p:nvPr/>
        </p:nvSpPr>
        <p:spPr>
          <a:xfrm>
            <a:off x="3000240" y="1582560"/>
            <a:ext cx="3143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dd9"/>
                </a:solidFill>
                <a:latin typeface="Bonzai"/>
              </a:rPr>
              <a:t>Эмо (emo) – это особый образ жизни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dd9"/>
                </a:solidFill>
                <a:latin typeface="Bonzai"/>
              </a:rPr>
              <a:t>мышления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dd9"/>
                </a:solidFill>
                <a:latin typeface="Bonzai"/>
              </a:rPr>
              <a:t>Эмо – эмоции, яркие эмоции прежде все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dd9"/>
                </a:solidFill>
                <a:latin typeface="Bonzai"/>
              </a:rPr>
              <a:t>причем как позитивные, так и негатив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dd9"/>
                </a:solidFill>
                <a:latin typeface="Bonzai"/>
              </a:rPr>
              <a:t>Эмо-люди живут эмоциями. Для э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dd9"/>
                </a:solidFill>
                <a:latin typeface="Bonzai"/>
              </a:rPr>
              <a:t>выражение своих чувств - не проя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dd9"/>
                </a:solidFill>
                <a:latin typeface="Bonzai"/>
              </a:rPr>
              <a:t>слабости, а обычное состояние. Быть соб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dd9"/>
                </a:solidFill>
                <a:latin typeface="Bonzai"/>
              </a:rPr>
              <a:t>вот что для </a:t>
            </a:r>
            <a:r>
              <a:rPr b="1" i="1" lang="ru-RU" sz="1800" spc="-1" strike="noStrike">
                <a:solidFill>
                  <a:srgbClr val="009dd9"/>
                </a:solidFill>
                <a:latin typeface="Bonzai"/>
              </a:rPr>
              <a:t>эмо</a:t>
            </a:r>
            <a:r>
              <a:rPr b="1" lang="ru-RU" sz="1800" spc="-1" strike="noStrike">
                <a:solidFill>
                  <a:srgbClr val="009dd9"/>
                </a:solidFill>
                <a:latin typeface="Bonzai"/>
              </a:rPr>
              <a:t> самое глав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357360" y="999720"/>
            <a:ext cx="53146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Bonzai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Bonzai"/>
              </a:rPr>
              <a:t>      </a:t>
            </a:r>
            <a:r>
              <a:rPr b="0" lang="ru-RU" sz="2600" spc="-1" strike="noStrike">
                <a:solidFill>
                  <a:srgbClr val="0f6fc6"/>
                </a:solidFill>
                <a:latin typeface="Bonzai"/>
              </a:rPr>
              <a:t>Так получилось, что </a:t>
            </a:r>
            <a:r>
              <a:rPr b="1" lang="ru-RU" sz="2600" spc="-1" strike="noStrike">
                <a:solidFill>
                  <a:srgbClr val="0f6fc6"/>
                </a:solidFill>
                <a:latin typeface="Bonzai"/>
              </a:rPr>
              <a:t>эмо</a:t>
            </a:r>
            <a:r>
              <a:rPr b="0" lang="ru-RU" sz="2600" spc="-1" strike="noStrike">
                <a:solidFill>
                  <a:srgbClr val="0f6fc6"/>
                </a:solidFill>
                <a:latin typeface="Bonzai"/>
              </a:rPr>
              <a:t> - это новое модное течение.  Вот недалекое провинциальное понятие об эмо-стиле: надо красить волосы и ногти в черный цвет, носить челку набок, скейтерские кеды, обвешаться значками с названиями любимых групп, и так дале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8" name="Picture 2" descr="http://www.newsland.ru/public/upload/news/slaid/interesnoe_moda_i_stil_molodezh_1.jpg"/>
          <p:cNvPicPr/>
          <p:nvPr/>
        </p:nvPicPr>
        <p:blipFill>
          <a:blip r:embed="rId1"/>
          <a:stretch/>
        </p:blipFill>
        <p:spPr>
          <a:xfrm>
            <a:off x="428760" y="1214280"/>
            <a:ext cx="264312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LegendeC"/>
              </a:rPr>
              <a:t>Стилистика одежды готов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f6fc6"/>
                </a:solidFill>
                <a:latin typeface="Constantia"/>
              </a:rPr>
              <a:t>       </a:t>
            </a:r>
            <a:r>
              <a:rPr b="1" i="1" lang="ru-RU" sz="1600" spc="-1" strike="noStrike">
                <a:solidFill>
                  <a:srgbClr val="0f6fc6"/>
                </a:solidFill>
                <a:latin typeface="Constantia"/>
              </a:rPr>
              <a:t>Корсеты - бывают двух видов: близкие по виду к  историческим" корсетам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f6fc6"/>
                </a:solidFill>
                <a:latin typeface="Constantia"/>
              </a:rPr>
              <a:t>      </a:t>
            </a:r>
            <a:r>
              <a:rPr b="1" i="1" lang="ru-RU" sz="1600" spc="-1" strike="noStrike">
                <a:solidFill>
                  <a:srgbClr val="0f6fc6"/>
                </a:solidFill>
                <a:latin typeface="Constantia"/>
              </a:rPr>
              <a:t>прошлых эпох и корсеты близкие к  фетиш эстетике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1" name="Picture 15" descr="Девушка-гот в корсет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86240" y="1857240"/>
            <a:ext cx="1357560" cy="20005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82" name="Picture 22" descr="Девушка-гот в шелковом плать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43680" y="4214880"/>
            <a:ext cx="1428480" cy="2357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83" name="Picture 24" descr="Девушка-гот в виниловом платье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00960" y="1857240"/>
            <a:ext cx="1214280" cy="20005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84" name="Picture 25" descr="Девушка-гот в историческом платье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286760" y="4214880"/>
            <a:ext cx="1304640" cy="2357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85" name="Rectangle 26"/>
          <p:cNvSpPr/>
          <p:nvPr/>
        </p:nvSpPr>
        <p:spPr>
          <a:xfrm>
            <a:off x="785880" y="3472200"/>
            <a:ext cx="3643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f6fc6"/>
                </a:solidFill>
                <a:latin typeface="Times New Roman"/>
              </a:rPr>
              <a:t>Платья, Юбки - самые разнообразные, иногда созданные по мотивам "исторических" платьев - с использованием кружев, кружевных или цветных вставок в лиф, иногда используются двойные юбки. Создаются преимущественно из бархата, шелка, парчи, шифона, гипюр, цвета различные, но доминируют черный, бардовый, фиолетовый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85480" y="213840"/>
            <a:ext cx="442908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f6fc6"/>
                </a:solidFill>
                <a:latin typeface="Constantia"/>
              </a:rPr>
              <a:t>Рубашки - изготавливаются в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f6fc6"/>
                </a:solidFill>
                <a:latin typeface="Constantia"/>
              </a:rPr>
              <a:t>основном из бархата ил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f6fc6"/>
                </a:solidFill>
                <a:latin typeface="Constantia"/>
              </a:rPr>
              <a:t>хлопчатобумажной ткани, шелка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f6fc6"/>
                </a:solidFill>
                <a:latin typeface="Constantia"/>
              </a:rPr>
              <a:t>чаще всего с кружевами на рукавах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f6fc6"/>
                </a:solidFill>
                <a:latin typeface="Constantia"/>
              </a:rPr>
              <a:t>иногда с жабо, часто используются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f6fc6"/>
                </a:solidFill>
                <a:latin typeface="Constantia"/>
              </a:rPr>
              <a:t>шнуровки. Иногда изготавливаются из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f6fc6"/>
                </a:solidFill>
                <a:latin typeface="Constantia"/>
              </a:rPr>
              <a:t>прозрачного кружева. Часто со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f6fc6"/>
                </a:solidFill>
                <a:latin typeface="Constantia"/>
              </a:rPr>
              <a:t>свободными, широкими рукавами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7" name="Picture 12" descr="гот в кружевной рубашк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00880" y="0"/>
            <a:ext cx="2071800" cy="257184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188" name="Picture 18" descr="гот в черной накидк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7760" y="2643120"/>
            <a:ext cx="2847960" cy="28576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189" name="Picture 21" descr="девушка в кружевной накидке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15120" y="3071880"/>
            <a:ext cx="1571760" cy="37861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90" name="Rectangle 28"/>
          <p:cNvSpPr/>
          <p:nvPr/>
        </p:nvSpPr>
        <p:spPr>
          <a:xfrm>
            <a:off x="-363708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9"/>
          <p:cNvSpPr/>
          <p:nvPr/>
        </p:nvSpPr>
        <p:spPr>
          <a:xfrm>
            <a:off x="214200" y="2514960"/>
            <a:ext cx="357192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Плащи, Накидки - от исторических до стиля модерн. Изготавливаются из бархата, шелка, бывают как односторонние, так и двусторонние, чаще всего с подкладкой другого цвета (алого, фиолетового, черного), иногда бывают с капюшонами. </a:t>
            </a: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0"/>
                            </p:stCondLst>
                            <p:childTnLst>
                              <p:par>
                                <p:cTn id="3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000"/>
                            </p:stCondLst>
                            <p:childTnLst>
                              <p:par>
                                <p:cTn id="38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рямоугольник 1"/>
          <p:cNvSpPr/>
          <p:nvPr/>
        </p:nvSpPr>
        <p:spPr>
          <a:xfrm>
            <a:off x="3500280" y="750960"/>
            <a:ext cx="5286600" cy="55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анк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а́нк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англ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punk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) — молодёжная </a:t>
            </a: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субкультур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возникшая в середине 70-х годов в Великобритании, США, Канаде и Австралии, характерными особенностями которой являются любовь к музыке </a:t>
            </a: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панк-рок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критическое отношение к обществу и политике. С панк-роком тесно связано имя известного американского художника </a:t>
            </a: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Энди Уорхол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и продюссированной им группой </a:t>
            </a: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Velvet Underground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Их солист </a:t>
            </a: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Лу Рид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считается отцом-основателем </a:t>
            </a: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альтернативного рок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течения, которое тесно связано с панк-ро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пулярная американская группа </a:t>
            </a: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Ramones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считается первой группой, игравшей музыку в стиле «панк-рок». Первыми британскими панк-группами признаны </a:t>
            </a: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9"/>
              </a:rPr>
              <a:t>Damned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и </a:t>
            </a: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10"/>
              </a:rPr>
              <a:t>Sex Pist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http://www.newsland.ru/public/upload/news/slaid/interesnoe_moda_i_stil_molodezh_1_1_1_1_1_1_1_1.jpg"/>
          <p:cNvPicPr/>
          <p:nvPr/>
        </p:nvPicPr>
        <p:blipFill>
          <a:blip r:embed="rId11"/>
          <a:stretch/>
        </p:blipFill>
        <p:spPr>
          <a:xfrm>
            <a:off x="571680" y="500040"/>
            <a:ext cx="25714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"/>
          <p:cNvSpPr/>
          <p:nvPr/>
        </p:nvSpPr>
        <p:spPr>
          <a:xfrm>
            <a:off x="4143240" y="440640"/>
            <a:ext cx="48578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анки отличаются пёстрым эпатажным имидж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Многие панки красят волосы в яркие неестественные цвета, начёсывают и фиксируют их лаком, и  гелем или пивом, чтобы они стояли торчком. В 80-х у панков стала модной причёска «ирокез». Носят закатанные джинсы, некоторые предварительно вымачивают джинсы в растворе отбеливателя, чтобы те пошли рыжими разводами. Носят тяжёлые ботинки, а также кеды. Манеру носить кеды начали группа Ramones, а саму эту манеру они переняли у мексиканской шпаны (также именуемой как «латиносы»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уртка-косуха — была перенята, как рок-н-ролльный атрибут из 50-х, когда мотоцикл и рок-н-ролл бы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Рисунок 2" descr="D:\Документы!!!\Федотова З.М\субкку\Панк — Википедия.files\180px-User-Ich_with_Mohaw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1571760"/>
            <a:ext cx="385776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1285920"/>
            <a:ext cx="7854840" cy="36957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Прямоугольник 3"/>
          <p:cNvSpPr/>
          <p:nvPr/>
        </p:nvSpPr>
        <p:spPr>
          <a:xfrm>
            <a:off x="285840" y="2500200"/>
            <a:ext cx="835812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Ба́йкеры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англ.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biker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от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bike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←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motorbike ← motorbicycle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«мотоцикл»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) — любители и поклонники мотоциклов. В отличие от обычных мотоциклистов, у байкеров мотоцикл является частью образа жизни. Характерным также является объединение с единомышленниками на основе этого обра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Рисунок 4" descr="D:\Документы!!!\Федотова З.М\субкку\Байкеры — Википедия.files\180px-Donetsk_slet_bykerov_0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5840" y="357120"/>
            <a:ext cx="3071880" cy="192888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5" descr="D:\Документы!!!\Федотова З.М\субкку\Байкеры — Википедия.files\180px-Russian-bikers-001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29120" y="4500720"/>
            <a:ext cx="385776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Символика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 байкеро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1" name="Содержимое 3" descr="D:\Документы!!!\Федотова З.М\субкку\Байкеры — Википедия.files\150px-PA06090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040" y="1928880"/>
            <a:ext cx="2143080" cy="264312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4" descr="D:\Документы!!!\Федотова З.М\субкку\Байкеры — Википедия.files\150px-Confederate_Navy_Jack.svg.p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5840" y="4929120"/>
            <a:ext cx="2286000" cy="157176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5"/>
          <p:cNvSpPr/>
          <p:nvPr/>
        </p:nvSpPr>
        <p:spPr>
          <a:xfrm flipH="1">
            <a:off x="2643120" y="5072040"/>
            <a:ext cx="61437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Флаг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Конфедерации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(точнее, его вариант — Naval Jack).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Традици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его применения пошла от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американских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байке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8"/>
          <p:cNvSpPr/>
          <p:nvPr/>
        </p:nvSpPr>
        <p:spPr>
          <a:xfrm>
            <a:off x="2857680" y="1785960"/>
            <a:ext cx="557208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Эмблем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(у байкеров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9"/>
              </a:rPr>
              <a:t>эмблем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обычно называется «Цвета») клуба, нашитая на спину (зачастую её нашивают на кожаные или джинсовые жилетки, которые надевают поверх косухи, но могут нашивать и на куртку), которая показывает к какому мото-клубу принадлежит байк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Прямоугольник 1"/>
          <p:cNvSpPr/>
          <p:nvPr/>
        </p:nvSpPr>
        <p:spPr>
          <a:xfrm>
            <a:off x="3643200" y="500040"/>
            <a:ext cx="4929480" cy="71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еталли́сты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еталхэ́ды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или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ета́леры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) — это молодёжная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субкультур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вдохновлённая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музыко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в стиле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метал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появившаяся в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1970-е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г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убкультура широко распространена в северной Европе,  в северной Америке, есть значительное количество ее представителей в южной Америке, южной Европе и Японии. На Ближнем Востоке, за исключением Израиля и Турции, металлисты (как и многие другие «неформалы») малочисленны и подвергаются преследован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2" descr="D:\Документы!!!\Федотова З.М\субкку\Металлисты — Википедия.files\250px-PriestScorpionsNEC_017_Halford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1680" y="928800"/>
            <a:ext cx="25714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1"/>
          <p:cNvSpPr/>
          <p:nvPr/>
        </p:nvSpPr>
        <p:spPr>
          <a:xfrm>
            <a:off x="3929040" y="2286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резентация для классного ча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6" descr="D:\Документы!!!\Федотова З.М\субкку\Кибер-готы — Википедия.files\250px-An_example_of_cyber_fashion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680" y="1071720"/>
            <a:ext cx="356868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D:\Документы!!!\Федотова З.М\субкку\Металлисты — Википедия.files\100px-Gesture_raised_fist_with_index_and_pinky_lifte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71720" y="1071720"/>
            <a:ext cx="2428560" cy="364320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4"/>
          <p:cNvSpPr/>
          <p:nvPr/>
        </p:nvSpPr>
        <p:spPr>
          <a:xfrm>
            <a:off x="1143000" y="4000680"/>
            <a:ext cx="218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ст металлис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5"/>
          <p:cNvSpPr/>
          <p:nvPr/>
        </p:nvSpPr>
        <p:spPr>
          <a:xfrm>
            <a:off x="4000680" y="357120"/>
            <a:ext cx="4857480" cy="75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Характерный жест металлистов, известный в России как «коза» — вскинутый вверх кулак с разжатым мизинцем и указательным пальцем и направленной стороной ладони вперёд. Мода: типичный рем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линные вол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жаная куртка «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косух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ёрные футболки или балах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Напульсники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— кожаные брасле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шивки на одеж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яжелая обувь , кожаные шт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Цепи, крепящиеся на поя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Прямоугольник 1"/>
          <p:cNvSpPr/>
          <p:nvPr/>
        </p:nvSpPr>
        <p:spPr>
          <a:xfrm>
            <a:off x="3500280" y="714240"/>
            <a:ext cx="5357880" cy="59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Хип-хо́п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англ.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hip hop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) — молодёжная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субкультур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появившаяся в середине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1970-х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в среде афроамериканцев и латиноамериканцев. Для неё характерны своя музыка (также называемая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хип-хоп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рэп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), свой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сленг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своя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хип-хоп мод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танцевальные стили (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брейк-данс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и др.), графическое искусство (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граффити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) и свой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9"/>
              </a:rPr>
              <a:t>кинематограф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 К началу 1990-х г. хип-хоп стал частью молодёжной культуры во многих странах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Рисунок 2" descr="D:\Документы!!!\Федотова З.М\субкку\Хип-хоп — Википедия.files\250px-51189164_3cc8f04821_o.jp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85840" y="1357200"/>
            <a:ext cx="285732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"/>
          <p:cNvSpPr/>
          <p:nvPr/>
        </p:nvSpPr>
        <p:spPr>
          <a:xfrm>
            <a:off x="285840" y="114300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Русский хип-хо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ервые эксперименты с рэпом в России относятся, видимо, к 1984 году, когда в Куйбышеве диск-жокей дискотеки «Канон» Александр Астров совместно с местной группой «Час пик» записали 25-минутную программу, которая вскоре разошлась по всей стране в виде магнитоальбома «Рэп» [1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мимо этих экспериментов, хип-хоп в России приобрёл известность, достаточно широкую, во второй половине 1980-х гг., когда началось увлечение брейкданс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http://www.newsland.ru/public/upload/news/slaid/interesnoe_moda_i_stil_molodezh_1_1_1_1.jpg"/>
          <p:cNvPicPr/>
          <p:nvPr/>
        </p:nvPicPr>
        <p:blipFill>
          <a:blip r:embed="rId1"/>
          <a:stretch/>
        </p:blipFill>
        <p:spPr>
          <a:xfrm>
            <a:off x="5072040" y="1214280"/>
            <a:ext cx="371484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"/>
          <p:cNvSpPr/>
          <p:nvPr/>
        </p:nvSpPr>
        <p:spPr>
          <a:xfrm>
            <a:off x="3429000" y="695520"/>
            <a:ext cx="5429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сероссийская общественная организация «Молодая Гвардия Единой России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явленные цели создателей «Молодой гвардии Единой России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влечение молодежи в процессы построения демократического, социально справедливого обществ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спитание у молодежи чувства патриотизма и гордости за свою стран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здание условий для межнационального и межконфессионального общения молодежи, с целью укрепления российской государствен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http://im2-tub.yandex.net/i?id=53167952&amp;tov=2"/>
          <p:cNvPicPr/>
          <p:nvPr/>
        </p:nvPicPr>
        <p:blipFill>
          <a:blip r:embed="rId1"/>
          <a:stretch/>
        </p:blipFill>
        <p:spPr>
          <a:xfrm>
            <a:off x="357120" y="928800"/>
            <a:ext cx="2714760" cy="28414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http://im6-tub.yandex.net/i?id=113575364&amp;tov=6"/>
          <p:cNvPicPr/>
          <p:nvPr/>
        </p:nvPicPr>
        <p:blipFill>
          <a:blip r:embed="rId2"/>
          <a:stretch/>
        </p:blipFill>
        <p:spPr>
          <a:xfrm>
            <a:off x="214200" y="4357800"/>
            <a:ext cx="3000600" cy="19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1"/>
          <p:cNvSpPr/>
          <p:nvPr/>
        </p:nvSpPr>
        <p:spPr>
          <a:xfrm>
            <a:off x="2786040" y="928800"/>
            <a:ext cx="5429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действие формированию молодежной культуры, повышению образовательного, интеллектуального и профессионального уровня молодеж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паганда лучших достижений и традиций российского государства с целью интеграции и взаимопонимания поколен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формирование и создание условий для всестороннего полного развития и воспитания человека и гражданина, удовлетворение его прав на объединен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паганда здорового образа жизни, образования и труд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хранение и преумножение культуры, содействие развитию науки, спорта и туриз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http://im3-tub.yandex.net/i?id=54054922&amp;tov=3"/>
          <p:cNvPicPr/>
          <p:nvPr/>
        </p:nvPicPr>
        <p:blipFill>
          <a:blip r:embed="rId1"/>
          <a:stretch/>
        </p:blipFill>
        <p:spPr>
          <a:xfrm>
            <a:off x="285840" y="571680"/>
            <a:ext cx="2357280" cy="2928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http://im8-tub.yandex.net/i?id=3203892&amp;tov=8"/>
          <p:cNvPicPr/>
          <p:nvPr/>
        </p:nvPicPr>
        <p:blipFill>
          <a:blip r:embed="rId2"/>
          <a:stretch/>
        </p:blipFill>
        <p:spPr>
          <a:xfrm>
            <a:off x="285840" y="4071960"/>
            <a:ext cx="22860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8" descr="Картинка 1 из 6948"/>
          <p:cNvPicPr/>
          <p:nvPr/>
        </p:nvPicPr>
        <p:blipFill>
          <a:blip r:embed="rId1"/>
          <a:stretch/>
        </p:blipFill>
        <p:spPr>
          <a:xfrm>
            <a:off x="857160" y="1000080"/>
            <a:ext cx="79678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"/>
          <p:cNvSpPr/>
          <p:nvPr/>
        </p:nvSpPr>
        <p:spPr>
          <a:xfrm>
            <a:off x="1500120" y="1143000"/>
            <a:ext cx="6643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Л. В. Шабанов. Социально-психологические характеристики молодежных субкультур: социальный протест или вынужденная маргинальность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мельченко Е. Молодежные культуры и субкультуры / Ин-т социологии РАН, Ульян. гос. ун-т. Н.-И. центр «Регион». — М.: Ин-т социологии РАН, 2000. — 262 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лександр Тарасов. «Они нас изучают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Теория моды». № 10, зима 2008—2009. Дик Хебдидж. Главы из книги «Субкультура: значение стиля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Теория моды». № 10, зима 2008—2009. Дмитрий Громов. Любера: как становились пацан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Теория моды». № 10, зима 2008—2009. Джо Терни. Взгляд сквозь камеру слежения: антисоциальный трикотаж и «эти жуткие типы в капюшонах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Теория моды». № 10, зима 2008—2009. Энн Пирсон-Смит. «Готы», «Лолиты», «дарты вейдеры» и коробка с маскарадными костюмами: исследование феномена косплея в Юго-Восточной Аз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35728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Против всего можно устоять…</a:t>
            </a:r>
            <a:br>
              <a:rPr sz="4000"/>
            </a:b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                                                   Ж-Ж Руссо</a:t>
            </a:r>
            <a:br>
              <a:rPr sz="4900"/>
            </a:br>
            <a:br>
              <a:rPr sz="4500"/>
            </a:b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«Молодежная  субкультура </a:t>
            </a:r>
            <a:br>
              <a:rPr sz="4500"/>
            </a:b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в современном обществе»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13840" y="4500720"/>
            <a:ext cx="8643960" cy="182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Цель: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знакомить с молодежными субкультурам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1"/>
          <p:cNvSpPr/>
          <p:nvPr/>
        </p:nvSpPr>
        <p:spPr>
          <a:xfrm>
            <a:off x="285840" y="428760"/>
            <a:ext cx="857232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Образовательна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знакомить с молодежными неформальными объединениями и определить их роль в обществе;   научить школьников выражать свое отношение к различным группировк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Развивающа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 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азвитие аналитического мышления, умения проводить обобщения и делать самостоятельные вы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Воспитательна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   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оспитание толерантного отношения к мнению других людей,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оспитывать чувство ответственности за свое поведение, за соблюдение различных норм закона, в отношениях с людьми. Воспитывать чувство ответственности у подростков за свое будущее, выбор места в общ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Оборудование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: компьютер, мультимединый проектор, экр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http://im8-tub.yandex.net/i?id=49400284&amp;tov=8"/>
          <p:cNvPicPr/>
          <p:nvPr/>
        </p:nvPicPr>
        <p:blipFill>
          <a:blip r:embed="rId1"/>
          <a:srcRect l="0" t="21470" r="0" b="32618"/>
          <a:stretch/>
        </p:blipFill>
        <p:spPr>
          <a:xfrm rot="1012800">
            <a:off x="4927680" y="1019160"/>
            <a:ext cx="3887640" cy="1046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Картинка 1 из 694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760" y="2357280"/>
            <a:ext cx="542916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071800" y="214200"/>
            <a:ext cx="64562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onstantia"/>
              </a:rPr>
              <a:t>Субкультуры, основанные на поклонниках различных жанров музыки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Готы</a:t>
            </a: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 </a:t>
            </a:r>
            <a:r>
              <a:rPr b="0" lang="ru-RU" sz="2000" spc="-1" strike="noStrike">
                <a:solidFill>
                  <a:srgbClr val="0070c0"/>
                </a:solidFill>
                <a:latin typeface="Constantia"/>
              </a:rPr>
              <a:t>— поклонники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готик-рока</a:t>
            </a:r>
            <a:r>
              <a:rPr b="0" lang="ru-RU" sz="2000" spc="-1" strike="noStrike">
                <a:solidFill>
                  <a:srgbClr val="0070c0"/>
                </a:solidFill>
                <a:latin typeface="Constantia"/>
              </a:rPr>
              <a:t> и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готик-метала</a:t>
            </a:r>
            <a:r>
              <a:rPr b="0" lang="ru-RU" sz="2000" spc="-1" strike="noStrike">
                <a:solidFill>
                  <a:srgbClr val="0070c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Джанглисты</a:t>
            </a:r>
            <a:r>
              <a:rPr b="0" lang="ru-RU" sz="2000" spc="-1" strike="noStrike">
                <a:solidFill>
                  <a:srgbClr val="0070c0"/>
                </a:solidFill>
                <a:latin typeface="Constantia"/>
              </a:rPr>
              <a:t> — поклонники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джангла</a:t>
            </a:r>
            <a:r>
              <a:rPr b="0" lang="ru-RU" sz="2000" spc="-1" strike="noStrike">
                <a:solidFill>
                  <a:srgbClr val="0070c0"/>
                </a:solidFill>
                <a:latin typeface="Constantia"/>
              </a:rPr>
              <a:t> и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драм энд бейса</a:t>
            </a:r>
            <a:r>
              <a:rPr b="0" lang="ru-RU" sz="2000" spc="-1" strike="noStrike">
                <a:solidFill>
                  <a:srgbClr val="0070c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Трансеры</a:t>
            </a:r>
            <a:r>
              <a:rPr b="0" lang="ru-RU" sz="2000" spc="-1" strike="noStrike">
                <a:solidFill>
                  <a:srgbClr val="0070c0"/>
                </a:solidFill>
                <a:latin typeface="Constantia"/>
              </a:rPr>
              <a:t> — поклонники стиля электронной музыки «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транс</a:t>
            </a:r>
            <a:r>
              <a:rPr b="0" lang="ru-RU" sz="2000" spc="-1" strike="noStrike">
                <a:solidFill>
                  <a:srgbClr val="0070c0"/>
                </a:solidFill>
                <a:latin typeface="Constantia"/>
              </a:rPr>
              <a:t>»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9"/>
              </a:rPr>
              <a:t>Металисты</a:t>
            </a:r>
            <a:r>
              <a:rPr b="0" lang="ru-RU" sz="2000" spc="-1" strike="noStrike">
                <a:solidFill>
                  <a:srgbClr val="0070c0"/>
                </a:solidFill>
                <a:latin typeface="Constantia"/>
              </a:rPr>
              <a:t> — поклонники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10"/>
              </a:rPr>
              <a:t>метала</a:t>
            </a:r>
            <a:r>
              <a:rPr b="0" lang="ru-RU" sz="2000" spc="-1" strike="noStrike">
                <a:solidFill>
                  <a:srgbClr val="0070c0"/>
                </a:solidFill>
                <a:latin typeface="Constantia"/>
              </a:rPr>
              <a:t> и его разновидностей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11"/>
              </a:rPr>
              <a:t>Панки</a:t>
            </a:r>
            <a:r>
              <a:rPr b="0" lang="ru-RU" sz="2000" spc="-1" strike="noStrike">
                <a:solidFill>
                  <a:srgbClr val="0070c0"/>
                </a:solidFill>
                <a:latin typeface="Constantia"/>
              </a:rPr>
              <a:t> — поклонники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12"/>
              </a:rPr>
              <a:t>панк-рока</a:t>
            </a:r>
            <a:r>
              <a:rPr b="0" lang="ru-RU" sz="2000" spc="-1" strike="noStrike">
                <a:solidFill>
                  <a:srgbClr val="0070c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13"/>
              </a:rPr>
              <a:t>Растаманы</a:t>
            </a:r>
            <a:r>
              <a:rPr b="0" lang="ru-RU" sz="2000" spc="-1" strike="noStrike">
                <a:solidFill>
                  <a:srgbClr val="0070c0"/>
                </a:solidFill>
                <a:latin typeface="Constantia"/>
              </a:rPr>
              <a:t> — поклонники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14"/>
              </a:rPr>
              <a:t>регги</a:t>
            </a:r>
            <a:r>
              <a:rPr b="0" lang="ru-RU" sz="2000" spc="-1" strike="noStrike">
                <a:solidFill>
                  <a:srgbClr val="0070c0"/>
                </a:solidFill>
                <a:latin typeface="Constantia"/>
              </a:rPr>
              <a:t> (см. также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15"/>
              </a:rPr>
              <a:t>Растафарианство</a:t>
            </a:r>
            <a:r>
              <a:rPr b="0" lang="ru-RU" sz="2000" spc="-1" strike="noStrike">
                <a:solidFill>
                  <a:srgbClr val="0070c0"/>
                </a:solidFill>
                <a:latin typeface="Constant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16"/>
              </a:rPr>
              <a:t>Риветхеды</a:t>
            </a:r>
            <a:r>
              <a:rPr b="0" lang="ru-RU" sz="2000" spc="-1" strike="noStrike">
                <a:solidFill>
                  <a:srgbClr val="0070c0"/>
                </a:solidFill>
                <a:latin typeface="Constantia"/>
              </a:rPr>
              <a:t> — поклонники музыки в стиле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17"/>
              </a:rPr>
              <a:t>индастриал</a:t>
            </a:r>
            <a:r>
              <a:rPr b="0" lang="ru-RU" sz="2000" spc="-1" strike="noStrike">
                <a:solidFill>
                  <a:srgbClr val="0070c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18"/>
              </a:rPr>
              <a:t>Рэйверы</a:t>
            </a:r>
            <a:r>
              <a:rPr b="0" lang="ru-RU" sz="2000" spc="-1" strike="noStrike">
                <a:solidFill>
                  <a:srgbClr val="0070c0"/>
                </a:solidFill>
                <a:latin typeface="Constantia"/>
              </a:rPr>
              <a:t> — поклонники рэйва, танцевальной музыки и дискотек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19"/>
              </a:rPr>
              <a:t>Рэперы</a:t>
            </a:r>
            <a:r>
              <a:rPr b="0" lang="ru-RU" sz="2000" spc="-1" strike="noStrike">
                <a:solidFill>
                  <a:srgbClr val="0070c0"/>
                </a:solidFill>
                <a:latin typeface="Constantia"/>
              </a:rPr>
              <a:t> — поклонники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20"/>
              </a:rPr>
              <a:t>рэпа</a:t>
            </a:r>
            <a:r>
              <a:rPr b="0" lang="ru-RU" sz="2000" spc="-1" strike="noStrike">
                <a:solidFill>
                  <a:srgbClr val="0070c0"/>
                </a:solidFill>
                <a:latin typeface="Constantia"/>
              </a:rPr>
              <a:t> и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21"/>
              </a:rPr>
              <a:t>хип-хопа</a:t>
            </a:r>
            <a:r>
              <a:rPr b="0" lang="ru-RU" sz="2000" spc="-1" strike="noStrike">
                <a:solidFill>
                  <a:srgbClr val="0070c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22"/>
              </a:rPr>
              <a:t>Традиционные скинхеды</a:t>
            </a:r>
            <a:r>
              <a:rPr b="0" lang="ru-RU" sz="2000" spc="-1" strike="noStrike">
                <a:solidFill>
                  <a:srgbClr val="0070c0"/>
                </a:solidFill>
                <a:latin typeface="Constantia"/>
              </a:rPr>
              <a:t> — любители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23"/>
              </a:rPr>
              <a:t>ска</a:t>
            </a:r>
            <a:r>
              <a:rPr b="0" lang="ru-RU" sz="2000" spc="-1" strike="noStrike">
                <a:solidFill>
                  <a:srgbClr val="0070c0"/>
                </a:solidFill>
                <a:latin typeface="Constantia"/>
              </a:rPr>
              <a:t> и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24"/>
              </a:rPr>
              <a:t>регги</a:t>
            </a:r>
            <a:r>
              <a:rPr b="0" lang="ru-RU" sz="2000" spc="-1" strike="noStrike">
                <a:solidFill>
                  <a:srgbClr val="0070c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25"/>
              </a:rPr>
              <a:t>Эмо</a:t>
            </a:r>
            <a:r>
              <a:rPr b="0" lang="ru-RU" sz="2000" spc="-1" strike="noStrike">
                <a:solidFill>
                  <a:srgbClr val="0070c0"/>
                </a:solidFill>
                <a:latin typeface="Constantia"/>
              </a:rPr>
              <a:t> — поклонники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26"/>
              </a:rPr>
              <a:t>эмо</a:t>
            </a:r>
            <a:r>
              <a:rPr b="0" lang="ru-RU" sz="2000" spc="-1" strike="noStrike">
                <a:solidFill>
                  <a:srgbClr val="0070c0"/>
                </a:solidFill>
                <a:latin typeface="Constantia"/>
              </a:rPr>
              <a:t> и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27"/>
              </a:rPr>
              <a:t>пост-хардкора</a:t>
            </a:r>
            <a:r>
              <a:rPr b="0" lang="ru-RU" sz="2000" spc="-1" strike="noStrike">
                <a:solidFill>
                  <a:srgbClr val="0070c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5" name="Рисунок 3" descr="D:\Документы!!!\Федотова З.М\субкку\Субкультура — Википедия.files\180px-Fille-goth.jpg">
            <a:hlinkClick r:id="rId28"/>
          </p:cNvPr>
          <p:cNvPicPr/>
          <p:nvPr/>
        </p:nvPicPr>
        <p:blipFill>
          <a:blip r:embed="rId29"/>
          <a:stretch/>
        </p:blipFill>
        <p:spPr>
          <a:xfrm>
            <a:off x="285840" y="1214280"/>
            <a:ext cx="170964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500"/>
                            </p:stCondLst>
                            <p:childTnLst>
                              <p:par>
                                <p:cTn id="1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500"/>
                            </p:stCondLst>
                            <p:childTnLst>
                              <p:par>
                                <p:cTn id="1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500"/>
                            </p:stCondLst>
                            <p:childTnLst>
                              <p:par>
                                <p:cTn id="17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86080" y="642600"/>
            <a:ext cx="53863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миджевы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убкультуры, выделяемые по стилю в одежде и поведению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Кибер-гот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Мод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Нудист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Стиляг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Тедди-бо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Милитар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Фрик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7" name="Рисунок 2" descr="D:\Документы!!!\Федотова З.М\субкку\Субкультура — Википедия.files\180px-Cosplay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95280" y="1430280"/>
            <a:ext cx="292896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86080" y="2143080"/>
            <a:ext cx="540072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Субкультуры, выделяемые по общественным убеждениям:</a:t>
            </a:r>
            <a:br>
              <a:rPr sz="2800"/>
            </a:br>
            <a:r>
              <a:rPr b="0" lang="ru-RU" sz="28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Анархо-панки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2800"/>
            </a:br>
            <a:r>
              <a:rPr b="0" lang="ru-RU" sz="28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Антифа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2800"/>
            </a:br>
            <a:r>
              <a:rPr b="0" lang="ru-RU" sz="2800" spc="-1" strike="noStrike" u="sng">
                <a:solidFill>
                  <a:srgbClr val="e2d700"/>
                </a:solidFill>
                <a:uFillTx/>
                <a:latin typeface="Calibri"/>
                <a:hlinkClick r:id="rId3"/>
              </a:rPr>
              <a:t>НС-скинхеды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2800"/>
            </a:br>
            <a:r>
              <a:rPr b="0" lang="ru-RU" sz="2800" spc="-1" strike="noStrike" u="sng">
                <a:solidFill>
                  <a:srgbClr val="e2d700"/>
                </a:solidFill>
                <a:uFillTx/>
                <a:latin typeface="Calibri"/>
                <a:hlinkClick r:id="rId4"/>
              </a:rPr>
              <a:t>Битники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2800"/>
            </a:br>
            <a:r>
              <a:rPr b="0" lang="ru-RU" sz="2800" spc="-1" strike="noStrike" u="sng">
                <a:solidFill>
                  <a:srgbClr val="e2d700"/>
                </a:solidFill>
                <a:uFillTx/>
                <a:latin typeface="Calibri"/>
                <a:hlinkClick r:id="rId5"/>
              </a:rPr>
              <a:t>Неформалы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2800"/>
            </a:br>
            <a:r>
              <a:rPr b="0" lang="ru-RU" sz="2800" spc="-1" strike="noStrike" u="sng">
                <a:solidFill>
                  <a:srgbClr val="e2d700"/>
                </a:solidFill>
                <a:uFillTx/>
                <a:latin typeface="Calibri"/>
                <a:hlinkClick r:id="rId6"/>
              </a:rPr>
              <a:t>Нью-Эйдж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2800"/>
            </a:br>
            <a:r>
              <a:rPr b="0" lang="ru-RU" sz="2800" spc="-1" strike="noStrike" u="sng">
                <a:solidFill>
                  <a:srgbClr val="e2d700"/>
                </a:solidFill>
                <a:uFillTx/>
                <a:latin typeface="Calibri"/>
                <a:hlinkClick r:id="rId7"/>
              </a:rPr>
              <a:t>Стрейт-эджеры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2800"/>
            </a:br>
            <a:r>
              <a:rPr b="0" lang="ru-RU" sz="2800" spc="-1" strike="noStrike" u="sng">
                <a:solidFill>
                  <a:srgbClr val="e2d700"/>
                </a:solidFill>
                <a:uFillTx/>
                <a:latin typeface="Calibri"/>
                <a:hlinkClick r:id="rId8"/>
              </a:rPr>
              <a:t>Хиппи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2800"/>
            </a:br>
            <a:r>
              <a:rPr b="0" lang="ru-RU" sz="2800" spc="-1" strike="noStrike" u="sng">
                <a:solidFill>
                  <a:srgbClr val="e2d700"/>
                </a:solidFill>
                <a:uFillTx/>
                <a:latin typeface="Calibri"/>
                <a:hlinkClick r:id="rId9"/>
              </a:rPr>
              <a:t>Яппи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45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69" name="Содержимое 3" descr="D:\Документы!!!\Федотова З.М\субкку\Субкультура — Википедия.files\180px-Neo-Nazi_Skinhead.jp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28760" y="1785960"/>
            <a:ext cx="25002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1"/>
          <p:cNvSpPr/>
          <p:nvPr/>
        </p:nvSpPr>
        <p:spPr>
          <a:xfrm>
            <a:off x="4000680" y="642960"/>
            <a:ext cx="4357440" cy="64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Хи́пп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(от </a:t>
            </a: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англ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hippy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или 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hippie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; от разг. 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hip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или 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hер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(в просторечье хиппари, хиппаны) — «модный, стильный»; согласно Оксфордскому словарю англ.яз., происхождение 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hip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неизвестно) — молодёжная </a:t>
            </a: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философия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и </a:t>
            </a: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субкультур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возникшая в </a:t>
            </a: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СШ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в </a:t>
            </a: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1960-х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Расцвет движения пришелся на конец 1960-х - начало </a:t>
            </a: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1970-х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годов. Первоначально хиппи протестовали против пуританской </a:t>
            </a: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морал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некоторых протестантских церквей, а также пропагандировали стремление вернуться к природной чистоте через свободную </a:t>
            </a: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любовь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и </a:t>
            </a: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9"/>
              </a:rPr>
              <a:t>пацифизм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Один из самых известных лозунгов хиппи: «Make love, not war!», что значит «занимайтесь любовью (сексом), а не войной!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Рисунок 7" descr="D:\Документы!!!\Федотова З.М\субкку\Хиппи — Википедия.files\180px-RussianRainbowGathering_4Aug2005.jp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28760" y="1071720"/>
            <a:ext cx="28573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12:50:54Z</dcterms:created>
  <dc:creator>user</dc:creator>
  <dc:description/>
  <dc:language>en-US</dc:language>
  <cp:lastModifiedBy>Данил</cp:lastModifiedBy>
  <dcterms:modified xsi:type="dcterms:W3CDTF">2011-11-21T05:10:37Z</dcterms:modified>
  <cp:revision>29</cp:revision>
  <dc:subject/>
  <dc:title>ПРЕЗЕНТАЦИЯ</dc:title>
</cp:coreProperties>
</file>