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13.jpeg" ContentType="image/jpeg"/>
  <Override PartName="/ppt/media/image10.jpeg" ContentType="image/jpeg"/>
  <Override PartName="/ppt/media/image8.jpeg" ContentType="image/jpeg"/>
  <Override PartName="/ppt/media/image7.jpeg" ContentType="image/jpeg"/>
  <Override PartName="/ppt/media/image5.wmf" ContentType="image/x-wmf"/>
  <Override PartName="/ppt/media/image6.jpeg" ContentType="image/jpeg"/>
  <Override PartName="/ppt/media/image11.jpeg" ContentType="image/jpeg"/>
  <Override PartName="/ppt/media/image4.png" ContentType="image/png"/>
  <Override PartName="/ppt/media/image12.wmf" ContentType="image/x-wmf"/>
  <Override PartName="/ppt/media/image9.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B9A46-1FDF-47AE-A9DF-C2C8CFB05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7A649-9CBB-4F87-B202-A2DCCE4B3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D3E0FD-5636-45FE-82A1-1A27176C71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1E71FF-F2F1-4FCA-88F0-3CA20815F3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58C4E7-6B5A-4914-A6DE-DD4403561F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D902CF-BD7A-4D6F-ABE8-AFBB03E1A8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687EEE-D81E-4F38-B79B-7133B9C079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06D348-D282-406B-8139-F8151F7EF8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FD9FC7-5454-4493-93BC-DFC60127E0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0C8721-EDAB-4AB1-95BA-FDAA08E1F1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1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94CF83-CEB6-4DC0-B5FA-E9E51E4350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070229-FD25-4A1D-A46F-5EF7A75F25D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1FAFE-FEC4-4734-ABE4-C383225CD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0CB3F1-2166-4777-9483-19FE00EA85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93BA19-D4DE-49EF-BB77-791724D7A9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80D9B3-76A0-40BC-8383-6D10FF91A2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B41B0C-5EDB-49EE-983C-0FB14DE319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3827EF-3DF6-4377-BEA8-2B01362EE9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4F4F85-2D80-4DE6-9E28-64265164A4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2014DB-C2CB-45E4-87EE-8E270A140B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8B5475-BA6A-435D-98D4-D19249E57C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73D915-8471-45F6-A5F8-BDEF8E83FF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286F081-7684-4B3A-8923-6E95FE65488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4FE4B-0CFB-47CC-89A2-DC8F3D14C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4302412-0D5D-4A5C-8AB1-A4196BFD765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9001877-7129-48ED-9ACE-5E5B8BF22B3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F8EF1D-065E-4984-85B0-7A77E0EE63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B80D6E5-9B6D-482F-9AA0-E67B0F6A78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6618C7-B410-4D2C-93D2-E9F0A59C9B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FF8D0F-AA87-4B26-AD0C-965227237C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AB53A8-B578-433E-A1CB-D8E039D0DF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2992F1-FE5C-4359-89F5-B71953F547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2B9C20-0CF4-4CFC-9091-30808509B4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6F2DC5-D3B6-409E-A3F6-2928A2844E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3E894-7F87-41DE-A118-E81C927C1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9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D771B0-9ED2-42B1-B12C-D9D07266BC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9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8A0EBBE-C208-410F-8079-57B75A8D2F8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DB32832-B815-45A0-BD20-56CD45BFE5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BA6F8F5-3609-49B1-98ED-56558BC1E37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6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D56538-E679-4EAE-8C45-E6170CE031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6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629A92-146D-4CB3-988D-7391EDA297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6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6A6DFC-C05B-437C-A60E-B47DEC6DF5A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23BA28-10AB-4181-AF98-1B33026919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9FC4E9-810C-4A39-B286-7DD3FFCADFC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7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837825-619E-4636-A767-48806F8D8E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A7DF2-A116-4CEB-8D8F-962F8F2E1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7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259C5F-7D7E-4E14-82F9-9A076B194F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326B05-C3E8-4E26-9326-274B93357B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9B4C22-B94C-417D-B21D-142D4E611CF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4B45CC2-B50E-4084-84E6-56E8887BD5A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9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9E005D0-5558-404A-B20F-F300E349414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6F82A19-C548-4BA6-BB4A-225C8CE51A1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A73DE82-1DDF-4CE3-A3E2-F02D40001A9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3B16C47-D4BC-453E-ACC2-A31D589DC83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2E928F3-66D1-4979-A7F0-0CCB4B9BC23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9A96BC0-BF79-4662-8627-CC1248CD414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17E17-CE73-469C-9766-B4D236EE1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2AD8F4C-297B-4DDF-9C99-FB57BA84DA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969303-6807-4D86-A6A2-5C4CEB2350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E99987-0008-437D-BAE0-BA6379ACBA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F1F5C9-74B4-4B8E-9DB9-8449CE894B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535D936-4A75-464B-9008-B633B0818A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EB66EE2-08AC-4646-A37F-D3E016EFB7C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3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960ACF5-93CA-4302-9658-2DAF980E2AD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67F8040-E570-4422-BC4E-07833C9AAA8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5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7AB661D-7255-46DF-BFDA-AE8C58A57A7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5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2036F66-35BB-4659-B5F7-0D99A34EFC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954C2-8434-4198-A213-B2B8ABCA1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5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F86F3A7-16C6-42D9-BF55-06048FA54F6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42DBAB4-2116-42F3-B0C6-ACAB8104400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2A01817-9452-4568-98E5-09F4011D68E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8D17D1-E924-4089-A04F-E6B1382414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6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219319-DFE0-4C89-B34E-004C131624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C76751B-603A-478D-87B5-0E843DACC6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7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86BB67F-A9FC-4966-8054-694E1BDD749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7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640C936-2489-471D-8D89-EA0C2E36A9C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8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6416DA5-5391-454F-A51A-2F65E1BF9AF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498A21D-3448-4626-A7D6-E2057E57D93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3043E-16F7-4C96-B37C-BCA0E0AAE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9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443DDD1-CB9E-4892-BE49-95A9387B46A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EEE7311-A5EB-4EA4-B38E-C5805E6A3BF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340FDA0-75FF-4EF4-9759-294D36B230F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48BB62F-6607-4A3E-A682-569066F2354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727184C-62B5-415C-B53A-BEF2C9AA5A4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8303D03-B4C3-4A9A-B66E-F7AFF751BF5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1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00CF6A6-1DF2-4195-9032-4E7FB5BBB98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B56A9C5-1809-4790-999A-279CB86531D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1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A64AA6C-E54D-49F9-BAA5-28CB466D6CA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2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227EC45-A7CA-40D1-8ED8-2E8D17D0EEC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9BD77-7F49-4C9D-9222-B69465381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2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BAF94AD-9ACE-4D16-9A22-04C16F23A7B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C226241-6BE6-4E61-8299-88B7CF7E7B2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6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4BF44A1-3955-4C0D-B86D-A3B0994858F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6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2C008B6-2192-48CD-9436-5C9E3CB0E14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6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045FC2A-4BD6-40DC-B38E-AE89DF2D55B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42CC707-C6F4-4818-9237-922C91D63FE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D90CAE3-80C7-4D04-A6F3-B2EE86B06A3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CD028A9-EFB3-4B6A-AC85-894A314F54A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128EB72-F363-4D25-93D9-C6869F7320E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7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E1FB0E7-597C-4E40-BF52-9724636E3D0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30575-2FCC-4AB4-BC71-794AF2920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2828FD4-1839-4471-BF63-59EABFE6A14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C547913-16EC-4256-8710-0DF55F16691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18AC98B-0E7F-4626-B544-04067E8EE07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D134BEA-8D23-4B77-AE15-0F424B010EC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40174AB-EEEF-47C2-82A7-D8BD9ADBFC0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A0A97E5-3D3A-447D-864E-3336EBCF47A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1E5D065-A6A3-4219-A0FC-6FEF7E9DB35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52BF312-EE8C-43B7-893E-D846661EDCF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BFBBD87-64D7-4819-ABF1-D2ABDFE483D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4D9B08D-8852-4553-80BB-A589E2000C9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5FF47-9BB8-40CB-A1AE-0601C255F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5D7FF-CDB9-4AB9-917B-246B05738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E4ED02B-9E3A-42F8-91CA-EFE2E074E5C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3BCB854-D15D-4421-8740-A417067E2C3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4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E37649F-98E3-41C9-BFE5-FC6A007FF80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4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E26DF0B-EC0E-4C60-85F3-54EC5414291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5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D8D330D-748C-45A9-BE91-AA785A9B303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A681EE3-CD84-40C1-AC27-E5F617F94F0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9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EC514DF-3E6F-4D67-AA85-C78A7F1CAEA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9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1101E68-0C5B-4587-B9AD-55E983A5735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0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447F4C4-0A7A-4D2C-B433-29F1E992233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4F4DFA9-94CD-4BFB-A840-922B4E76815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D3F5A-26AE-43E5-B0F9-8A07229CB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0D59227-5248-4451-A71A-321F73F7414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0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926B599-4F02-4BC2-BF02-A59E7CE957E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AB8B6C9-7CFC-4FB2-AA43-3E61DC41714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1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22326EC-EBF7-4D3E-816D-C0006121842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1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53586BE-8750-4325-9010-D451049BCB2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6761735-947B-4B30-A7B0-4692224C15F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1ED0731-8B8A-4EA1-B81B-5A96E12148C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1D5CA-B0DF-47CF-8CE8-E27DB27A9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6AD0E1-0942-435B-8B0E-7DA0683C87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393CA5-0579-4DFF-9DB4-9855D046B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D9078B-BA42-404C-96DC-F092EA44CB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8F879C-FA15-4881-A2EA-85B0879E0C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EC5BCF-2B6D-47BC-A349-B6B4E70D2D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7512D5-9CCF-4195-B69E-270C22D5F8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ADD30A-A6C4-4698-AF02-00702A77FD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1849A-C1B6-4FDD-9AA9-DBADBE807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1492FC-4E9B-4F00-A354-D46F0220C8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E743D-9FA1-40D9-8A29-E4BBA4CE85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A03BEC-7B58-4744-86C9-5050BF8B25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1DA6A5-7DA3-41D4-B2BB-4E72C997E3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F994EB-568E-4E6A-A1D8-0F332BCFDC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9F2907-A21A-43AA-A142-A4F26568FE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317C94-CEAE-4B20-9071-1CC10AB95E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DB3E75-BBEC-4A59-8F0C-22FE19347B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EAB047-0BE2-4976-AA3A-367405EBA5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EFDD43-B915-4EB0-807E-209DE643FF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06E3A-0BFA-4320-97BA-78232F15F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B1CF3C-5E9D-4C46-AEED-699B1E12DA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FB6969-A506-4C0B-BC2F-58B6514594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B8CF9B-DBD1-46B8-A082-D30C705F31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8E6217-E952-4FE3-BC9C-57F59B4578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160958-D759-479A-A413-E9AA75A38B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DD02A4-877F-463D-B52D-BD0277B1DD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4E4FC7-272F-48A8-AE6C-5576447454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5613E0-88D7-4399-B526-CB64C8911E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0C1707-96FE-4330-967F-AB294EC921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F903C0F-82C2-471C-BE6C-9C5C4F658E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A4F00-E84D-4A33-808A-C1C4F367E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711E24E-F5A7-4E78-9FD8-A35ADB06D1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7F09F01-D5C2-419A-9060-174212303D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D73CF61-7200-4410-8924-B0D1F43201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5B6A577-61B3-489F-92BD-B664FDF3A5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473CC98-06E7-4AB8-A4D3-1A35A7945C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115C2AF-12A8-499D-9A77-3A946CC2AC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84AEC27-05B7-466A-B0F7-F19F10004C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91883F-126E-4F18-B8CD-DFAC357821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EE95E0C-F179-4CEA-B5FE-EFE83EE59F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072DAEF-0561-4188-A231-3BEE08D3BD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70560-9088-482A-AA45-C1129483C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5C70AB2-6647-455E-840B-905136BD72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594C41-CCFD-4C94-AAD9-EDEB199DC5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377085-D888-4261-973D-33ACDD29C5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7F0B6C-EF60-4675-95C0-0DBEA2DFC7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8CB14A-4DFA-4DE6-8122-7B428A0972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9F4915-9697-4E41-B653-28E22AA7A8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BF6EF3-F740-4F22-9378-73EB033706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907043-2732-441A-8AAA-E0739FDF16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308FA4-578C-4485-A896-83AFF6E1A1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4A6223-3344-4E1F-B1A6-3702777585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8244F-A5EC-4541-8BBF-DC2FD3A1A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B6B10C-CB30-435F-A926-0D44245669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290DF8-BFF6-4F68-8F6E-6B457CF0B4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D3EE46-DD9A-4891-BCC7-A0B8E59176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E574374-4874-4C16-80DB-6C426FFB026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BBEB668-CFF2-4033-B282-4F4A5F8054F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55C5F25-5661-4701-AF5F-92183845285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A34D9EC-A8C5-4D26-B5B7-C9FCCFE641B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3BEEAFD-481B-4463-82E9-4A347D5B135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C8BBB2F-9C0F-4A17-9454-EA9A583C580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C835524-615B-49E8-B41F-8C0FDEA6D31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0AA75-1FC8-4ACE-8C3A-1602F7F25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0C7B681-0826-4334-ADD0-24E270ABC69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759C43F-F6E5-47C8-8BF6-4B53CDCEFA9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BDA56BA-1C1C-411B-90EC-A505FCA3F8A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2285EB2-8CAB-4C8A-9F6F-4D2F7B03B1A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3CB9C64-0D02-460E-81D7-2FFDFC3ABD0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6B6AEA-C6A6-46DE-A409-71C841E120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5EBFF7-E78B-47AD-A547-B364F6C547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698DEC-D024-4B87-9B3C-4918622611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C57812-3ABB-452E-98BD-194E213B88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9B5749-B523-45B0-8F88-2F97B391E8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9A1FB-DA8E-40A9-B94F-4428A553F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2EDCC9-668D-4343-BCD6-12952835E3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856071-0A42-48A6-8D02-A10018F559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AA907B-93BF-4839-B1D5-8F1006DFAF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23C4E9-EC58-4BD0-9707-B530AB4597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FB1E0D-9E11-459A-B73B-970F204F83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63E543-0F95-40C2-A822-EF2D7888E8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3ACBFD-C8E9-4F95-A85B-1F96B17903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7B1C3E-9985-4622-8D36-0D985D937B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42057B-6FB2-4F4F-98EC-C2D359107A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932E23-F876-4714-88DD-0B8B49FAC06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78F9-CEC5-4F03-AE37-84D67DE0878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618"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9" name="PlaceHolder 3"/>
          <p:cNvSpPr>
            <a:spLocks noGrp="1"/>
          </p:cNvSpPr>
          <p:nvPr>
            <p:ph type="dt" idx="28"/>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PlaceHolder 5"/>
          <p:cNvSpPr>
            <a:spLocks noGrp="1"/>
          </p:cNvSpPr>
          <p:nvPr>
            <p:ph type="sldNum" idx="30"/>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2C751-87A8-46DF-9445-DECB650F072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58" name="Group 2"/>
          <p:cNvGrpSpPr/>
          <p:nvPr/>
        </p:nvGrpSpPr>
        <p:grpSpPr>
          <a:xfrm>
            <a:off x="318960" y="1752480"/>
            <a:ext cx="8825040" cy="5129280"/>
            <a:chOff x="318960" y="1752480"/>
            <a:chExt cx="8825040" cy="5129280"/>
          </a:xfrm>
        </p:grpSpPr>
        <p:sp>
          <p:nvSpPr>
            <p:cNvPr id="659"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62"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63"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666"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7" name="PlaceHolder 3"/>
          <p:cNvSpPr>
            <a:spLocks noGrp="1"/>
          </p:cNvSpPr>
          <p:nvPr>
            <p:ph type="dt" idx="31"/>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PlaceHolder 4"/>
          <p:cNvSpPr>
            <a:spLocks noGrp="1"/>
          </p:cNvSpPr>
          <p:nvPr>
            <p:ph type="ftr" idx="32"/>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PlaceHolder 5"/>
          <p:cNvSpPr>
            <a:spLocks noGrp="1"/>
          </p:cNvSpPr>
          <p:nvPr>
            <p:ph type="sldNum" idx="3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6BDF-33F0-4996-986E-5E779311587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706" name="Group 2"/>
          <p:cNvGrpSpPr/>
          <p:nvPr/>
        </p:nvGrpSpPr>
        <p:grpSpPr>
          <a:xfrm>
            <a:off x="3600" y="1422360"/>
            <a:ext cx="9143640" cy="5435640"/>
            <a:chOff x="3600" y="1422360"/>
            <a:chExt cx="9143640" cy="5435640"/>
          </a:xfrm>
        </p:grpSpPr>
        <p:grpSp>
          <p:nvGrpSpPr>
            <p:cNvPr id="707" name="Group 3"/>
            <p:cNvGrpSpPr/>
            <p:nvPr/>
          </p:nvGrpSpPr>
          <p:grpSpPr>
            <a:xfrm>
              <a:off x="31680" y="1422360"/>
              <a:ext cx="9115560" cy="5435640"/>
              <a:chOff x="31680" y="1422360"/>
              <a:chExt cx="9115560" cy="5435640"/>
            </a:xfrm>
          </p:grpSpPr>
          <p:sp>
            <p:nvSpPr>
              <p:cNvPr id="708"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21" name="Group 17"/>
            <p:cNvGrpSpPr/>
            <p:nvPr/>
          </p:nvGrpSpPr>
          <p:grpSpPr>
            <a:xfrm>
              <a:off x="3600" y="3639960"/>
              <a:ext cx="2193840" cy="2694240"/>
              <a:chOff x="3600" y="3639960"/>
              <a:chExt cx="2193840" cy="2694240"/>
            </a:xfrm>
          </p:grpSpPr>
          <p:sp>
            <p:nvSpPr>
              <p:cNvPr id="722"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23"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4"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25"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26"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7"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8"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9"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0"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1"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2"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33"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4"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5"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6"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7"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8"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9"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40"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1"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2"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3"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4"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5"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6"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7"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8"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9"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0"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1"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2"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3"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4"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5"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6"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7"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8"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9"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0"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1"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62"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3"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4"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5"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6"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7"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8"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9"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0"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1"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2"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3"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4"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75"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6"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7"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8"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9"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0"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1"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2"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3"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4"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5"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7"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8"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9"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0"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1"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2"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3"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4"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5"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96"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7"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8"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9"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0"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1"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2"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3"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4"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5"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6"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7"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8"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9"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0"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1"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12"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3"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4"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5"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6"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7"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8"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9"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0"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1"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2"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3"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4"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5"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6"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7"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8"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9"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0"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1"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2"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3"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4"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5"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6"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7"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8"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9"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0"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1"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2"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49"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50"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52"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3"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58"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9" name="PlaceHolder 3"/>
          <p:cNvSpPr>
            <a:spLocks noGrp="1"/>
          </p:cNvSpPr>
          <p:nvPr>
            <p:ph type="dt" idx="3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1" name="PlaceHolder 5"/>
          <p:cNvSpPr>
            <a:spLocks noGrp="1"/>
          </p:cNvSpPr>
          <p:nvPr>
            <p:ph type="sldNum" idx="3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4C61-F5AB-467F-97F4-B8C66889CE93}" type="slidenum">
              <a:rPr b="0" lang="ru-RU"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9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3E52-8225-4893-B118-E7E53ADB8093}"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39" name="Group 2"/>
          <p:cNvGrpSpPr/>
          <p:nvPr/>
        </p:nvGrpSpPr>
        <p:grpSpPr>
          <a:xfrm>
            <a:off x="0" y="0"/>
            <a:ext cx="9140760" cy="6850080"/>
            <a:chOff x="0" y="0"/>
            <a:chExt cx="9140760" cy="6850080"/>
          </a:xfrm>
        </p:grpSpPr>
        <p:grpSp>
          <p:nvGrpSpPr>
            <p:cNvPr id="940" name="Group 3"/>
            <p:cNvGrpSpPr/>
            <p:nvPr/>
          </p:nvGrpSpPr>
          <p:grpSpPr>
            <a:xfrm>
              <a:off x="2743200" y="3540240"/>
              <a:ext cx="6392880" cy="3309840"/>
              <a:chOff x="2743200" y="3540240"/>
              <a:chExt cx="6392880" cy="3309840"/>
            </a:xfrm>
          </p:grpSpPr>
          <p:sp>
            <p:nvSpPr>
              <p:cNvPr id="941"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6"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950" name="PlaceHolder 3"/>
          <p:cNvSpPr>
            <a:spLocks noGrp="1"/>
          </p:cNvSpPr>
          <p:nvPr>
            <p:ph type="dt" idx="40"/>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1" name="PlaceHolder 4"/>
          <p:cNvSpPr>
            <a:spLocks noGrp="1"/>
          </p:cNvSpPr>
          <p:nvPr>
            <p:ph type="ftr" idx="41"/>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2" name="PlaceHolder 5"/>
          <p:cNvSpPr>
            <a:spLocks noGrp="1"/>
          </p:cNvSpPr>
          <p:nvPr>
            <p:ph type="sldNum" idx="42"/>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42E1-2D06-43E5-965B-776211977BA0}"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989" name="Group 2"/>
          <p:cNvGrpSpPr/>
          <p:nvPr/>
        </p:nvGrpSpPr>
        <p:grpSpPr>
          <a:xfrm>
            <a:off x="0" y="0"/>
            <a:ext cx="8458200" cy="5943600"/>
            <a:chOff x="0" y="0"/>
            <a:chExt cx="8458200" cy="5943600"/>
          </a:xfrm>
        </p:grpSpPr>
        <p:sp>
          <p:nvSpPr>
            <p:cNvPr id="990"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99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94"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5"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6"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2992A-D18B-49BD-B1ED-901A5F2E0D71}"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33" name="Group 2"/>
          <p:cNvGrpSpPr/>
          <p:nvPr/>
        </p:nvGrpSpPr>
        <p:grpSpPr>
          <a:xfrm>
            <a:off x="0" y="0"/>
            <a:ext cx="9159840" cy="6858000"/>
            <a:chOff x="0" y="0"/>
            <a:chExt cx="9159840" cy="6858000"/>
          </a:xfrm>
        </p:grpSpPr>
        <p:sp>
          <p:nvSpPr>
            <p:cNvPr id="103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0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57" name="PlaceHolder 3"/>
          <p:cNvSpPr>
            <a:spLocks noGrp="1"/>
          </p:cNvSpPr>
          <p:nvPr>
            <p:ph type="dt" idx="4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9" name="PlaceHolder 5"/>
          <p:cNvSpPr>
            <a:spLocks noGrp="1"/>
          </p:cNvSpPr>
          <p:nvPr>
            <p:ph type="sldNum" idx="4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51C3-4A80-4220-98E1-337564200DF9}"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096" name="Group 2"/>
          <p:cNvGrpSpPr/>
          <p:nvPr/>
        </p:nvGrpSpPr>
        <p:grpSpPr>
          <a:xfrm>
            <a:off x="0" y="0"/>
            <a:ext cx="9144000" cy="6934320"/>
            <a:chOff x="0" y="0"/>
            <a:chExt cx="9144000" cy="6934320"/>
          </a:xfrm>
        </p:grpSpPr>
        <p:sp>
          <p:nvSpPr>
            <p:cNvPr id="1097"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07"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08"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17"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8"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9"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0715-FE05-4286-A33E-9D965A6E9A6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156" name="Group 2"/>
          <p:cNvGrpSpPr/>
          <p:nvPr/>
        </p:nvGrpSpPr>
        <p:grpSpPr>
          <a:xfrm>
            <a:off x="3800520" y="1789200"/>
            <a:ext cx="5348160" cy="5056200"/>
            <a:chOff x="3800520" y="1789200"/>
            <a:chExt cx="5348160" cy="5056200"/>
          </a:xfrm>
        </p:grpSpPr>
        <p:sp>
          <p:nvSpPr>
            <p:cNvPr id="115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15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8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9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93" name="PlaceHolder 3"/>
          <p:cNvSpPr>
            <a:spLocks noGrp="1"/>
          </p:cNvSpPr>
          <p:nvPr>
            <p:ph type="dt" idx="52"/>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4" name="PlaceHolder 4"/>
          <p:cNvSpPr>
            <a:spLocks noGrp="1"/>
          </p:cNvSpPr>
          <p:nvPr>
            <p:ph type="ftr" idx="53"/>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5" name="PlaceHolder 5"/>
          <p:cNvSpPr>
            <a:spLocks noGrp="1"/>
          </p:cNvSpPr>
          <p:nvPr>
            <p:ph type="sldNum" idx="5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C6EB-DEBE-4DA9-AC23-B8F39F894423}"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18960" y="1828800"/>
            <a:ext cx="8825040" cy="5029200"/>
            <a:chOff x="318960" y="1828800"/>
            <a:chExt cx="8825040" cy="5029200"/>
          </a:xfrm>
        </p:grpSpPr>
        <p:sp>
          <p:nvSpPr>
            <p:cNvPr id="42"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9"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 name="PlaceHolder 1"/>
          <p:cNvSpPr>
            <a:spLocks noGrp="1"/>
          </p:cNvSpPr>
          <p:nvPr>
            <p:ph type="dt" idx="4"/>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2"/>
          <p:cNvSpPr>
            <a:spLocks noGrp="1"/>
          </p:cNvSpPr>
          <p:nvPr>
            <p:ph type="ftr" idx="5"/>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3"/>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0DFB-79D1-4208-9C41-D42188EE9B6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91" name="Group 2"/>
          <p:cNvGrpSpPr/>
          <p:nvPr/>
        </p:nvGrpSpPr>
        <p:grpSpPr>
          <a:xfrm>
            <a:off x="3600" y="1422360"/>
            <a:ext cx="9143640" cy="5435640"/>
            <a:chOff x="3600" y="1422360"/>
            <a:chExt cx="9143640" cy="5435640"/>
          </a:xfrm>
        </p:grpSpPr>
        <p:grpSp>
          <p:nvGrpSpPr>
            <p:cNvPr id="92" name="Group 3"/>
            <p:cNvGrpSpPr/>
            <p:nvPr/>
          </p:nvGrpSpPr>
          <p:grpSpPr>
            <a:xfrm>
              <a:off x="31680" y="1422360"/>
              <a:ext cx="9115560" cy="5435640"/>
              <a:chOff x="31680" y="1422360"/>
              <a:chExt cx="9115560" cy="5435640"/>
            </a:xfrm>
          </p:grpSpPr>
          <p:sp>
            <p:nvSpPr>
              <p:cNvPr id="93"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6" name="Group 17"/>
            <p:cNvGrpSpPr/>
            <p:nvPr/>
          </p:nvGrpSpPr>
          <p:grpSpPr>
            <a:xfrm>
              <a:off x="3600" y="3639960"/>
              <a:ext cx="2193840" cy="2694240"/>
              <a:chOff x="3600" y="3639960"/>
              <a:chExt cx="2193840" cy="2694240"/>
            </a:xfrm>
          </p:grpSpPr>
          <p:sp>
            <p:nvSpPr>
              <p:cNvPr id="107"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8"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0"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1"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8"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5"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7"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0"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4"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7"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8"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9"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0"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81"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3"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4"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6"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7"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8"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9"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0"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1"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2"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3"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4"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5"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6"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7"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8"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9"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0"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1"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2"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3"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4"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5"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6"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7"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8"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9"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1"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2"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9"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6"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34"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35"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7"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43"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46D0D-81C2-4201-8FF0-EC29D91A99B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6"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8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E8F2-0F11-45FD-B8BD-5B54BBA84D4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PlaceHolder 1"/>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PlaceHolder 2"/>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3250-6D76-4A79-9032-359145565256}"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326" name="Group 4"/>
          <p:cNvGrpSpPr/>
          <p:nvPr/>
        </p:nvGrpSpPr>
        <p:grpSpPr>
          <a:xfrm>
            <a:off x="0" y="0"/>
            <a:ext cx="9140760" cy="6850080"/>
            <a:chOff x="0" y="0"/>
            <a:chExt cx="9140760" cy="6850080"/>
          </a:xfrm>
        </p:grpSpPr>
        <p:grpSp>
          <p:nvGrpSpPr>
            <p:cNvPr id="327" name="Group 5"/>
            <p:cNvGrpSpPr/>
            <p:nvPr/>
          </p:nvGrpSpPr>
          <p:grpSpPr>
            <a:xfrm>
              <a:off x="2743200" y="3540240"/>
              <a:ext cx="6392880" cy="3309840"/>
              <a:chOff x="2743200" y="3540240"/>
              <a:chExt cx="6392880" cy="3309840"/>
            </a:xfrm>
          </p:grpSpPr>
          <p:sp>
            <p:nvSpPr>
              <p:cNvPr id="328"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3"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5"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36" name="PlaceHolder 4"/>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374" name="Group 2"/>
          <p:cNvGrpSpPr/>
          <p:nvPr/>
        </p:nvGrpSpPr>
        <p:grpSpPr>
          <a:xfrm>
            <a:off x="0" y="0"/>
            <a:ext cx="7242120" cy="1981080"/>
            <a:chOff x="0" y="0"/>
            <a:chExt cx="7242120" cy="1981080"/>
          </a:xfrm>
        </p:grpSpPr>
        <p:sp>
          <p:nvSpPr>
            <p:cNvPr id="375"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7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9"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DA542-A83A-4665-8224-A740D35BC73E}"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8" name="Group 2"/>
          <p:cNvGrpSpPr/>
          <p:nvPr/>
        </p:nvGrpSpPr>
        <p:grpSpPr>
          <a:xfrm>
            <a:off x="0" y="0"/>
            <a:ext cx="9159840" cy="6858000"/>
            <a:chOff x="0" y="0"/>
            <a:chExt cx="9159840" cy="6858000"/>
          </a:xfrm>
        </p:grpSpPr>
        <p:sp>
          <p:nvSpPr>
            <p:cNvPr id="419"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PlaceHolder 4"/>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8711-0D83-4D88-84C1-A4C1508687C3}"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444" name="PlaceHolder 5"/>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81" name="Group 2"/>
          <p:cNvGrpSpPr/>
          <p:nvPr/>
        </p:nvGrpSpPr>
        <p:grpSpPr>
          <a:xfrm>
            <a:off x="0" y="0"/>
            <a:ext cx="9144000" cy="6934320"/>
            <a:chOff x="0" y="0"/>
            <a:chExt cx="9144000" cy="6934320"/>
          </a:xfrm>
        </p:grpSpPr>
        <p:sp>
          <p:nvSpPr>
            <p:cNvPr id="48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02"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1484-1B91-426B-9AB2-2176A6199D1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41" name="Group 2"/>
          <p:cNvGrpSpPr/>
          <p:nvPr/>
        </p:nvGrpSpPr>
        <p:grpSpPr>
          <a:xfrm>
            <a:off x="3800520" y="1789200"/>
            <a:ext cx="5348160" cy="5056200"/>
            <a:chOff x="3800520" y="1789200"/>
            <a:chExt cx="5348160" cy="5056200"/>
          </a:xfrm>
        </p:grpSpPr>
        <p:sp>
          <p:nvSpPr>
            <p:cNvPr id="54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54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7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5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78" name="PlaceHolder 3"/>
          <p:cNvSpPr>
            <a:spLocks noGrp="1"/>
          </p:cNvSpPr>
          <p:nvPr>
            <p:ph type="dt" idx="25"/>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PlaceHolder 4"/>
          <p:cNvSpPr>
            <a:spLocks noGrp="1"/>
          </p:cNvSpPr>
          <p:nvPr>
            <p:ph type="ftr" idx="26"/>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PlaceHolder 5"/>
          <p:cNvSpPr>
            <a:spLocks noGrp="1"/>
          </p:cNvSpPr>
          <p:nvPr>
            <p:ph type="sldNum" idx="27"/>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00C0-0915-4C78-A96F-79E23C453989}"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ee941c"/>
                </a:solidFill>
                <a:latin typeface="Arial"/>
              </a:rPr>
              <a:t>Катнаш никах</a:t>
            </a:r>
            <a:endParaRPr b="0" lang="en-US" sz="4400" spc="-1" strike="noStrike">
              <a:solidFill>
                <a:srgbClr val="b7e7ff"/>
              </a:solidFill>
              <a:latin typeface="Arial"/>
            </a:endParaRPr>
          </a:p>
        </p:txBody>
      </p:sp>
      <p:sp>
        <p:nvSpPr>
          <p:cNvPr id="123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234" name="Picture 4" descr="wedding407"/>
          <p:cNvPicPr/>
          <p:nvPr/>
        </p:nvPicPr>
        <p:blipFill>
          <a:blip r:embed="rId1"/>
          <a:stretch/>
        </p:blipFill>
        <p:spPr>
          <a:xfrm>
            <a:off x="0" y="0"/>
            <a:ext cx="9144000" cy="6858000"/>
          </a:xfrm>
          <a:prstGeom prst="rect">
            <a:avLst/>
          </a:prstGeom>
          <a:ln w="0">
            <a:noFill/>
          </a:ln>
        </p:spPr>
      </p:pic>
      <p:sp>
        <p:nvSpPr>
          <p:cNvPr id="1235" name="WordArt 7"/>
          <p:cNvSpPr txBox="1"/>
          <p:nvPr/>
        </p:nvSpPr>
        <p:spPr>
          <a:xfrm>
            <a:off x="304920" y="4038480"/>
            <a:ext cx="8686800" cy="28195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effectLst>
                  <a:outerShdw dist="17819" dir="2700000" blurRad="0" rotWithShape="0">
                    <a:srgbClr val="c0c0c0">
                      <a:alpha val="80000"/>
                    </a:srgbClr>
                  </a:outerShdw>
                </a:effectLst>
                <a:latin typeface="Times New Roman"/>
              </a:rPr>
              <a:t>Тормыш иптәшен ничек сайларга ?</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Times New Roman"/>
              </a:rPr>
              <a:t>(Г. Кутуй " Тапшырылмаган хатлар ",</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6"/>
                  <a:srcRect/>
                  <a:stretch/>
                </a:blipFill>
                <a:effectLst>
                  <a:outerShdw dist="17819" dir="2700000" blurRad="0" rotWithShape="0">
                    <a:srgbClr val="c0c0c0">
                      <a:alpha val="80000"/>
                    </a:srgbClr>
                  </a:outerShdw>
                </a:effectLst>
                <a:latin typeface="Times New Roman"/>
              </a:rPr>
              <a:t>Г. Исхакый " Ул әле өйләнмәгән иде" әсәрләре буенча).</a:t>
            </a:r>
            <a:endParaRPr b="0" lang="en-US" sz="2800" spc="1" strike="noStrike">
              <a:ln w="0">
                <a:noFill/>
              </a:ln>
              <a:blipFill rotWithShape="0">
                <a:blip r:embed="rId7"/>
                <a:srcRect/>
                <a:stretch/>
              </a:blipFill>
              <a:effectLst>
                <a:outerShdw dist="17819" dir="2700000" blurRad="0" rotWithShape="0">
                  <a:srgbClr val="c0c0c0">
                    <a:alpha val="80000"/>
                  </a:srgbClr>
                </a:outerShdw>
              </a:effectLst>
              <a:latin typeface="Times New Roman"/>
              <a:ea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228600"/>
            <a:ext cx="8510400" cy="1325520"/>
          </a:xfrm>
          <a:prstGeom prst="rect">
            <a:avLst/>
          </a:prstGeom>
          <a:solidFill>
            <a:srgbClr val="ee941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b7e7ff"/>
              </a:solidFill>
              <a:latin typeface="Arial"/>
            </a:endParaRPr>
          </a:p>
        </p:txBody>
      </p:sp>
      <p:sp>
        <p:nvSpPr>
          <p:cNvPr id="1257" name="PlaceHolder 2"/>
          <p:cNvSpPr>
            <a:spLocks noGrp="1"/>
          </p:cNvSpPr>
          <p:nvPr>
            <p:ph/>
          </p:nvPr>
        </p:nvSpPr>
        <p:spPr>
          <a:xfrm>
            <a:off x="301680" y="1676160"/>
            <a:ext cx="8540640" cy="4422600"/>
          </a:xfrm>
          <a:prstGeom prst="rect">
            <a:avLst/>
          </a:prstGeom>
          <a:solidFill>
            <a:srgbClr val="ee941c"/>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258" name="Picture 4" descr="kreml"/>
          <p:cNvPicPr/>
          <p:nvPr/>
        </p:nvPicPr>
        <p:blipFill>
          <a:blip r:embed="rId1"/>
          <a:stretch/>
        </p:blipFill>
        <p:spPr>
          <a:xfrm>
            <a:off x="0" y="-801720"/>
            <a:ext cx="9144000" cy="7659720"/>
          </a:xfrm>
          <a:prstGeom prst="rect">
            <a:avLst/>
          </a:prstGeom>
          <a:ln w="0">
            <a:noFill/>
          </a:ln>
        </p:spPr>
      </p:pic>
      <p:sp>
        <p:nvSpPr>
          <p:cNvPr id="1259" name="Text Box 6"/>
          <p:cNvSpPr/>
          <p:nvPr/>
        </p:nvSpPr>
        <p:spPr>
          <a:xfrm>
            <a:off x="990720" y="1905120"/>
            <a:ext cx="7467480" cy="464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2ed00e"/>
                </a:solidFill>
                <a:latin typeface="Arial"/>
              </a:rPr>
              <a:t>Тиешле тәрбия алып үскән бала әти-әни булгач та, балаларына үзе барган юлны күрсәтәчәк. Катнаш никах та татар теленең кимсетелеп бетә баруына сәбәпче булып тора. Катнаш никахның нинди бәхетле икәнен, журналистларыбызның уйлап бетермичә, күкләргә чөеп мактаулары, күпертеп язган хикәяләр газета битләрендә күп булды. Кукмарада чиркәү салынгач, аның изге атакаеның хатыны татар милләтеннән булып, үз теләге белән православие диненә күчүе турында язылган мәкалә район газетасында чыкты. Янәсе, мөселман динендә булган туганнары аның сайлаган юлын хөрмәт итә һ.б. Кыскасы, атакай хатыныннан герой ясадылар. Әтиең, әниең дөньяга китереп, сиңа изгеләрдән-изге мөселман динендә яшәргә, көн күрергә тормыш бүләк иткән. Ачыктан-ачык үз көнеңә, динеңә, халкыңа каршы баруны хыянәт юлы дип саныйм һәм бу бернинди дә хөрмәткә лаек түгел. Мәкалә чыккач, дин әһелләребезнең авызларына су капкандай битараф булулары яхшы түгел.</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260" name="WordArt 9"/>
          <p:cNvSpPr txBox="1"/>
          <p:nvPr/>
        </p:nvSpPr>
        <p:spPr>
          <a:xfrm>
            <a:off x="2971800" y="762120"/>
            <a:ext cx="3352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НӘТИҖӘ</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b7e7ff"/>
              </a:solidFill>
              <a:latin typeface="Arial"/>
            </a:endParaRPr>
          </a:p>
        </p:txBody>
      </p:sp>
      <p:pic>
        <p:nvPicPr>
          <p:cNvPr id="1262" name="Picture 4" descr="Nugai-milli-kieme"/>
          <p:cNvPicPr/>
          <p:nvPr/>
        </p:nvPicPr>
        <p:blipFill>
          <a:blip r:embed="rId1"/>
          <a:stretch/>
        </p:blipFill>
        <p:spPr>
          <a:xfrm>
            <a:off x="0" y="0"/>
            <a:ext cx="4952880" cy="6858000"/>
          </a:xfrm>
          <a:prstGeom prst="rect">
            <a:avLst/>
          </a:prstGeom>
          <a:ln w="0">
            <a:noFill/>
          </a:ln>
        </p:spPr>
      </p:pic>
      <p:pic>
        <p:nvPicPr>
          <p:cNvPr id="1263" name="Picture 7" descr="Kazan-tatar-kieme"/>
          <p:cNvPicPr/>
          <p:nvPr/>
        </p:nvPicPr>
        <p:blipFill>
          <a:blip r:embed="rId2"/>
          <a:stretch/>
        </p:blipFill>
        <p:spPr>
          <a:xfrm>
            <a:off x="4952880" y="0"/>
            <a:ext cx="4191120" cy="6858000"/>
          </a:xfrm>
          <a:prstGeom prst="rect">
            <a:avLst/>
          </a:prstGeom>
          <a:ln w="0">
            <a:noFill/>
          </a:ln>
        </p:spPr>
      </p:pic>
      <p:sp>
        <p:nvSpPr>
          <p:cNvPr id="1264" name="Text Box 10"/>
          <p:cNvSpPr/>
          <p:nvPr/>
        </p:nvSpPr>
        <p:spPr>
          <a:xfrm>
            <a:off x="1736640" y="2649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5" name="Rectangle 14"/>
          <p:cNvSpPr/>
          <p:nvPr/>
        </p:nvSpPr>
        <p:spPr>
          <a:xfrm>
            <a:off x="3427560" y="214200"/>
            <a:ext cx="34635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000ff"/>
                </a:solidFill>
                <a:latin typeface="Arial"/>
              </a:rPr>
              <a:t>Мәгълүмат</a:t>
            </a:r>
            <a:endParaRPr b="0" lang="en-US" sz="5000" spc="-1" strike="noStrike">
              <a:solidFill>
                <a:srgbClr val="ffffff"/>
              </a:solidFill>
              <a:latin typeface="Arial"/>
            </a:endParaRPr>
          </a:p>
        </p:txBody>
      </p:sp>
      <p:sp>
        <p:nvSpPr>
          <p:cNvPr id="1266" name="Text Box 15"/>
          <p:cNvSpPr/>
          <p:nvPr/>
        </p:nvSpPr>
        <p:spPr>
          <a:xfrm>
            <a:off x="609480" y="1371600"/>
            <a:ext cx="80010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Monotype Corsiva"/>
              </a:rPr>
              <a:t>     </a:t>
            </a:r>
            <a:r>
              <a:rPr b="0" lang="ru-RU" sz="2400" spc="-1" strike="noStrike">
                <a:solidFill>
                  <a:srgbClr val="0000ff"/>
                </a:solidFill>
                <a:latin typeface="Monotype Corsiva"/>
              </a:rPr>
              <a:t>Рус, татар, нугай, калмык, казах, үзбәк, әзербәйҗан, украин һ.б. халыклар күпләп яшәгән Әстерханда милләтләрне аеру көннән-көн кыенлаша кебек тоела, биредә катнаш никахлар “чәчәк ата”. “Башка милләт егетләре бигрәк тә татар кызларын бик яраталар. Аларны чибәр, эшчән, тырыш, акыллы дип әйтәләр һәм кияүгә чыгарга чакыралар”, - дип фикерләре белән уртаклашты “Дуслык” әгъзасы Рөстәм Кинжалиев. Статистика мәгълүматларына караганда, биредә татарлар арасында милләтара никах күрсәткече гомум өлкәнекенә якын - 15 процентны тәшкил итә. Шул ук вакытта чыннан да хатын-кызлар арасында катнаш никах очрагы ешрак күзәтелә икән (20 процент).</a:t>
            </a:r>
            <a:endParaRPr b="0" lang="en-US" sz="2400" spc="-1" strike="noStrike">
              <a:solidFill>
                <a:srgbClr val="ffffff"/>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e5e5ff"/>
                </a:solidFill>
                <a:latin typeface="Garamond"/>
              </a:rPr>
              <a:t>Гаиләдәге низагларның сәбәбе</a:t>
            </a:r>
            <a:endParaRPr b="1" lang="en-US" sz="4400" spc="-1" strike="noStrike">
              <a:solidFill>
                <a:srgbClr val="e5e5ff"/>
              </a:solidFill>
              <a:latin typeface="Garamond"/>
            </a:endParaRPr>
          </a:p>
        </p:txBody>
      </p:sp>
      <p:graphicFrame>
        <p:nvGraphicFramePr>
          <p:cNvPr id="1268" name="Object 4"/>
          <p:cNvGraphicFramePr/>
          <p:nvPr/>
        </p:nvGraphicFramePr>
        <p:xfrm>
          <a:off x="304920" y="1219320"/>
          <a:ext cx="8534160" cy="5638680"/>
        </p:xfrm>
        <a:graphic>
          <a:graphicData uri="http://schemas.openxmlformats.org/presentationml/2006/ole">
            <p:oleObj progId="Excel.Sheet.12" r:id="rId1" spid="">
              <p:embed/>
              <p:pic>
                <p:nvPicPr>
                  <p:cNvPr id="1269" name="Object 4" descr=""/>
                  <p:cNvPicPr/>
                  <p:nvPr/>
                </p:nvPicPr>
                <p:blipFill>
                  <a:blip r:embed="rId2"/>
                  <a:stretch/>
                </p:blipFill>
                <p:spPr>
                  <a:xfrm>
                    <a:off x="304920" y="1219320"/>
                    <a:ext cx="8534160" cy="5638680"/>
                  </a:xfrm>
                  <a:prstGeom prst="rect">
                    <a:avLst/>
                  </a:prstGeom>
                  <a:ln w="0">
                    <a:noFill/>
                  </a:ln>
                </p:spPr>
              </p:pic>
            </p:oleObj>
          </a:graphicData>
        </a:graphic>
      </p:graphicFrame>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b7e7ff"/>
              </a:solidFill>
              <a:latin typeface="Arial"/>
            </a:endParaRPr>
          </a:p>
        </p:txBody>
      </p:sp>
      <p:pic>
        <p:nvPicPr>
          <p:cNvPr id="1271" name="Picture 12" descr="IMG_1088"/>
          <p:cNvPicPr/>
          <p:nvPr/>
        </p:nvPicPr>
        <p:blipFill>
          <a:blip r:embed="rId1"/>
          <a:stretch/>
        </p:blipFill>
        <p:spPr>
          <a:xfrm>
            <a:off x="4648320" y="0"/>
            <a:ext cx="4495680" cy="6858000"/>
          </a:xfrm>
          <a:prstGeom prst="rect">
            <a:avLst/>
          </a:prstGeom>
          <a:ln w="0">
            <a:noFill/>
          </a:ln>
        </p:spPr>
      </p:pic>
      <p:pic>
        <p:nvPicPr>
          <p:cNvPr id="1272" name="Picture 15" descr="IMG_2604"/>
          <p:cNvPicPr/>
          <p:nvPr/>
        </p:nvPicPr>
        <p:blipFill>
          <a:blip r:embed="rId2"/>
          <a:stretch/>
        </p:blipFill>
        <p:spPr>
          <a:xfrm>
            <a:off x="0" y="0"/>
            <a:ext cx="4672080" cy="6858000"/>
          </a:xfrm>
          <a:prstGeom prst="rect">
            <a:avLst/>
          </a:prstGeom>
          <a:ln w="0">
            <a:noFill/>
          </a:ln>
        </p:spPr>
      </p:pic>
      <p:sp>
        <p:nvSpPr>
          <p:cNvPr id="1273" name="WordArt 16"/>
          <p:cNvSpPr txBox="1"/>
          <p:nvPr/>
        </p:nvSpPr>
        <p:spPr>
          <a:xfrm>
            <a:off x="2286000" y="152280"/>
            <a:ext cx="3809880" cy="1524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Үрнәк</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1274" name="Text Box 17"/>
          <p:cNvSpPr/>
          <p:nvPr/>
        </p:nvSpPr>
        <p:spPr>
          <a:xfrm>
            <a:off x="457200" y="556272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e941c"/>
                </a:solidFill>
                <a:latin typeface="Arial"/>
              </a:rPr>
              <a:t>Барлык милләт кешеләре белән дус яшәргә кирәк. Әмма дин, милләткә килгәндә, ашы ашка, урыны башка булырга тиеш</a:t>
            </a:r>
            <a:r>
              <a:rPr b="0" lang="ru-RU" sz="2400" spc="-1" strike="noStrike">
                <a:solidFill>
                  <a:srgbClr val="00cc99"/>
                </a:solidFill>
                <a:latin typeface="Arial"/>
              </a:rPr>
              <a:t>.</a:t>
            </a:r>
            <a:endParaRPr b="0" lang="en-US" sz="2400" spc="-1" strike="noStrike">
              <a:solidFill>
                <a:srgbClr val="ffffff"/>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feec94"/>
                </a:solidFill>
                <a:latin typeface="Times New Roman"/>
              </a:rPr>
              <a:t>Өйләнешү, никах нәрсәгә кирәк?</a:t>
            </a:r>
            <a:endParaRPr b="1" lang="en-US" sz="4000" spc="-1" strike="noStrike">
              <a:solidFill>
                <a:srgbClr val="feec94"/>
              </a:solidFill>
              <a:latin typeface="Times New Roman"/>
            </a:endParaRPr>
          </a:p>
        </p:txBody>
      </p:sp>
      <p:graphicFrame>
        <p:nvGraphicFramePr>
          <p:cNvPr id="1237" name="Object 4"/>
          <p:cNvGraphicFramePr/>
          <p:nvPr/>
        </p:nvGraphicFramePr>
        <p:xfrm>
          <a:off x="0" y="1066680"/>
          <a:ext cx="9144000" cy="5791320"/>
        </p:xfrm>
        <a:graphic>
          <a:graphicData uri="http://schemas.openxmlformats.org/presentationml/2006/ole">
            <p:oleObj progId="Excel.Sheet.12" r:id="rId1" spid="">
              <p:embed/>
              <p:pic>
                <p:nvPicPr>
                  <p:cNvPr id="1238" name="Object 4" descr=""/>
                  <p:cNvPicPr/>
                  <p:nvPr/>
                </p:nvPicPr>
                <p:blipFill>
                  <a:blip r:embed="rId2"/>
                  <a:stretch/>
                </p:blipFill>
                <p:spPr>
                  <a:xfrm>
                    <a:off x="0" y="1066680"/>
                    <a:ext cx="9144000" cy="5791320"/>
                  </a:xfrm>
                  <a:prstGeom prst="rect">
                    <a:avLst/>
                  </a:prstGeom>
                  <a:ln w="0">
                    <a:noFill/>
                  </a:ln>
                </p:spPr>
              </p:pic>
            </p:oleObj>
          </a:graphicData>
        </a:graphic>
      </p:graphicFrame>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9" name=""/>
          <p:cNvGraphicFramePr/>
          <p:nvPr/>
        </p:nvGraphicFramePr>
        <p:xfrm>
          <a:off x="0" y="0"/>
          <a:ext cx="9144000" cy="6629400"/>
        </p:xfrm>
        <a:graphic>
          <a:graphicData uri="http://schemas.openxmlformats.org/drawingml/2006/table">
            <a:tbl>
              <a:tblPr/>
              <a:tblGrid>
                <a:gridCol w="2997360"/>
                <a:gridCol w="3073320"/>
                <a:gridCol w="3073320"/>
              </a:tblGrid>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Яратып</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Акыл белән</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Файдага исәп тотып өйләнешү</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62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мәхәббәт</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акыл</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исәп-хисап</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9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ярату хисе</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яхшы мөнәсәбәтләр</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материаль уңайлыклар</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эчке тойгылар</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әти-әни киңәшен тыңлау</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байлык</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эмо</a:t>
                      </a:r>
                      <a:r>
                        <a:rPr b="0" lang="ru-RU" sz="2400" spc="-1" strike="noStrike">
                          <a:solidFill>
                            <a:srgbClr val="ffffff"/>
                          </a:solidFill>
                          <a:latin typeface="Tahoma"/>
                        </a:rPr>
                        <a:t>ц</a:t>
                      </a:r>
                      <a:r>
                        <a:rPr b="0" lang="tt-RU" sz="2400" spc="-1" strike="noStrike">
                          <a:solidFill>
                            <a:srgbClr val="ffffff"/>
                          </a:solidFill>
                          <a:latin typeface="Tahoma"/>
                        </a:rPr>
                        <a:t>ияләр</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ялгыз калмас өчен</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акча проблемасы</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9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күңел тарту</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балалар үстерү</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тарих проблемасы юк</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Бер-берсеннән башка яши алмау</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ahoma"/>
                        </a:rPr>
                        <a:t>Якын күрү,ияләшү</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dbbd71"/>
                </a:solidFill>
                <a:latin typeface="Arial"/>
              </a:rPr>
              <a:t>Со</a:t>
            </a:r>
            <a:r>
              <a:rPr b="0" lang="ru-RU" sz="4400" spc="-1" strike="noStrike">
                <a:solidFill>
                  <a:srgbClr val="dbbd71"/>
                </a:solidFill>
                <a:latin typeface="Arial"/>
              </a:rPr>
              <a:t>ци</a:t>
            </a:r>
            <a:r>
              <a:rPr b="0" lang="tt-RU" sz="4400" spc="-1" strike="noStrike">
                <a:solidFill>
                  <a:srgbClr val="dbbd71"/>
                </a:solidFill>
                <a:latin typeface="Arial"/>
              </a:rPr>
              <a:t>ологлар күрсәтүенчә:</a:t>
            </a:r>
            <a:endParaRPr b="0" lang="en-US" sz="4400" spc="-1" strike="noStrike">
              <a:solidFill>
                <a:srgbClr val="dbbd71"/>
              </a:solidFill>
              <a:latin typeface="Arial"/>
            </a:endParaRPr>
          </a:p>
        </p:txBody>
      </p:sp>
      <p:sp>
        <p:nvSpPr>
          <p:cNvPr id="1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ahoma"/>
              </a:rPr>
              <a:t>Яратып сайлаучылар –  70 - 75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ahoma"/>
              </a:rPr>
              <a:t>Акыл белән – 15 – 20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ahoma"/>
              </a:rPr>
              <a:t>Исәп – хисап – 5 – 10 %</a:t>
            </a:r>
            <a:endParaRPr b="0" lang="en-US" sz="3200" spc="-1" strike="noStrike">
              <a:solidFill>
                <a:srgbClr val="ffffff"/>
              </a:solidFill>
              <a:latin typeface="Tahoma"/>
            </a:endParaRPr>
          </a:p>
        </p:txBody>
      </p:sp>
    </p:spTree>
  </p:cSld>
  <p:transition>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1240"/>
                                        </p:tgtEl>
                                        <p:attrNameLst>
                                          <p:attrName>style.visibility</p:attrName>
                                        </p:attrNameLst>
                                      </p:cBhvr>
                                      <p:to>
                                        <p:strVal val="visible"/>
                                      </p:to>
                                    </p:set>
                                    <p:animEffect filter="dissolve" transition="in">
                                      <p:cBhvr additive="repl">
                                        <p:cTn id="7" dur="500"/>
                                        <p:tgtEl>
                                          <p:spTgt spid="124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241">
                                            <p:txEl>
                                              <p:pRg st="0" end="0"/>
                                            </p:txEl>
                                          </p:spTgt>
                                        </p:tgtEl>
                                        <p:attrNameLst>
                                          <p:attrName>style.visibility</p:attrName>
                                        </p:attrNameLst>
                                      </p:cBhvr>
                                      <p:to>
                                        <p:strVal val="visible"/>
                                      </p:to>
                                    </p:set>
                                    <p:animEffect filter="dissolve" transition="in">
                                      <p:cBhvr additive="repl">
                                        <p:cTn id="12" dur="500"/>
                                        <p:tgtEl>
                                          <p:spTgt spid="1241">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241">
                                            <p:txEl>
                                              <p:pRg st="2" end="2"/>
                                            </p:txEl>
                                          </p:spTgt>
                                        </p:tgtEl>
                                        <p:attrNameLst>
                                          <p:attrName>style.visibility</p:attrName>
                                        </p:attrNameLst>
                                      </p:cBhvr>
                                      <p:to>
                                        <p:strVal val="visible"/>
                                      </p:to>
                                    </p:set>
                                    <p:animEffect filter="dissolve" transition="in">
                                      <p:cBhvr additive="repl">
                                        <p:cTn id="17" dur="500"/>
                                        <p:tgtEl>
                                          <p:spTgt spid="1241">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1241">
                                            <p:txEl>
                                              <p:pRg st="4" end="4"/>
                                            </p:txEl>
                                          </p:spTgt>
                                        </p:tgtEl>
                                        <p:attrNameLst>
                                          <p:attrName>style.visibility</p:attrName>
                                        </p:attrNameLst>
                                      </p:cBhvr>
                                      <p:to>
                                        <p:strVal val="visible"/>
                                      </p:to>
                                    </p:set>
                                    <p:animEffect filter="dissolve" transition="in">
                                      <p:cBhvr additive="repl">
                                        <p:cTn id="22" dur="500"/>
                                        <p:tgtEl>
                                          <p:spTgt spid="12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Text Box 4"/>
          <p:cNvSpPr/>
          <p:nvPr/>
        </p:nvSpPr>
        <p:spPr>
          <a:xfrm>
            <a:off x="457200" y="762120"/>
            <a:ext cx="8245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Sylfaen"/>
              </a:rPr>
              <a:t>Әйе , борынгы заманда йортка килен булып төшәсе кызны кечкенәдән караганнар . Ата-аналар вәгъдәләр бирешкәннәр.Яшьләр күңеленә кечкенәдән үк ярәшелгән кызың , егетең бар дигән уйны салганнар. Ата-ана фатихасын алмыйча , никахсыз өйләнешмәгәннәр . Хәзер кияүгә бирмиләр , кияүгә чыгалар , өйләндермиләр , өйләнәләр. Хәзерге заман гаиләсенең тотрыксызлыгы менә шундадыр , минемчә.  Ә бит халкыбыз “Атасына карап улын коч , анасына карап кызын коч,”- дип юкка гына әйтмәгән.</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ffffcc"/>
                </a:solidFill>
                <a:latin typeface="Tahoma"/>
              </a:rPr>
              <a:t>Безнең фикер</a:t>
            </a:r>
            <a:endParaRPr b="0" lang="en-US" sz="4400" spc="-1" strike="noStrike">
              <a:solidFill>
                <a:srgbClr val="ffffcc"/>
              </a:solidFill>
              <a:latin typeface="Tahoma"/>
            </a:endParaRPr>
          </a:p>
        </p:txBody>
      </p:sp>
      <p:pic>
        <p:nvPicPr>
          <p:cNvPr id="1244" name="Picture 7" descr="news_564"/>
          <p:cNvPicPr/>
          <p:nvPr/>
        </p:nvPicPr>
        <p:blipFill>
          <a:blip r:embed="rId1"/>
          <a:stretch/>
        </p:blipFill>
        <p:spPr>
          <a:xfrm>
            <a:off x="4557600" y="1600200"/>
            <a:ext cx="4281480" cy="4572000"/>
          </a:xfrm>
          <a:prstGeom prst="rect">
            <a:avLst/>
          </a:prstGeom>
          <a:ln w="0">
            <a:noFill/>
          </a:ln>
        </p:spPr>
      </p:pic>
      <p:sp>
        <p:nvSpPr>
          <p:cNvPr id="1245" name="PlaceHolder 2"/>
          <p:cNvSpPr>
            <a:spLocks noGrp="1"/>
          </p:cNvSpPr>
          <p:nvPr>
            <p:ph/>
          </p:nvPr>
        </p:nvSpPr>
        <p:spPr>
          <a:xfrm>
            <a:off x="301680" y="1599840"/>
            <a:ext cx="4194000" cy="4498920"/>
          </a:xfrm>
          <a:prstGeom prst="rect">
            <a:avLst/>
          </a:prstGeom>
          <a:noFill/>
          <a:ln w="0">
            <a:noFill/>
          </a:ln>
        </p:spPr>
        <p:txBody>
          <a:bodyPr anchor="t">
            <a:normAutofit fontScale="92000"/>
          </a:bodyPr>
          <a:p>
            <a:pPr marL="315360" indent="-315360" algn="ctr">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Әледән-әле катнаш никах, тел, милләт турында мәкаләләр басылып тора. Аларда кайберәүләр катнаш никахны мактап, икенчеләре тәнкыйть күзлегеннән чыгып, үз фикерен белдерә. Күпме генә бәхәсләшсәләр дә, уртак фикергә килеп, мәсьәләнең асылына төшенеп, моңа этәргән сәбәпләрне ачып салмыйлар, нәтиҗә ясамыйлар. Мин дә үз фикеремне, күргән-ишеткәннәремне укучыларга җиткереп, кайбер татар егет-кызларына дөньяга аек акыл белән карап (мәхәббәт утыннан исереп түгел), тормышта үз парларын сайлауда булышлык итеп, ялгыш адымнан алып калырга ярдәм итә алсам, бик шат булыр идем.</a:t>
            </a:r>
            <a:endParaRPr b="0" lang="en-US" sz="1800" spc="-1" strike="noStrike">
              <a:solidFill>
                <a:srgbClr val="ffffff"/>
              </a:solidFill>
              <a:latin typeface="Tahoma"/>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1247" name="PlaceHolder 2"/>
          <p:cNvSpPr>
            <a:spLocks noGrp="1"/>
          </p:cNvSpPr>
          <p:nvPr>
            <p:ph/>
          </p:nvPr>
        </p:nvSpPr>
        <p:spPr>
          <a:xfrm>
            <a:off x="457200" y="304920"/>
            <a:ext cx="8229600" cy="579096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ahoma"/>
              </a:rPr>
              <a:t>Т.Миңнуллин узенең бер мәкаләсендә катнаш никахларга мөнәсәбәте турында болай дигән:</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ahoma"/>
              </a:rPr>
              <a:t>“</a:t>
            </a:r>
            <a:r>
              <a:rPr b="0" lang="tt-RU" sz="3200" spc="-1" strike="noStrike">
                <a:solidFill>
                  <a:srgbClr val="ffffff"/>
                </a:solidFill>
                <a:latin typeface="Tahoma"/>
              </a:rPr>
              <a:t>Милләтара мәхәббәт булгач, бар һәм булырга тиеш тә.Тик чынлыкта моның каршылыклары күп.Берсен берсе сөйгән ике гашыйкның берсе һәрвакыт корбан була.Кеше хис колы булырга тиеш түгел,минемчә”.</a:t>
            </a: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00cc00"/>
                </a:solidFill>
                <a:latin typeface="Arial Black"/>
              </a:rPr>
              <a:t>Проблема</a:t>
            </a:r>
            <a:endParaRPr b="1" lang="en-US" sz="4400" spc="-1" strike="noStrike">
              <a:solidFill>
                <a:srgbClr val="ffffb7"/>
              </a:solidFill>
              <a:latin typeface="Arial Black"/>
            </a:endParaRPr>
          </a:p>
        </p:txBody>
      </p:sp>
      <p:sp>
        <p:nvSpPr>
          <p:cNvPr id="1249" name="PlaceHolder 2"/>
          <p:cNvSpPr>
            <a:spLocks noGrp="1"/>
          </p:cNvSpPr>
          <p:nvPr>
            <p:ph/>
          </p:nvPr>
        </p:nvSpPr>
        <p:spPr>
          <a:xfrm>
            <a:off x="4495680" y="1447920"/>
            <a:ext cx="4191120" cy="5410080"/>
          </a:xfrm>
          <a:prstGeom prst="rect">
            <a:avLst/>
          </a:prstGeom>
          <a:noFill/>
          <a:ln w="0">
            <a:noFill/>
          </a:ln>
        </p:spPr>
        <p:txBody>
          <a:bodyPr anchor="t">
            <a:normAutofit/>
          </a:bodyPr>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атар балаларының үз милләтен, телен, кыйбласын югалта башлавы балалар бакчасына беренче адымын ясаган көннән башлана да инде. Чөнки әтием, әнием дип теле ачыла башлаган балага “папке”, “мамке” сүзләре өйрәтелә. Тәрбиячеләр бала белән өйдә дә русча сөйләшергә куша. Юньләп русча да белмәгән ата-ана вата-җимерә бөек телне өйрәтеп, бала күңеленә маңкортлык орлыклары сала һәм бала бабай, әбиләре, әти-әниләре сөйләшкән телне бернигә дә ярамый дип инанып үсә. “Балам, мәктәбеңдә, урамда иптәшләрең белән ничек кирәк, шулай аралаш, әти-әниең, туганнарың белән фәкать татарча гына сөйләш. Ул синең туган телең”, – дип өйрәтүчеләр бармы икән, мөгаен, күп түгелдер. Туган телем көнем, яшәешем өчен кирәк дип, балаларның бишек җыры белән каннарына сеңеп үссә, һичшиксез, киләчәктә татар теле бетәр дип уйлыйсы да булмас иде.</a:t>
            </a:r>
            <a:endParaRPr b="0" lang="en-US" sz="1600" spc="-1" strike="noStrike">
              <a:solidFill>
                <a:srgbClr val="ffffff"/>
              </a:solidFill>
              <a:latin typeface="Arial"/>
            </a:endParaRPr>
          </a:p>
        </p:txBody>
      </p:sp>
      <p:pic>
        <p:nvPicPr>
          <p:cNvPr id="1250" name="Picture 29" descr="marriage_mised"/>
          <p:cNvPicPr/>
          <p:nvPr/>
        </p:nvPicPr>
        <p:blipFill>
          <a:blip r:embed="rId1"/>
          <a:stretch/>
        </p:blipFill>
        <p:spPr>
          <a:xfrm>
            <a:off x="77760" y="1371600"/>
            <a:ext cx="4633920" cy="5486400"/>
          </a:xfrm>
          <a:prstGeom prst="rect">
            <a:avLst/>
          </a:prstGeom>
          <a:ln w="0">
            <a:noFill/>
          </a:ln>
        </p:spPr>
      </p:pic>
    </p:spTree>
  </p:cSld>
  <p:transition>
    <p:fade thruBlk="tru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39">
                                  <p:stCondLst>
                                    <p:cond delay="0"/>
                                  </p:stCondLst>
                                  <p:childTnLst>
                                    <p:set>
                                      <p:cBhvr>
                                        <p:cTn id="28" dur="1" fill="hold">
                                          <p:stCondLst>
                                            <p:cond delay="0"/>
                                          </p:stCondLst>
                                        </p:cTn>
                                        <p:tgtEl>
                                          <p:spTgt spid="1248"/>
                                        </p:tgtEl>
                                        <p:attrNameLst>
                                          <p:attrName>style.visibility</p:attrName>
                                        </p:attrNameLst>
                                      </p:cBhvr>
                                      <p:to>
                                        <p:strVal val="visible"/>
                                      </p:to>
                                    </p:set>
                                    <p:anim calcmode="lin" valueType="num">
                                      <p:cBhvr additive="repl">
                                        <p:cTn id="29" dur="500" fill="hold"/>
                                        <p:tgtEl>
                                          <p:spTgt spid="12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 dur="500" fill="hold"/>
                                        <p:tgtEl>
                                          <p:spTgt spid="12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 dur="500" fill="hold"/>
                                        <p:tgtEl>
                                          <p:spTgt spid="12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 dur="500" fill="hold"/>
                                        <p:tgtEl>
                                          <p:spTgt spid="1248"/>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9">
                                  <p:stCondLst>
                                    <p:cond delay="0"/>
                                  </p:stCondLst>
                                  <p:childTnLst>
                                    <p:set>
                                      <p:cBhvr>
                                        <p:cTn id="36" dur="1" fill="hold">
                                          <p:stCondLst>
                                            <p:cond delay="0"/>
                                          </p:stCondLst>
                                        </p:cTn>
                                        <p:tgtEl>
                                          <p:spTgt spid="1249">
                                            <p:txEl>
                                              <p:pRg st="0" end="0"/>
                                            </p:txEl>
                                          </p:spTgt>
                                        </p:tgtEl>
                                        <p:attrNameLst>
                                          <p:attrName>style.visibility</p:attrName>
                                        </p:attrNameLst>
                                      </p:cBhvr>
                                      <p:to>
                                        <p:strVal val="visible"/>
                                      </p:to>
                                    </p:set>
                                    <p:anim calcmode="lin" valueType="num">
                                      <p:cBhvr additive="repl">
                                        <p:cTn id="37" dur="500" fill="hold"/>
                                        <p:tgtEl>
                                          <p:spTgt spid="124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 dur="500" fill="hold"/>
                                        <p:tgtEl>
                                          <p:spTgt spid="124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 dur="500" fill="hold"/>
                                        <p:tgtEl>
                                          <p:spTgt spid="124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 dur="500" fill="hold"/>
                                        <p:tgtEl>
                                          <p:spTgt spid="1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xit" presetID="39">
                                  <p:stCondLst>
                                    <p:cond delay="0"/>
                                  </p:stCondLst>
                                  <p:childTnLst>
                                    <p:anim calcmode="lin" valueType="num">
                                      <p:cBhvr additive="repl">
                                        <p:cTn id="44" dur="500" fill="hold"/>
                                        <p:tgtEl>
                                          <p:spTgt spid="1248"/>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5" dur="500" fill="hold"/>
                                        <p:tgtEl>
                                          <p:spTgt spid="1248"/>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6" dur="500" fill="hold"/>
                                        <p:tgtEl>
                                          <p:spTgt spid="1248"/>
                                        </p:tgtEl>
                                        <p:attrNameLst>
                                          <p:attrName>ppt_x</p:attrName>
                                        </p:attrNameLst>
                                      </p:cBhvr>
                                      <p:tavLst>
                                        <p:tav tm="0">
                                          <p:val>
                                            <p:strVal val="#ppt_x"/>
                                          </p:val>
                                        </p:tav>
                                        <p:tav tm="50000">
                                          <p:val>
                                            <p:strVal val="#ppt_x"/>
                                          </p:val>
                                        </p:tav>
                                        <p:tav tm="100000">
                                          <p:val>
                                            <p:strVal val="#ppt_x-.3"/>
                                          </p:val>
                                        </p:tav>
                                      </p:tavLst>
                                    </p:anim>
                                    <p:anim calcmode="lin" valueType="num">
                                      <p:cBhvr additive="repl">
                                        <p:cTn id="47" dur="500" fill="hold"/>
                                        <p:tgtEl>
                                          <p:spTgt spid="1248"/>
                                        </p:tgtEl>
                                        <p:attrNameLst>
                                          <p:attrName>ppt_y</p:attrName>
                                        </p:attrNameLst>
                                      </p:cBhvr>
                                      <p:tavLst>
                                        <p:tav tm="0">
                                          <p:val>
                                            <p:strVal val="#ppt_y"/>
                                          </p:val>
                                        </p:tav>
                                        <p:tav tm="100000">
                                          <p:val>
                                            <p:strVal val="#ppt_y"/>
                                          </p:val>
                                        </p:tav>
                                      </p:tavLst>
                                    </p:anim>
                                    <p:set>
                                      <p:cBhvr>
                                        <p:cTn id="48" dur="1" fill="hold">
                                          <p:stCondLst>
                                            <p:cond delay="499"/>
                                          </p:stCondLst>
                                        </p:cTn>
                                        <p:tgtEl>
                                          <p:spTgt spid="1248"/>
                                        </p:tgtEl>
                                        <p:attrNameLst>
                                          <p:attrName>style.visibility</p:attrName>
                                        </p:attrNameLst>
                                      </p:cBhvr>
                                      <p:to>
                                        <p:strVal val="hidden"/>
                                      </p:to>
                                    </p:set>
                                  </p:childTnLst>
                                </p:cTn>
                              </p:par>
                              <p:par>
                                <p:cTn id="49" nodeType="withEffect" fill="hold" presetClass="exit" presetID="39">
                                  <p:stCondLst>
                                    <p:cond delay="0"/>
                                  </p:stCondLst>
                                  <p:childTnLst>
                                    <p:anim calcmode="lin" valueType="num">
                                      <p:cBhvr additive="repl">
                                        <p:cTn id="50" dur="500" fill="hold"/>
                                        <p:tgtEl>
                                          <p:spTgt spid="1249">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1" dur="500" fill="hold"/>
                                        <p:tgtEl>
                                          <p:spTgt spid="1249">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2" dur="500" fill="hold"/>
                                        <p:tgtEl>
                                          <p:spTgt spid="1249">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3" dur="500" fill="hold"/>
                                        <p:tgtEl>
                                          <p:spTgt spid="1249">
                                            <p:txEl>
                                              <p:pRg st="0" end="0"/>
                                            </p:txEl>
                                          </p:spTgt>
                                        </p:tgtEl>
                                        <p:attrNameLst>
                                          <p:attrName>ppt_y</p:attrName>
                                        </p:attrNameLst>
                                      </p:cBhvr>
                                      <p:tavLst>
                                        <p:tav tm="0">
                                          <p:val>
                                            <p:strVal val="#ppt_y"/>
                                          </p:val>
                                        </p:tav>
                                        <p:tav tm="100000">
                                          <p:val>
                                            <p:strVal val="#ppt_y"/>
                                          </p:val>
                                        </p:tav>
                                      </p:tavLst>
                                    </p:anim>
                                    <p:set>
                                      <p:cBhvr>
                                        <p:cTn id="54" dur="1" fill="hold">
                                          <p:stCondLst>
                                            <p:cond delay="499"/>
                                          </p:stCondLst>
                                        </p:cTn>
                                        <p:tgtEl>
                                          <p:spTgt spid="124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b7e7ff"/>
                </a:solidFill>
                <a:latin typeface="Arial"/>
              </a:rPr>
              <a:t>Гаилә</a:t>
            </a:r>
            <a:endParaRPr b="0" lang="en-US" sz="4400" spc="-1" strike="noStrike">
              <a:solidFill>
                <a:srgbClr val="b7e7ff"/>
              </a:solidFill>
              <a:latin typeface="Arial"/>
            </a:endParaRPr>
          </a:p>
        </p:txBody>
      </p:sp>
      <p:sp>
        <p:nvSpPr>
          <p:cNvPr id="125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253" name="Picture 4" descr="getImage"/>
          <p:cNvPicPr/>
          <p:nvPr/>
        </p:nvPicPr>
        <p:blipFill>
          <a:blip r:embed="rId1"/>
          <a:stretch/>
        </p:blipFill>
        <p:spPr>
          <a:xfrm>
            <a:off x="228600" y="228600"/>
            <a:ext cx="8458200" cy="6404040"/>
          </a:xfrm>
          <a:prstGeom prst="rect">
            <a:avLst/>
          </a:prstGeom>
          <a:ln w="0">
            <a:noFill/>
          </a:ln>
        </p:spPr>
      </p:pic>
      <p:sp>
        <p:nvSpPr>
          <p:cNvPr id="1254" name="Text Box 5"/>
          <p:cNvSpPr/>
          <p:nvPr/>
        </p:nvSpPr>
        <p:spPr>
          <a:xfrm>
            <a:off x="2590920" y="38088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7200" spc="-1" strike="noStrike">
                <a:solidFill>
                  <a:srgbClr val="ffffff"/>
                </a:solidFill>
                <a:latin typeface="Arial"/>
              </a:rPr>
              <a:t>Гаилә</a:t>
            </a:r>
            <a:endParaRPr b="0" lang="en-US" sz="7200" spc="-1" strike="noStrike">
              <a:solidFill>
                <a:srgbClr val="ffffff"/>
              </a:solidFill>
              <a:latin typeface="Arial"/>
            </a:endParaRPr>
          </a:p>
        </p:txBody>
      </p:sp>
      <p:sp>
        <p:nvSpPr>
          <p:cNvPr id="1255" name="Text Box 6"/>
          <p:cNvSpPr/>
          <p:nvPr/>
        </p:nvSpPr>
        <p:spPr>
          <a:xfrm>
            <a:off x="609480" y="2819520"/>
            <a:ext cx="7848720" cy="270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66"/>
                </a:solidFill>
                <a:latin typeface="Arial"/>
              </a:rPr>
              <a:t>Гаиләгә бер генә чит телле егет яки кыз килеп кергәч, өстәл артында ашаганда, берәр тантаналы мәҗлес уздырганда авыз тутырып туган телеңдә сөйләшеп буламы? Юк инде. Тукмагың кайда, сукмагың шунда, бары да үзгәрә. Бу бигрәк тә олыгайгач күренә. Бездә гомер буе мөселман кануннары буенча яшәп, хатыны мөселман динен кабул итте дип ышанган бер ир, хатыны үлгәч муенындагы хачын күреп, егылып китә язган.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лсу</cp:lastModifiedBy>
  <dcterms:modified xsi:type="dcterms:W3CDTF">2012-02-09T07:37:33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