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Book Antiqua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1C675-6ADF-4F90-887C-F0AF4CA32F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63B6A-40D7-4070-8F7E-E924C47D47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3BCE3-FB26-4769-A421-C3398ADFAA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F5C98-E7BE-4A17-B84F-16786C102F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41148-D4F4-43A7-8EC5-26804613EE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7FD40-290D-481C-BEBC-E877462FF5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73C89-E4F3-48BE-B552-FFE79D29F2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CC609-30DE-4418-AC01-249DF81339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2DA736-A644-4D54-81FC-3B4C97CAB9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D6073-7D5E-4FFE-882E-C9DA52756C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B56C2-67B0-48DE-9B10-93C7C6A045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5A64-15EE-4C60-BA34-DE020B8FDE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B587-DB9D-4C15-A327-DE079757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13CA-67E9-49A5-94CB-461E1B65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CF1F-D4AE-449C-9FE8-39B9227DAC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E85B5-4E54-44F7-A3F1-AEC7B89C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C2B13-FE0A-4955-9CF0-13E9307C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2433-986F-4695-99EB-5E8812C2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3E8B6-813C-484A-B8BB-4BF795C4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DD05-E0DC-4EB9-8C03-BE38E3F2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9F45-AA83-40BE-9BDF-55D87218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46217-AC10-4ADE-849D-1D54680E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0DDC5-BB74-47AE-92C8-7A07E592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6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7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Book Antiqu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3EA9ABF-B42F-4795-98CE-696F5EBBE11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10800000">
            <a:off x="528480" y="6082920"/>
            <a:ext cx="868680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18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80000" y="3212640"/>
            <a:ext cx="414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684360" y="1341360"/>
            <a:ext cx="7991280" cy="180036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ма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Взаимосвязь музыки с другими видам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скусства  на примере оперы «Снегурочка»        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.А. Римского- Корсакова»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572000" y="3357720"/>
            <a:ext cx="4103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333300"/>
                </a:solidFill>
                <a:uFillTx/>
                <a:latin typeface="Franklin Gothic Book"/>
              </a:rPr>
              <a:t>Проект подготовили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Franklin Gothic Book"/>
              </a:rPr>
              <a:t>Пантелеева В.В., </a:t>
            </a:r>
            <a:r>
              <a:rPr b="1" lang="ru-RU" sz="1600" spc="-1" strike="noStrike">
                <a:solidFill>
                  <a:srgbClr val="333300"/>
                </a:solidFill>
                <a:latin typeface="Franklin Gothic Book"/>
              </a:rPr>
              <a:t>учитель музыки высшей категории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Franklin Gothic Book"/>
              </a:rPr>
              <a:t>Василенко О.А., </a:t>
            </a:r>
            <a:r>
              <a:rPr b="1" lang="ru-RU" sz="1600" spc="-1" strike="noStrike">
                <a:solidFill>
                  <a:srgbClr val="333300"/>
                </a:solidFill>
                <a:latin typeface="Franklin Gothic Book"/>
              </a:rPr>
              <a:t>учитель музыки высшей категории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63" name="Рисунок 5" descr=""/>
          <p:cNvPicPr/>
          <p:nvPr/>
        </p:nvPicPr>
        <p:blipFill>
          <a:blip r:embed="rId1"/>
          <a:stretch/>
        </p:blipFill>
        <p:spPr>
          <a:xfrm>
            <a:off x="971640" y="3676680"/>
            <a:ext cx="3487680" cy="24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642960" y="142884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Рекомендуется использование материалов проекта во внеурочной деятельности и  межпредметных неделях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8640" y="457200"/>
            <a:ext cx="8685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4e3b30"/>
                </a:solidFill>
                <a:latin typeface="Times New Roman"/>
              </a:rPr>
              <a:t>РЕКОМЕНДАЦИИ.</a:t>
            </a:r>
            <a:endParaRPr b="0" lang="en-US" sz="3600" spc="-1" strike="noStrike">
              <a:solidFill>
                <a:srgbClr val="4e3b30"/>
              </a:solidFill>
              <a:latin typeface="Book Antiqua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3564000" y="3213000"/>
            <a:ext cx="4238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«Постоянно наблюдается, что искусства влияют друг на друга, взаимно проникают друг в друга или же в результате своего естественного развития, иной раз выходят, так сказать, за свои пределы, в области смежного искусства. То музыка становится живописью, то живопись становится музыкой» </a:t>
            </a: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                  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(Р. Роллан)</a:t>
            </a: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-189000"/>
            <a:ext cx="6053400" cy="158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539640" y="1285920"/>
            <a:ext cx="2932200" cy="43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Трубченко\Рабочий стол\КАРТИНКИ 06.12.08\588-2.jpg"/>
          <p:cNvPicPr/>
          <p:nvPr/>
        </p:nvPicPr>
        <p:blipFill>
          <a:blip r:embed="rId3"/>
          <a:stretch/>
        </p:blipFill>
        <p:spPr>
          <a:xfrm>
            <a:off x="4284720" y="1557360"/>
            <a:ext cx="4572000" cy="40003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4427640" y="57164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Franklin Gothic Book"/>
              </a:rPr>
              <a:t>                   </a:t>
            </a:r>
            <a:r>
              <a:rPr b="1" lang="ru-RU" sz="1800" spc="-1" strike="noStrike">
                <a:solidFill>
                  <a:srgbClr val="00b0f0"/>
                </a:solidFill>
                <a:latin typeface="Franklin Gothic Book"/>
              </a:rPr>
              <a:t>«Весенняя сказка» - 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Franklin Gothic Book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Н. Островский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727560" y="596592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Опера </a:t>
            </a:r>
            <a:r>
              <a:rPr b="1" i="1" lang="ru-RU" sz="1800" spc="-1" strike="noStrike">
                <a:solidFill>
                  <a:srgbClr val="ff0000"/>
                </a:solidFill>
                <a:latin typeface="Franklin Gothic Book"/>
              </a:rPr>
              <a:t>«Снегурочка»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</a:rPr>
              <a:t>Отдел литературы.</a:t>
            </a:r>
            <a:endParaRPr b="0" lang="en-US" sz="36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268280"/>
            <a:ext cx="766908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Основные вопросы:</a:t>
            </a:r>
            <a:endParaRPr b="0" lang="en-US" sz="2800" spc="-1" strike="noStrike">
              <a:solidFill>
                <a:srgbClr val="4e3b3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Биографическая справка о писателе.</a:t>
            </a:r>
            <a:endParaRPr b="0" lang="en-US" sz="2800" spc="-1" strike="noStrike">
              <a:solidFill>
                <a:srgbClr val="4e3b3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История создания сказки.</a:t>
            </a:r>
            <a:endParaRPr b="0" lang="en-US" sz="2800" spc="-1" strike="noStrike">
              <a:solidFill>
                <a:srgbClr val="4e3b3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Сюжет сказки.</a:t>
            </a:r>
            <a:endParaRPr b="0" lang="en-US" sz="2800" spc="-1" strike="noStrike">
              <a:solidFill>
                <a:srgbClr val="4e3b3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Повторение сведений по теории литературы:                      а) драма;</a:t>
            </a:r>
            <a:endParaRPr b="0" lang="en-US" sz="2800" spc="-1" strike="noStrike">
              <a:solidFill>
                <a:srgbClr val="4e3b3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б) афиша;</a:t>
            </a:r>
            <a:endParaRPr b="0" lang="en-US" sz="2800" spc="-1" strike="noStrike">
              <a:solidFill>
                <a:srgbClr val="4e3b3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в) ремарка;</a:t>
            </a:r>
            <a:endParaRPr b="0" lang="en-US" sz="2800" spc="-1" strike="noStrike">
              <a:solidFill>
                <a:srgbClr val="4e3b3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г) пролог.                               </a:t>
            </a:r>
            <a:endParaRPr b="0" lang="en-US" sz="2800" spc="-1" strike="noStrike">
              <a:solidFill>
                <a:srgbClr val="4e3b3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e3b30"/>
              </a:solidFill>
              <a:latin typeface="Book Antiqua"/>
            </a:endParaRPr>
          </a:p>
        </p:txBody>
      </p:sp>
      <p:pic>
        <p:nvPicPr>
          <p:cNvPr id="110" name="Picture 4" descr="perov14"/>
          <p:cNvPicPr/>
          <p:nvPr/>
        </p:nvPicPr>
        <p:blipFill>
          <a:blip r:embed="rId1"/>
          <a:stretch/>
        </p:blipFill>
        <p:spPr>
          <a:xfrm>
            <a:off x="6861240" y="31680"/>
            <a:ext cx="22622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</a:rPr>
              <a:t>Отдел музыки.</a:t>
            </a:r>
            <a:endParaRPr b="0" lang="en-US" sz="3600" spc="-1" strike="noStrike">
              <a:solidFill>
                <a:srgbClr val="4e3b30"/>
              </a:solidFill>
              <a:latin typeface="Book Antiqua"/>
            </a:endParaRPr>
          </a:p>
        </p:txBody>
      </p:sp>
      <p:pic>
        <p:nvPicPr>
          <p:cNvPr id="112" name="Picture 5" descr="римский -корс"/>
          <p:cNvPicPr/>
          <p:nvPr/>
        </p:nvPicPr>
        <p:blipFill>
          <a:blip r:embed="rId1"/>
          <a:stretch/>
        </p:blipFill>
        <p:spPr>
          <a:xfrm>
            <a:off x="6012000" y="549360"/>
            <a:ext cx="2974680" cy="3139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539640" y="1700280"/>
            <a:ext cx="540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1.Биографическая справка о композиторе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2. История создания оперы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3. Либретто оперы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4. Слушание  музыкальных фрагментов и просмотр видеоматериалов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</a:rPr>
              <a:t>Отдел декораций и театра.</a:t>
            </a:r>
            <a:endParaRPr b="0" lang="en-US" sz="36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3640" y="1557000"/>
            <a:ext cx="58323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Основные вопросы:</a:t>
            </a: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Театрально-декорационное  искусство        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В.М.ВАСНЕЦОВА</a:t>
            </a:r>
            <a:endParaRPr b="0" lang="en-US" sz="2800" spc="-1" strike="noStrike">
              <a:solidFill>
                <a:srgbClr val="4e3b3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e3b3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 Театрально-декорационное искусство</a:t>
            </a:r>
            <a:endParaRPr b="0" lang="en-US" sz="2800" spc="-1" strike="noStrike">
              <a:solidFill>
                <a:srgbClr val="4e3b3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    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.К. 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Рериха</a:t>
            </a:r>
            <a:endParaRPr b="0" lang="en-US" sz="2800" spc="-1" strike="noStrike">
              <a:solidFill>
                <a:srgbClr val="4e3b3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e3b30"/>
              </a:solidFill>
              <a:latin typeface="Book Antiqua"/>
            </a:endParaRPr>
          </a:p>
        </p:txBody>
      </p:sp>
      <p:pic>
        <p:nvPicPr>
          <p:cNvPr id="116" name="Picture 2" descr="Картинка 2 из 770"/>
          <p:cNvPicPr/>
          <p:nvPr/>
        </p:nvPicPr>
        <p:blipFill>
          <a:blip r:embed="rId1"/>
          <a:stretch/>
        </p:blipFill>
        <p:spPr>
          <a:xfrm>
            <a:off x="6227640" y="981000"/>
            <a:ext cx="1974960" cy="251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Картинка 80 из 17135"/>
          <p:cNvPicPr/>
          <p:nvPr/>
        </p:nvPicPr>
        <p:blipFill>
          <a:blip r:embed="rId2"/>
          <a:stretch/>
        </p:blipFill>
        <p:spPr>
          <a:xfrm>
            <a:off x="6251400" y="3933720"/>
            <a:ext cx="195912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Проверка знаний</a:t>
            </a:r>
            <a:endParaRPr b="0" lang="en-US" sz="2800" spc="-1" strike="noStrike">
              <a:solidFill>
                <a:srgbClr val="4e3b30"/>
              </a:solidFill>
              <a:latin typeface="Book Antiqu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Тесты, кроссворд, проверочные вопросы</a:t>
            </a: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2.   Итог урока. </a:t>
            </a:r>
            <a:endParaRPr b="0" lang="en-US" sz="3200" spc="-1" strike="noStrike">
              <a:solidFill>
                <a:srgbClr val="4e3b3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"/>
          <p:cNvGrpSpPr/>
          <p:nvPr/>
        </p:nvGrpSpPr>
        <p:grpSpPr>
          <a:xfrm>
            <a:off x="103320" y="450720"/>
            <a:ext cx="8893080" cy="1150920"/>
            <a:chOff x="103320" y="450720"/>
            <a:chExt cx="8893080" cy="1150920"/>
          </a:xfrm>
        </p:grpSpPr>
        <p:pic>
          <p:nvPicPr>
            <p:cNvPr id="65" name="Picture 2" descr=""/>
            <p:cNvPicPr/>
            <p:nvPr/>
          </p:nvPicPr>
          <p:blipFill>
            <a:blip r:embed="rId1"/>
            <a:stretch/>
          </p:blipFill>
          <p:spPr>
            <a:xfrm>
              <a:off x="103320" y="450720"/>
              <a:ext cx="88930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3"/>
            <p:cNvSpPr/>
            <p:nvPr/>
          </p:nvSpPr>
          <p:spPr>
            <a:xfrm>
              <a:off x="103320" y="450720"/>
              <a:ext cx="889308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67" name="Text Box 4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Сегодня вопросы интеграции учебных предметов приобретают особую остроту. Задачей современной педагогики становится соединение в восприятии ребёнка локальных знаний по каждому предмету в широкую целостную картину мира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"/>
          <p:cNvGrpSpPr/>
          <p:nvPr/>
        </p:nvGrpSpPr>
        <p:grpSpPr>
          <a:xfrm>
            <a:off x="103320" y="450720"/>
            <a:ext cx="8893080" cy="1150920"/>
            <a:chOff x="103320" y="450720"/>
            <a:chExt cx="8893080" cy="1150920"/>
          </a:xfrm>
        </p:grpSpPr>
        <p:pic>
          <p:nvPicPr>
            <p:cNvPr id="69" name="Picture 2" descr=""/>
            <p:cNvPicPr/>
            <p:nvPr/>
          </p:nvPicPr>
          <p:blipFill>
            <a:blip r:embed="rId1"/>
            <a:stretch/>
          </p:blipFill>
          <p:spPr>
            <a:xfrm>
              <a:off x="103320" y="450720"/>
              <a:ext cx="88930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3"/>
            <p:cNvSpPr/>
            <p:nvPr/>
          </p:nvSpPr>
          <p:spPr>
            <a:xfrm>
              <a:off x="103320" y="450720"/>
              <a:ext cx="889308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71" name="Text Box 4"/>
          <p:cNvSpPr/>
          <p:nvPr/>
        </p:nvSpPr>
        <p:spPr>
          <a:xfrm>
            <a:off x="395280" y="1773360"/>
            <a:ext cx="8596440" cy="43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Поскольку опера является синтетическим видом искусства, то её изучение  должно рассматриваться во взаимосвязи с другими видами искусства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1"/>
          <p:cNvGrpSpPr/>
          <p:nvPr/>
        </p:nvGrpSpPr>
        <p:grpSpPr>
          <a:xfrm>
            <a:off x="324000" y="260280"/>
            <a:ext cx="8672400" cy="1008000"/>
            <a:chOff x="324000" y="260280"/>
            <a:chExt cx="8672400" cy="1008000"/>
          </a:xfrm>
        </p:grpSpPr>
        <p:pic>
          <p:nvPicPr>
            <p:cNvPr id="73" name="Picture 2" descr=""/>
            <p:cNvPicPr/>
            <p:nvPr/>
          </p:nvPicPr>
          <p:blipFill>
            <a:blip r:embed="rId1"/>
            <a:stretch/>
          </p:blipFill>
          <p:spPr>
            <a:xfrm>
              <a:off x="324000" y="450720"/>
              <a:ext cx="867240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3"/>
            <p:cNvSpPr/>
            <p:nvPr/>
          </p:nvSpPr>
          <p:spPr>
            <a:xfrm>
              <a:off x="394560" y="260280"/>
              <a:ext cx="86014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75" name="Text Box 4"/>
          <p:cNvSpPr/>
          <p:nvPr/>
        </p:nvSpPr>
        <p:spPr>
          <a:xfrm>
            <a:off x="395280" y="1554120"/>
            <a:ext cx="85964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Если мы будем обучать школьников через интеграцию предметов эстетического цикла, то у учащихся сложится целостное восприятие произведения искусств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3924360" y="4597560"/>
            <a:ext cx="4478400" cy="17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"/>
          <p:cNvGrpSpPr/>
          <p:nvPr/>
        </p:nvGrpSpPr>
        <p:grpSpPr>
          <a:xfrm>
            <a:off x="103320" y="334800"/>
            <a:ext cx="8284680" cy="1266840"/>
            <a:chOff x="103320" y="334800"/>
            <a:chExt cx="8284680" cy="1266840"/>
          </a:xfrm>
        </p:grpSpPr>
        <p:pic>
          <p:nvPicPr>
            <p:cNvPr id="78" name="Picture 2" descr=""/>
            <p:cNvPicPr/>
            <p:nvPr/>
          </p:nvPicPr>
          <p:blipFill>
            <a:blip r:embed="rId1"/>
            <a:stretch/>
          </p:blipFill>
          <p:spPr>
            <a:xfrm>
              <a:off x="103320" y="450720"/>
              <a:ext cx="79581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3"/>
            <p:cNvSpPr/>
            <p:nvPr/>
          </p:nvSpPr>
          <p:spPr>
            <a:xfrm>
              <a:off x="429840" y="334800"/>
              <a:ext cx="7958160" cy="11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Franklin Gothic Book"/>
                </a:rPr>
                <a:t>          </a:t>
              </a: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80" name="Text Box 4"/>
          <p:cNvSpPr/>
          <p:nvPr/>
        </p:nvSpPr>
        <p:spPr>
          <a:xfrm>
            <a:off x="430200" y="1554120"/>
            <a:ext cx="856152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Развитие умения находить  связи между художественными образами, созданными музыкой, литературой, изобразительным искусством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2"/>
          <a:stretch/>
        </p:blipFill>
        <p:spPr>
          <a:xfrm>
            <a:off x="3059280" y="4076640"/>
            <a:ext cx="496872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"/>
          <p:cNvGrpSpPr/>
          <p:nvPr/>
        </p:nvGrpSpPr>
        <p:grpSpPr>
          <a:xfrm>
            <a:off x="149400" y="450720"/>
            <a:ext cx="8847000" cy="962280"/>
            <a:chOff x="149400" y="450720"/>
            <a:chExt cx="8847000" cy="962280"/>
          </a:xfrm>
        </p:grpSpPr>
        <p:pic>
          <p:nvPicPr>
            <p:cNvPr id="83" name="Picture 2" descr=""/>
            <p:cNvPicPr/>
            <p:nvPr/>
          </p:nvPicPr>
          <p:blipFill>
            <a:blip r:embed="rId1"/>
            <a:stretch/>
          </p:blipFill>
          <p:spPr>
            <a:xfrm>
              <a:off x="149400" y="450720"/>
              <a:ext cx="884700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3"/>
            <p:cNvSpPr/>
            <p:nvPr/>
          </p:nvSpPr>
          <p:spPr>
            <a:xfrm>
              <a:off x="149400" y="450720"/>
              <a:ext cx="88470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85" name="Text Box 4"/>
          <p:cNvSpPr/>
          <p:nvPr/>
        </p:nvSpPr>
        <p:spPr>
          <a:xfrm>
            <a:off x="250920" y="1554120"/>
            <a:ext cx="874548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Развивать целостное мировосприятие учащихся через синтез искусств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Развивать навыки проектно – исследовательской деятельности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"/>
          <p:cNvGrpSpPr/>
          <p:nvPr/>
        </p:nvGrpSpPr>
        <p:grpSpPr>
          <a:xfrm>
            <a:off x="108000" y="0"/>
            <a:ext cx="8888400" cy="1052640"/>
            <a:chOff x="108000" y="0"/>
            <a:chExt cx="8888400" cy="1052640"/>
          </a:xfrm>
        </p:grpSpPr>
        <p:pic>
          <p:nvPicPr>
            <p:cNvPr id="88" name="Picture 2" descr=""/>
            <p:cNvPicPr/>
            <p:nvPr/>
          </p:nvPicPr>
          <p:blipFill>
            <a:blip r:embed="rId1"/>
            <a:stretch/>
          </p:blipFill>
          <p:spPr>
            <a:xfrm>
              <a:off x="108000" y="294480"/>
              <a:ext cx="888840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3"/>
            <p:cNvSpPr/>
            <p:nvPr/>
          </p:nvSpPr>
          <p:spPr>
            <a:xfrm>
              <a:off x="218520" y="0"/>
              <a:ext cx="877752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90" name="Text Box 4"/>
          <p:cNvSpPr/>
          <p:nvPr/>
        </p:nvSpPr>
        <p:spPr>
          <a:xfrm>
            <a:off x="219240" y="1268280"/>
            <a:ext cx="877716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Franklin Gothic Medium"/>
              </a:rPr>
              <a:t>Подготовительный этап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Medium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Medium"/>
              </a:rPr>
              <a:t>Учитель распределяет учащихся по группам,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Medium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Medium"/>
              </a:rPr>
              <a:t>учащиеся занимаются сбором  материала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Medium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Medium"/>
              </a:rPr>
              <a:t>(срок 1 неделя)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Franklin Gothic Medium"/>
              </a:rPr>
              <a:t>Основной  этап</a:t>
            </a:r>
            <a:r>
              <a:rPr b="1" lang="ru-RU" sz="2400" spc="-1" strike="noStrike">
                <a:solidFill>
                  <a:srgbClr val="4e3b30"/>
                </a:solidFill>
                <a:latin typeface="Franklin Gothic Medium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Medium"/>
              </a:rPr>
              <a:t>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Medium"/>
              </a:rPr>
              <a:t>Учащиеся работают в группах: анализируют,  систематизируют информацию, создают презентации, кроссворды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Medium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Medium"/>
              </a:rPr>
              <a:t>Учитель разрабатывает тесты, проверочные зада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Medium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Medium"/>
              </a:rPr>
              <a:t>(срок 2 недели)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Franklin Gothic Medium"/>
              </a:rPr>
              <a:t>Заключительный этап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Medium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Medium"/>
              </a:rPr>
              <a:t>Показ творческих работ на уроке музыки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Medium"/>
              </a:rPr>
              <a:t>Инструментарий</a:t>
            </a:r>
            <a:r>
              <a:rPr b="0" lang="ru-RU" sz="2400" spc="-1" strike="noStrike">
                <a:solidFill>
                  <a:srgbClr val="4e3b30"/>
                </a:solidFill>
                <a:latin typeface="Franklin Gothic Medium"/>
              </a:rPr>
              <a:t>: интернет - ресурсы, мультимедийные средства, энциклопедии, литература по искусству, видеоматериалы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"/>
          <p:cNvGrpSpPr/>
          <p:nvPr/>
        </p:nvGrpSpPr>
        <p:grpSpPr>
          <a:xfrm>
            <a:off x="250920" y="450720"/>
            <a:ext cx="8745480" cy="890640"/>
            <a:chOff x="250920" y="450720"/>
            <a:chExt cx="8745480" cy="890640"/>
          </a:xfrm>
        </p:grpSpPr>
        <p:pic>
          <p:nvPicPr>
            <p:cNvPr id="92" name="Picture 2" descr=""/>
            <p:cNvPicPr/>
            <p:nvPr/>
          </p:nvPicPr>
          <p:blipFill>
            <a:blip r:embed="rId1"/>
            <a:stretch/>
          </p:blipFill>
          <p:spPr>
            <a:xfrm>
              <a:off x="250920" y="450720"/>
              <a:ext cx="874548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3"/>
            <p:cNvSpPr/>
            <p:nvPr/>
          </p:nvSpPr>
          <p:spPr>
            <a:xfrm>
              <a:off x="250920" y="450720"/>
              <a:ext cx="874548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94" name="Text Box 4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Презентации по музыке, литературе и живописи  на примере оперы «Снегурочка»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Н . А. Римского - Корсакова, кроссворды, рисунки  учащихся, тесты, проверочные задания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6012000" y="4105440"/>
            <a:ext cx="1974600" cy="197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539640" y="428760"/>
            <a:ext cx="86043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Franklin Gothic Book"/>
              </a:rPr>
              <a:t>Ожидаемые результаты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04920" y="1719360"/>
            <a:ext cx="86868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Medium"/>
              </a:rPr>
              <a:t>В рамках реализации нашего проекта планируется, что учащиеся научатся находить связи между художественными образами, созданными различными видами искусств, овладеют умениями поиска и работы с информацией, научатся создавать презентации.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a </cp:lastModifiedBy>
  <dcterms:modified xsi:type="dcterms:W3CDTF">2012-02-09T19:11:35Z</dcterms:modified>
  <cp:revision>42</cp:revision>
  <dc:subject/>
  <dc:title>Государственное образовательное учреждение Тверской областной институт усовершенствования учителей формирование эстетического чувства учащихся путём синтеза искусств на примере оперы «Снегурочка» Н.А.Римского – Корсакова Проект подготовили Будакова И.В. Василенко О.А. Герман О.А. Калиман о,В. Пантелеева В.В. Разумова Г.В. Хромова Л.М.</dc:title>
</cp:coreProperties>
</file>