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5A2-2D4A-404D-80D0-B0892CB7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4B4-1AA9-4576-A3FC-DE8E49E7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356A51-AFC2-4E4C-BA18-CCF66DE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32EAB-FBB7-4C31-9241-2A71BB03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6D1076-E137-40E6-B739-123D3703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CECAB0-4443-4B9C-8443-7B788A0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492A6B-5E98-4AAB-9F29-4195A4A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F9A3EE-9237-4142-AB36-4399F4D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B9D6FE-6B5C-4237-8195-9C994A90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687B58-50D2-4619-BBDC-557BE82F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46B3BE-884B-460A-94C1-4A348686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01192-EAD5-48EF-8945-3DDF843D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4F9-A2F4-4999-8EA4-3F6DEB4F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090C5-9FED-4AEF-83AD-82FAA091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C4F13-02EF-4D7A-B86D-8862CB7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55110-70B8-4B2E-92E4-33FC5F8B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D3CC2-4A68-4BCC-9992-5927AB19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72389-AD44-4AA8-9154-13011ED3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F870C-39DE-4F8A-9D75-0018317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C922F-4AD7-43F0-BA54-CF16047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464AC-F92D-4596-9BAF-D0A0B091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D59C2-D72B-452D-A2C4-EFDE492E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AF719-5F2E-4880-A2FB-D52E3A1A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869-BFC1-4F1C-A700-ADDE2AC7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E925E-5729-4B03-A478-26228F88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FEB69-2957-4FBB-ABFA-28E3FA99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18A1C-A741-4C14-BBA1-E99B78E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43254-1BCA-4E3A-BC50-8EA2F77D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034E5-2C50-4886-BFE0-AA7F4F47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DA080-04EE-40E8-B9D0-F1DA4D0B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7AB56-72EB-462C-A7A5-62105FC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85A52-E022-4F3F-8441-8B404264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CB7E3-97AC-4680-8591-049F0E6B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11096-EF42-4628-953C-41CF1B84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6CD5-ADDB-4CF9-BF68-ED053B16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84E56-6788-4C91-B951-2B114DD9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FF1D0-89B2-4DC6-86C3-D73B8CEC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8434C-1067-4201-A160-298709E8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C9888C-1984-476A-B162-2B7CCD10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37F0D2-DBF0-436C-9847-014F0AAF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89D8E3-9FBD-45A2-97BA-15432192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8D5F99-74E2-4B95-A305-2674C348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7FE6D2-18BF-421E-93A3-AFDDD73D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A6562A-F769-48B5-8C28-284DAF4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9888CE-77D9-47B4-8CF1-7EC36CB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5074-5129-4940-AD29-9624722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F7E070-FBFC-4650-B2E3-7D9B139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79C3AF-F602-4E72-B4B6-0D969B6C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D1C2FC-6469-4384-8012-9254D85D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98D36C-FDAB-4D7A-BAB5-2C594E03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8F3BD0-5117-425F-B895-C0EB4428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5CBA8-F657-4D6F-B7C3-D8C19656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C21C5-482A-4EED-BF73-D040CD62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628AF-EC81-4FA7-8B13-B236109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B1F06-E614-4C8C-BDA0-7303596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65383-B1EC-4C7E-8C51-0ECB8229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FE63-54B7-4FDB-9615-40668D4D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E2E87-F349-4C47-9FC3-EF286992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41E77-D61D-463D-BA76-058E1A7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65A3D-BBF7-4499-BEFD-2BCFB3B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30FA9-80CD-4535-9FB9-521FABFE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83F95-00BC-4E16-8541-AF18D0D0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D8110-1FC5-4936-8981-16E47912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B0159-310A-49D2-9400-76EFE0F3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81BFF4-A707-4663-8D3B-0E4D1F05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DFB330-833C-4878-A90A-75D85989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5F2157-EF80-4571-BC72-AF67F249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7703-F0F8-412E-9589-610A8865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F91B39-D181-4447-9655-27D40B54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27D92F-8002-4A3B-A4BE-C5EE7759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728F62-5E94-4668-ABEB-045C4B8D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8C414A-0F43-49F5-A906-D8666F2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28BB28-9FC5-4E45-8F00-C3A1D6E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55C82B-4FA9-4F9D-B79E-5A3D6C1D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97E686-73B0-40F9-ADED-584B7C09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6FA2E4-43E8-4B6E-976D-A260334F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113E72-B862-49C9-BDCF-BD061FE5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BA6C73-08C0-41FF-A441-EAF35F41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B20F-84AE-47F6-9C6A-E0373EDD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F4A18E-1A7C-4EB0-98A8-52673145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0B41E6-7F77-4EDD-95A3-DE14792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FCBEA2-CF04-4FF4-9FD8-23B61880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B24197-E7E8-4171-B976-660891B8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13C351-598E-42C8-A366-F156CBDE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B26970-A0B8-4AFC-B54D-280BA47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2FDD7F-A934-41FA-AAEB-8B1BBA4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B9C816-C919-4BBC-A694-2D45A0CF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1322DB-3199-42A4-A723-3D37B279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02FE9A-7814-4585-8549-C8D1101E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C74F-A5C9-4C05-B972-ECB7FCE6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73CA98-0525-4FEA-8364-FBA300C7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6C33-62F0-41C7-B9F3-4B1260C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326-0D4F-4EE6-9EB3-8526D377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D18C-72A2-44F9-BD0A-59121194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2AA451-B2B7-4A65-B2A9-91C43595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9729CE-92A3-4D98-BCD7-E9E2A3B8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1FCEEB-C973-49BB-8C97-BDBD53DD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ACA35D-DF4F-4DE1-B1A9-D3E1CC49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E6C26A-130B-4DDA-AD32-87680713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C6FB-C01C-4CA7-86DF-C52D2D8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E05CB2-FF40-4798-9D00-E3553C4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8999FF-868E-4D9C-A03B-2C8EA72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345673-ED2B-4549-9D0A-F378767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40E029-E18F-4F39-8F68-A550BCB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3BC659-8D8A-44B2-AC72-5BDC6F14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5D9C6D-AE88-478D-B1D2-7353E194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61805D-339D-4B39-9626-E863184A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0630A3-7E8A-447C-9DDC-2B9FF0C8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9ADF75-850C-42FA-8BE9-46BFBE0A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111210-25C3-4BF9-85C9-F7FF3371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4386-5B09-4C86-B0BF-CB5E93C0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4DC21C-6E6B-4D48-8391-B64493D6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74D979-35D5-4190-8B79-51496C5F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3DB56C-A707-4035-BAF3-F87F8BF8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DBDB63-2956-4BAE-8E28-62D4E6C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46F4E7-2D90-4970-BD97-4BBF697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5E4224-54D9-4B17-9AFA-0FA8324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C0BF86-6251-4151-9427-502B8353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B14A1E-7250-4782-B275-3F7548E9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594DBA-4EF8-428D-B600-0C5764A8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DBAC-2D0A-468F-90EE-6CB8FC77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303C-91DC-4600-B66C-75D79EB4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CE4E-5236-491C-8D9A-8DE36B81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8729-0E91-4447-98F8-574C4046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95EB-12C6-43F8-AED2-88CD859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61E0-9A43-4DE9-BA39-E8D7733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DA2C-A476-47D5-9E51-D8666EB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80B-1952-4B74-96E8-0B2DCCA8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11E9-D6A6-447D-84C7-79BDC9E3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468B-B302-4589-8CFE-95D650C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5384-D031-4EA2-98F6-193EEEF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23CA-DA1C-43FD-995F-4C11410C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2594-4FB7-4A03-8E9B-05E4AFD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636B-B546-4F08-8E53-3647D18D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4184-F2A8-4D29-A7BC-CA1B9259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A91A-DCC1-49C8-A0BA-7F83D7BB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8122-AF40-4D22-8C51-7FFFAF56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C4A71-9331-40DA-8845-6678AED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A92-8E81-46DD-80E9-5DE2646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58131-40D9-4D29-AFC1-988778D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1C4B-350D-46C9-BCDC-8E627F5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B493-AD2B-4946-97D4-3276AA6D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DE84-0CB7-47D7-97BF-D043933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C828-99D4-415D-858F-8BF48A2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4AC16-AD9D-48C2-BD91-DD136B9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5A4A-DD9D-439E-A1B4-D641158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9E1F-FB86-4058-AEE8-25D99BF3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480E-F873-4F2A-8C04-358C5F15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891F-6F34-4140-9DC0-311FB7D6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896-C3A8-4B47-B1AC-A7980C7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D46F-133A-4F53-9FA6-FEDD8B0A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605C-22F0-4B38-9990-DFB61760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0691-6408-40EB-A58E-C813107F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F1E1-0C59-4BDE-B813-F6D8A50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A7C45-6CDE-4483-8E31-8FBFACB7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D30F3-85CC-4F9F-BEEC-4A6FC8C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067D-6B8A-4029-B3B2-CD70ABC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C7D07-049A-4D11-BFB7-287AB52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849A-32B8-48E8-A9EB-705C9068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80FF-F261-4E24-AC79-0E1316EA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DE8-0E7D-4220-8456-C6E24BD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ADBE-E9F6-4B8F-82EB-3527E125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647A-696D-46F6-AC8B-05A214F9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A7C03-4136-4B94-A36B-CF5A4B06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37E8-FE58-4233-835A-680C9750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8AB8F-BECD-4348-8338-0CB49499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5580-0035-44B1-8174-B9B18D51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23344-EB76-4C35-978E-71CD4B31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5E5C0-FF57-4FA8-9C72-70D9AB7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6EA4-65C9-4C2E-813F-F954E04B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F100F-97F2-4ED2-B538-9F1A906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D7E-919E-4E18-AF01-96168D9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D925-F434-4057-9E6E-3B2DCD47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34517-82AC-4A7C-861D-D85024E2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D313A-A158-427A-BD52-78EF0BB3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A7C-FB0C-4D40-98E7-28696477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589C8A-0416-4114-A685-64C7E337DD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D1D7A-89C2-4C85-8EF0-6D75788CD5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287DFB-D4F2-420C-BCA8-C049BF6A7D7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A74782-F074-4C78-AB0E-2622AD35A6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4F6FD1-DAA3-4FBC-B62F-A6AA55B63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E63-AF7B-4787-AF55-FA32B7CD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50841E-47C5-4051-9EE9-A41571BC98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CB5FA-79D8-469F-8245-052688C973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91215D-E929-44B7-AEFB-9C7EEFA17C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43EB3F-23DF-4F2E-9CD5-F2C73D1AE9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DA61E-4876-4A6E-A24A-5FE7C17B948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6EEBA6-84D5-4A49-8DD1-9E27FAC853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46E465-F9B3-4BE0-A177-5889E45A8A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86E37C-4F2D-46E7-837A-FCEE5A91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426175-0BE0-485E-A232-EE59588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D12BB9-3CF3-4E09-BF23-CB7D77EE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21D-716F-4817-9EBA-40AC37D4EF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3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4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5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ADAD-90B1-4647-B8B6-2E416A9EAE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97FF-B972-4352-B3F9-597C7CC479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49C7-7696-4F85-AD93-D787426671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2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3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4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B776-C4CC-4091-971C-2E9D277732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7" descr="logo"/>
          <p:cNvPicPr/>
          <p:nvPr/>
        </p:nvPicPr>
        <p:blipFill>
          <a:blip r:embed="rId3"/>
          <a:stretch/>
        </p:blipFill>
        <p:spPr>
          <a:xfrm>
            <a:off x="5580000" y="498600"/>
            <a:ext cx="2943360" cy="1295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3920" y="5179680"/>
            <a:ext cx="6202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04a18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04a18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5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36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37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730E-5992-4BCA-85D1-DA182D1CB16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7" descr="logo"/>
          <p:cNvPicPr/>
          <p:nvPr/>
        </p:nvPicPr>
        <p:blipFill>
          <a:blip r:embed="rId3"/>
          <a:stretch/>
        </p:blipFill>
        <p:spPr>
          <a:xfrm>
            <a:off x="5580000" y="498600"/>
            <a:ext cx="2943360" cy="12952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13920" y="5179680"/>
            <a:ext cx="6202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04a18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04a18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8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9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40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80B1-AE77-487D-8FAD-F22EAB34402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9" descr="logo"/>
          <p:cNvPicPr/>
          <p:nvPr/>
        </p:nvPicPr>
        <p:blipFill>
          <a:blip r:embed="rId3"/>
          <a:stretch/>
        </p:blipFill>
        <p:spPr>
          <a:xfrm>
            <a:off x="5867280" y="333360"/>
            <a:ext cx="2943360" cy="129528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7480" y="105840"/>
            <a:ext cx="6645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23e2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4b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18680" y="1711080"/>
            <a:ext cx="8394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872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04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04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04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7" descr="logo"/>
          <p:cNvPicPr/>
          <p:nvPr/>
        </p:nvPicPr>
        <p:blipFill>
          <a:blip r:embed="rId3"/>
          <a:stretch/>
        </p:blipFill>
        <p:spPr>
          <a:xfrm>
            <a:off x="7083360" y="276120"/>
            <a:ext cx="1708200" cy="752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7480" y="105840"/>
            <a:ext cx="6645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4b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18680" y="1711080"/>
            <a:ext cx="8394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1" marL="631800" indent="-2872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2" marL="1143000" indent="-228600">
              <a:spcAft>
                <a:spcPts val="1049"/>
              </a:spcAft>
              <a:buClr>
                <a:srgbClr val="0f4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3" marL="1600200" indent="-228600">
              <a:spcAft>
                <a:spcPts val="1049"/>
              </a:spcAft>
              <a:buClr>
                <a:srgbClr val="0f4b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4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5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6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7" descr="logo"/>
          <p:cNvPicPr/>
          <p:nvPr/>
        </p:nvPicPr>
        <p:blipFill>
          <a:blip r:embed="rId3"/>
          <a:stretch/>
        </p:blipFill>
        <p:spPr>
          <a:xfrm>
            <a:off x="7083360" y="276120"/>
            <a:ext cx="1708200" cy="7527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7480" y="105840"/>
            <a:ext cx="6645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4b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18680" y="1711080"/>
            <a:ext cx="8394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1" marL="631800" indent="-2872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2" marL="1143000" indent="-228600">
              <a:spcAft>
                <a:spcPts val="1049"/>
              </a:spcAft>
              <a:buClr>
                <a:srgbClr val="0f4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3" marL="1600200" indent="-228600">
              <a:spcAft>
                <a:spcPts val="1049"/>
              </a:spcAft>
              <a:buClr>
                <a:srgbClr val="0f4b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4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5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6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1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2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3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461D-E69C-4D6B-9AD6-82313A2B0DE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7" descr="logo"/>
          <p:cNvPicPr/>
          <p:nvPr/>
        </p:nvPicPr>
        <p:blipFill>
          <a:blip r:embed="rId3"/>
          <a:stretch/>
        </p:blipFill>
        <p:spPr>
          <a:xfrm>
            <a:off x="7083360" y="276120"/>
            <a:ext cx="1708200" cy="75276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7480" y="105840"/>
            <a:ext cx="6645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4b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18680" y="1711080"/>
            <a:ext cx="8394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1" marL="631800" indent="-2872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2" marL="1143000" indent="-228600">
              <a:spcAft>
                <a:spcPts val="1049"/>
              </a:spcAft>
              <a:buClr>
                <a:srgbClr val="0f4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3" marL="1600200" indent="-228600">
              <a:spcAft>
                <a:spcPts val="1049"/>
              </a:spcAft>
              <a:buClr>
                <a:srgbClr val="0f4b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4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5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6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44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45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46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EB0F-F19A-42C1-8197-767F3202F72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46AB-765B-48DC-8965-F47F78B5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BBD7-6AC8-4C1C-B0DE-41897CFDCD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8DB0-B65B-4943-9C7E-E523B7590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5DF6-95AA-46BF-93D0-C71ECD9F5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635-034C-477E-BD7C-C92E21113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078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3920" y="5179680"/>
            <a:ext cx="6202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04a18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04a18"/>
              </a:solidFill>
              <a:latin typeface="Arial"/>
            </a:endParaRPr>
          </a:p>
        </p:txBody>
      </p:sp>
      <p:pic>
        <p:nvPicPr>
          <p:cNvPr id="248" name="Picture 7" descr="logo"/>
          <p:cNvPicPr/>
          <p:nvPr/>
        </p:nvPicPr>
        <p:blipFill>
          <a:blip r:embed="rId3"/>
          <a:stretch/>
        </p:blipFill>
        <p:spPr>
          <a:xfrm>
            <a:off x="5580000" y="498600"/>
            <a:ext cx="294336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7480" y="105840"/>
            <a:ext cx="6645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4b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8680" y="1711080"/>
            <a:ext cx="8394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1" marL="631800" indent="-287280">
              <a:spcAft>
                <a:spcPts val="1049"/>
              </a:spcAft>
              <a:buClr>
                <a:srgbClr val="e04a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2" marL="1143000" indent="-228600">
              <a:spcAft>
                <a:spcPts val="1049"/>
              </a:spcAft>
              <a:buClr>
                <a:srgbClr val="0f4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3" marL="1600200" indent="-228600">
              <a:spcAft>
                <a:spcPts val="1049"/>
              </a:spcAft>
              <a:buClr>
                <a:srgbClr val="0f4b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4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5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  <a:p>
            <a:pPr lvl="6" marL="2057400" indent="-228600">
              <a:spcAft>
                <a:spcPts val="1049"/>
              </a:spcAft>
              <a:buClr>
                <a:srgbClr val="0f4b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b9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f4b9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9"/>
          </p:nvPr>
        </p:nvSpPr>
        <p:spPr>
          <a:xfrm>
            <a:off x="564840" y="6391440"/>
            <a:ext cx="47772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9E25-1EF4-44A6-B96B-56E72781744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7" descr="logo"/>
          <p:cNvPicPr/>
          <p:nvPr/>
        </p:nvPicPr>
        <p:blipFill>
          <a:blip r:embed="rId3"/>
          <a:stretch/>
        </p:blipFill>
        <p:spPr>
          <a:xfrm>
            <a:off x="7083360" y="276120"/>
            <a:ext cx="1708200" cy="75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0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1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2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F24-D345-46E3-838A-2F953CB5CA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539280" y="1844280"/>
            <a:ext cx="669636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Georgia"/>
              </a:rPr>
              <a:t>тема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Georgia"/>
              </a:rPr>
              <a:t>«ПЕРВЫЕ ШАГИ В МАТЕМАТИКУ</a:t>
            </a:r>
            <a:r>
              <a:rPr b="1" lang="ru-RU" sz="1400" spc="-1" strike="noStrike" u="sng">
                <a:solidFill>
                  <a:srgbClr val="1c1c1c"/>
                </a:solidFill>
                <a:uFillTx/>
                <a:latin typeface="Georgia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Georgi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0"/>
          <p:cNvSpPr/>
          <p:nvPr/>
        </p:nvSpPr>
        <p:spPr>
          <a:xfrm>
            <a:off x="285840" y="4365720"/>
            <a:ext cx="85341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Автор проекта: Исмагилова Роза Нуриман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тарший воспитат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БДОУ «Детский сад №89 «ЧУЛПАН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г. Набережные Чел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Rectangle 13"/>
          <p:cNvSpPr/>
          <p:nvPr/>
        </p:nvSpPr>
        <p:spPr>
          <a:xfrm>
            <a:off x="2928960" y="142920"/>
            <a:ext cx="59641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4-конечная звезда 8"/>
          <p:cNvSpPr/>
          <p:nvPr/>
        </p:nvSpPr>
        <p:spPr>
          <a:xfrm rot="1864800">
            <a:off x="6291000" y="598320"/>
            <a:ext cx="1482480" cy="1459080"/>
          </a:xfrm>
          <a:custGeom>
            <a:avLst/>
            <a:gdLst>
              <a:gd name="textAreaLeft" fmla="*/ 610920 w 1482480"/>
              <a:gd name="textAreaRight" fmla="*/ 871560 w 1482480"/>
              <a:gd name="textAreaTop" fmla="*/ 601200 h 1459080"/>
              <a:gd name="textAreaBottom" fmla="*/ 857880 h 145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4-конечная звезда 10"/>
          <p:cNvSpPr/>
          <p:nvPr/>
        </p:nvSpPr>
        <p:spPr>
          <a:xfrm>
            <a:off x="6227640" y="476280"/>
            <a:ext cx="1416240" cy="1650960"/>
          </a:xfrm>
          <a:custGeom>
            <a:avLst/>
            <a:gdLst>
              <a:gd name="textAreaLeft" fmla="*/ 583560 w 1416240"/>
              <a:gd name="textAreaRight" fmla="*/ 832680 w 1416240"/>
              <a:gd name="textAreaTop" fmla="*/ 680400 h 1650960"/>
              <a:gd name="textAreaBottom" fmla="*/ 97056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4-конечная звезда 11"/>
          <p:cNvSpPr/>
          <p:nvPr/>
        </p:nvSpPr>
        <p:spPr>
          <a:xfrm rot="19576800">
            <a:off x="6365880" y="785880"/>
            <a:ext cx="1195560" cy="1117440"/>
          </a:xfrm>
          <a:custGeom>
            <a:avLst/>
            <a:gdLst>
              <a:gd name="textAreaLeft" fmla="*/ 492480 w 1195560"/>
              <a:gd name="textAreaRight" fmla="*/ 703080 w 1195560"/>
              <a:gd name="textAreaTop" fmla="*/ 460440 h 1117440"/>
              <a:gd name="textAreaBottom" fmla="*/ 65700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755640" y="333360"/>
            <a:ext cx="770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ХАРАКТЕРИСТИКА 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4"/>
          <p:cNvSpPr/>
          <p:nvPr/>
        </p:nvSpPr>
        <p:spPr>
          <a:xfrm rot="5400000">
            <a:off x="1907640" y="-387360"/>
            <a:ext cx="503280" cy="3529080"/>
          </a:xfrm>
          <a:prstGeom prst="rect">
            <a:avLst/>
          </a:prstGeom>
          <a:solidFill>
            <a:srgbClr val="ff99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 rot="5400000">
            <a:off x="7093080" y="619560"/>
            <a:ext cx="503280" cy="2521080"/>
          </a:xfrm>
          <a:prstGeom prst="rect">
            <a:avLst/>
          </a:prstGeom>
          <a:solidFill>
            <a:srgbClr val="ff99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 rot="5400000">
            <a:off x="1578960" y="1778040"/>
            <a:ext cx="503280" cy="2376360"/>
          </a:xfrm>
          <a:prstGeom prst="rect">
            <a:avLst/>
          </a:prstGeom>
          <a:solidFill>
            <a:srgbClr val="ff99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 УЧАСТ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Rectangle 7"/>
          <p:cNvSpPr/>
          <p:nvPr/>
        </p:nvSpPr>
        <p:spPr>
          <a:xfrm rot="16200000">
            <a:off x="1723680" y="3562200"/>
            <a:ext cx="432000" cy="2879640"/>
          </a:xfrm>
          <a:prstGeom prst="rect">
            <a:avLst/>
          </a:prstGeom>
          <a:solidFill>
            <a:srgbClr val="ff99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ОКИ  РЕАЛИЗ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AutoShape 10"/>
          <p:cNvSpPr/>
          <p:nvPr/>
        </p:nvSpPr>
        <p:spPr>
          <a:xfrm rot="10800000">
            <a:off x="324000" y="1988640"/>
            <a:ext cx="4968720" cy="432000"/>
          </a:xfrm>
          <a:prstGeom prst="wedgeRectCallout">
            <a:avLst>
              <a:gd name="adj1" fmla="val 47185"/>
              <a:gd name="adj2" fmla="val 123157"/>
            </a:avLst>
          </a:prstGeom>
          <a:solidFill>
            <a:srgbClr val="ffcc99"/>
          </a:soli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ко-ориентирова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AutoShape 11"/>
          <p:cNvSpPr/>
          <p:nvPr/>
        </p:nvSpPr>
        <p:spPr>
          <a:xfrm rot="10800000">
            <a:off x="3419640" y="2707920"/>
            <a:ext cx="4968720" cy="720720"/>
          </a:xfrm>
          <a:prstGeom prst="wedgeRectCallout">
            <a:avLst>
              <a:gd name="adj1" fmla="val -46263"/>
              <a:gd name="adj2" fmla="val 126208"/>
            </a:avLst>
          </a:prstGeom>
          <a:solidFill>
            <a:srgbClr val="e5eca2"/>
          </a:solidFill>
          <a:ln w="9360">
            <a:solidFill>
              <a:srgbClr val="fd60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итанники  дошкольного возраста,  педагог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AutoShape 12"/>
          <p:cNvSpPr/>
          <p:nvPr/>
        </p:nvSpPr>
        <p:spPr>
          <a:xfrm rot="10800000">
            <a:off x="1643040" y="3643200"/>
            <a:ext cx="5616720" cy="1008000"/>
          </a:xfrm>
          <a:prstGeom prst="wedgeRectCallout">
            <a:avLst>
              <a:gd name="adj1" fmla="val 45166"/>
              <a:gd name="adj2" fmla="val 92675"/>
            </a:avLst>
          </a:prstGeom>
          <a:solidFill>
            <a:srgbClr val="d3e4aa"/>
          </a:solidFill>
          <a:ln w="9360">
            <a:solidFill>
              <a:srgbClr val="fd60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ая деятельность детей, сотрудничество с воспита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AutoShape 15"/>
          <p:cNvSpPr/>
          <p:nvPr/>
        </p:nvSpPr>
        <p:spPr>
          <a:xfrm rot="10800000">
            <a:off x="571680" y="5714280"/>
            <a:ext cx="8137440" cy="647640"/>
          </a:xfrm>
          <a:prstGeom prst="wedgeRectCallout">
            <a:avLst>
              <a:gd name="adj1" fmla="val 46370"/>
              <a:gd name="adj2" fmla="val 126222"/>
            </a:avLst>
          </a:prstGeom>
          <a:gradFill rotWithShape="0">
            <a:gsLst>
              <a:gs pos="0">
                <a:srgbClr val="ff8eb7"/>
              </a:gs>
              <a:gs pos="100000">
                <a:srgbClr val="ffdde9"/>
              </a:gs>
            </a:gsLst>
            <a:lin ang="5400000"/>
          </a:gradFill>
          <a:ln w="9360">
            <a:solidFill>
              <a:srgbClr val="fd60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лгосрочный (реализуется в течение учебного го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Блок-схема: узел 2"/>
          <p:cNvSpPr/>
          <p:nvPr/>
        </p:nvSpPr>
        <p:spPr>
          <a:xfrm>
            <a:off x="2050920" y="333360"/>
            <a:ext cx="2521080" cy="1727280"/>
          </a:xfrm>
          <a:prstGeom prst="flowChartConnector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Элементарн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Математически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Представлени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дошкольник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Блок-схема: документ 3"/>
          <p:cNvSpPr/>
          <p:nvPr/>
        </p:nvSpPr>
        <p:spPr>
          <a:xfrm>
            <a:off x="500040" y="357120"/>
            <a:ext cx="1839960" cy="911160"/>
          </a:xfrm>
          <a:prstGeom prst="flowChartDocument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ре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Блок-схема: документ 4"/>
          <p:cNvSpPr/>
          <p:nvPr/>
        </p:nvSpPr>
        <p:spPr>
          <a:xfrm>
            <a:off x="4572000" y="333360"/>
            <a:ext cx="2808360" cy="574560"/>
          </a:xfrm>
          <a:prstGeom prst="flowChartDocument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кружающим мир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Блок-схема: документ 5"/>
          <p:cNvSpPr/>
          <p:nvPr/>
        </p:nvSpPr>
        <p:spPr>
          <a:xfrm>
            <a:off x="395280" y="1700280"/>
            <a:ext cx="2198520" cy="650880"/>
          </a:xfrm>
          <a:prstGeom prst="flowChartDocument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арский язы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Блок-схема: документ 6"/>
          <p:cNvSpPr/>
          <p:nvPr/>
        </p:nvSpPr>
        <p:spPr>
          <a:xfrm>
            <a:off x="4140360" y="1700280"/>
            <a:ext cx="1655640" cy="720720"/>
          </a:xfrm>
          <a:prstGeom prst="flowChartDocument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Блок-схема: документ 7"/>
          <p:cNvSpPr/>
          <p:nvPr/>
        </p:nvSpPr>
        <p:spPr>
          <a:xfrm>
            <a:off x="2195640" y="2421000"/>
            <a:ext cx="1930320" cy="720720"/>
          </a:xfrm>
          <a:prstGeom prst="flowChartDocument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зительная деяте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Выгнутая влево стрелка 10"/>
          <p:cNvSpPr/>
          <p:nvPr/>
        </p:nvSpPr>
        <p:spPr>
          <a:xfrm>
            <a:off x="1763640" y="1197000"/>
            <a:ext cx="432000" cy="576360"/>
          </a:xfrm>
          <a:custGeom>
            <a:avLst/>
            <a:gdLst>
              <a:gd name="textAreaLeft" fmla="*/ 57600 w 432000"/>
              <a:gd name="textAreaRight" fmla="*/ 374400 w 432000"/>
              <a:gd name="textAreaTop" fmla="*/ 103320 h 576360"/>
              <a:gd name="textAreaBottom" fmla="*/ 41904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65" stAng="-5400000" swAng="-5400000"/>
                <a:lnTo>
                  <a:pt x="0" y="11812"/>
                </a:lnTo>
                <a:arcTo wR="21600" hR="7765" stAng="10800000" swAng="-3258766"/>
                <a:lnTo>
                  <a:pt x="16200" y="21353"/>
                </a:lnTo>
                <a:lnTo>
                  <a:pt x="21600" y="17554"/>
                </a:lnTo>
                <a:lnTo>
                  <a:pt x="16200" y="13260"/>
                </a:lnTo>
                <a:lnTo>
                  <a:pt x="16200" y="15283"/>
                </a:lnTo>
                <a:arcTo wR="21600" hR="7765" stAng="7541234" swAng="2926231"/>
                <a:lnTo>
                  <a:pt x="746" y="9788"/>
                </a:lnTo>
                <a:arcTo wR="21600" hR="7765" stAng="-10467466" swAng="5067466"/>
                <a:close/>
              </a:path>
              <a:path fill="darkenLess" w="21600" h="21600">
                <a:moveTo>
                  <a:pt x="21600" y="0"/>
                </a:moveTo>
                <a:arcTo wR="21600" hR="7765" stAng="-5400000" swAng="-5400000"/>
                <a:lnTo>
                  <a:pt x="0" y="7765"/>
                </a:lnTo>
                <a:arcTo wR="21600" hR="7765" stAng="10800000" swAng="-332534"/>
                <a:lnTo>
                  <a:pt x="746" y="9788"/>
                </a:lnTo>
                <a:arcTo wR="21600" hR="7765" stAng="-10467466" swAng="5067466"/>
                <a:close/>
              </a:path>
            </a:pathLst>
          </a:custGeom>
          <a:solidFill>
            <a:srgbClr val="ff0000"/>
          </a:solidFill>
          <a:ln w="2556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Выгнутая вправо стрелка 11"/>
          <p:cNvSpPr/>
          <p:nvPr/>
        </p:nvSpPr>
        <p:spPr>
          <a:xfrm>
            <a:off x="4427640" y="1125360"/>
            <a:ext cx="504720" cy="574920"/>
          </a:xfrm>
          <a:custGeom>
            <a:avLst/>
            <a:gdLst>
              <a:gd name="textAreaLeft" fmla="*/ 67320 w 504720"/>
              <a:gd name="textAreaRight" fmla="*/ 437400 w 504720"/>
              <a:gd name="textAreaTop" fmla="*/ 96120 h 574920"/>
              <a:gd name="textAreaBottom" fmla="*/ 41544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43" stAng="-5400000" swAng="5400000"/>
                <a:lnTo>
                  <a:pt x="21600" y="11986"/>
                </a:lnTo>
                <a:arcTo wR="21600" hR="7243" stAng="0" swAng="3144113"/>
                <a:lnTo>
                  <a:pt x="5400" y="21370"/>
                </a:lnTo>
                <a:lnTo>
                  <a:pt x="0" y="16857"/>
                </a:lnTo>
                <a:lnTo>
                  <a:pt x="5400" y="11883"/>
                </a:lnTo>
                <a:lnTo>
                  <a:pt x="5400" y="14255"/>
                </a:lnTo>
                <a:arcTo wR="21600" hR="7243" stAng="3144113" swAng="-2746439"/>
                <a:lnTo>
                  <a:pt x="20409" y="9614"/>
                </a:lnTo>
                <a:arcTo wR="21600" hR="7243" stAng="-397674" swAng="-5002326"/>
                <a:close/>
              </a:path>
              <a:path fill="darkenLess" w="21600" h="21600">
                <a:moveTo>
                  <a:pt x="0" y="0"/>
                </a:moveTo>
                <a:arcTo wR="21600" hR="7243" stAng="-5400000" swAng="5400000"/>
                <a:lnTo>
                  <a:pt x="21600" y="11986"/>
                </a:lnTo>
                <a:arcTo wR="21600" hR="7243" stAng="0" swAng="-397674"/>
                <a:lnTo>
                  <a:pt x="20409" y="9614"/>
                </a:lnTo>
                <a:arcTo wR="21600" hR="7243" stAng="-397674" swAng="-5002326"/>
                <a:close/>
              </a:path>
            </a:pathLst>
          </a:custGeom>
          <a:solidFill>
            <a:srgbClr val="ff0000"/>
          </a:solidFill>
          <a:ln w="2556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Стрелка вверх 12"/>
          <p:cNvSpPr/>
          <p:nvPr/>
        </p:nvSpPr>
        <p:spPr>
          <a:xfrm rot="18987000">
            <a:off x="2017800" y="850680"/>
            <a:ext cx="199800" cy="399960"/>
          </a:xfrm>
          <a:prstGeom prst="upArrow">
            <a:avLst>
              <a:gd name="adj1" fmla="val 50000"/>
              <a:gd name="adj2" fmla="val 50045"/>
            </a:avLst>
          </a:prstGeom>
          <a:solidFill>
            <a:srgbClr val="ff0000"/>
          </a:solidFill>
          <a:ln w="2556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Стрелка вверх 13"/>
          <p:cNvSpPr/>
          <p:nvPr/>
        </p:nvSpPr>
        <p:spPr>
          <a:xfrm rot="2264400">
            <a:off x="4385880" y="569520"/>
            <a:ext cx="204840" cy="40320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Стрелка вниз 14"/>
          <p:cNvSpPr/>
          <p:nvPr/>
        </p:nvSpPr>
        <p:spPr>
          <a:xfrm>
            <a:off x="2843280" y="2060640"/>
            <a:ext cx="216000" cy="3524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0000"/>
          </a:solidFill>
          <a:ln w="2556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22" descr="MCj04380020000[1]"/>
          <p:cNvPicPr/>
          <p:nvPr/>
        </p:nvPicPr>
        <p:blipFill>
          <a:blip r:embed="rId1"/>
          <a:stretch/>
        </p:blipFill>
        <p:spPr>
          <a:xfrm>
            <a:off x="250920" y="2852640"/>
            <a:ext cx="1164960" cy="79236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3"/>
          <p:cNvSpPr/>
          <p:nvPr/>
        </p:nvSpPr>
        <p:spPr>
          <a:xfrm>
            <a:off x="1476360" y="3213000"/>
            <a:ext cx="5830920" cy="362160"/>
          </a:xfrm>
          <a:prstGeom prst="rect">
            <a:avLst/>
          </a:prstGeom>
          <a:gradFill rotWithShape="0">
            <a:gsLst>
              <a:gs pos="0">
                <a:srgbClr val="ff8eb7"/>
              </a:gs>
              <a:gs pos="100000">
                <a:srgbClr val="ffdde9"/>
              </a:gs>
            </a:gsLst>
            <a:lin ang="16200000"/>
          </a:gradFill>
          <a:ln w="9360">
            <a:solidFill>
              <a:srgbClr val="fd60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 Р О Б Л Е М 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AutoShape 22"/>
          <p:cNvSpPr/>
          <p:nvPr/>
        </p:nvSpPr>
        <p:spPr>
          <a:xfrm>
            <a:off x="684360" y="3716280"/>
            <a:ext cx="7704000" cy="2737080"/>
          </a:xfrm>
          <a:prstGeom prst="foldedCorner">
            <a:avLst>
              <a:gd name="adj" fmla="val 16546"/>
            </a:avLst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необходимость реализации программ на уровн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образовательных инновационных технологи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противоречие между методами и подходами к формированию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элементарных математических представлений в ДОУ и начально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школе и отсутствие четкого разграничения целей дошкольн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математической подготовки с целями школьны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методическая неподготовленность к развивающему обучен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математике, которая приводит процесс математическог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образования ребенка к неосознанному заучиванию и  низким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показателям успеваемост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430200" y="378000"/>
            <a:ext cx="8713800" cy="64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826920" y="549360"/>
            <a:ext cx="720720" cy="3024000"/>
          </a:xfrm>
          <a:prstGeom prst="rightArrowCallout">
            <a:avLst>
              <a:gd name="adj1" fmla="val 49266"/>
              <a:gd name="adj2" fmla="val 44095"/>
              <a:gd name="adj3" fmla="val 16667"/>
              <a:gd name="adj4" fmla="val 51167"/>
            </a:avLst>
          </a:prstGeom>
          <a:gradFill rotWithShape="0">
            <a:gsLst>
              <a:gs pos="0">
                <a:srgbClr val="ff8eb7"/>
              </a:gs>
              <a:gs pos="100000">
                <a:srgbClr val="ffdde9"/>
              </a:gs>
            </a:gsLst>
            <a:lin ang="16200000"/>
          </a:gradFill>
          <a:ln w="9360">
            <a:solidFill>
              <a:srgbClr val="fd60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К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Л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Ь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Rectangle 22"/>
          <p:cNvSpPr/>
          <p:nvPr/>
        </p:nvSpPr>
        <p:spPr>
          <a:xfrm>
            <a:off x="1547640" y="620640"/>
            <a:ext cx="4969080" cy="36036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Необходимость повышения эффективности 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качества учебно-воспитательного процес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1547640" y="1125360"/>
            <a:ext cx="4392720" cy="64800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Современные требования подготовки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к школьному обучению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математике на основе развивающих подход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1619280" y="1916280"/>
            <a:ext cx="4392720" cy="64908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Инновационный подход педагогов  к  учебн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деятельности  по формированию у дошкольник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элементарных математических представл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1547640" y="2708280"/>
            <a:ext cx="4753080" cy="86508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Преемственные связи со школой в постановке еди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целей, методов и приемов обучения и воспит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подрастающего поколе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755640" y="4005360"/>
            <a:ext cx="503280" cy="2592360"/>
          </a:xfrm>
          <a:prstGeom prst="rect">
            <a:avLst/>
          </a:prstGeom>
          <a:gradFill rotWithShape="0">
            <a:gsLst>
              <a:gs pos="0">
                <a:srgbClr val="ff8eb7"/>
              </a:gs>
              <a:gs pos="100000">
                <a:srgbClr val="ffdde9"/>
              </a:gs>
            </a:gsLst>
            <a:lin ang="16200000"/>
          </a:gradFill>
          <a:ln w="9360">
            <a:solidFill>
              <a:srgbClr val="fd60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Ч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AutoShape 21"/>
          <p:cNvSpPr/>
          <p:nvPr/>
        </p:nvSpPr>
        <p:spPr>
          <a:xfrm>
            <a:off x="1332000" y="4149720"/>
            <a:ext cx="360360" cy="142920"/>
          </a:xfrm>
          <a:prstGeom prst="rightArrow">
            <a:avLst>
              <a:gd name="adj1" fmla="val 50000"/>
              <a:gd name="adj2" fmla="val 37704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AutoShape 21"/>
          <p:cNvSpPr/>
          <p:nvPr/>
        </p:nvSpPr>
        <p:spPr>
          <a:xfrm>
            <a:off x="1332000" y="5013360"/>
            <a:ext cx="360360" cy="142920"/>
          </a:xfrm>
          <a:prstGeom prst="rightArrow">
            <a:avLst>
              <a:gd name="adj1" fmla="val 50000"/>
              <a:gd name="adj2" fmla="val 37704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AutoShape 21"/>
          <p:cNvSpPr/>
          <p:nvPr/>
        </p:nvSpPr>
        <p:spPr>
          <a:xfrm>
            <a:off x="1332000" y="6021360"/>
            <a:ext cx="360360" cy="142920"/>
          </a:xfrm>
          <a:prstGeom prst="rightArrow">
            <a:avLst>
              <a:gd name="adj1" fmla="val 50000"/>
              <a:gd name="adj2" fmla="val 37704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Rectangle 22"/>
          <p:cNvSpPr/>
          <p:nvPr/>
        </p:nvSpPr>
        <p:spPr>
          <a:xfrm>
            <a:off x="1835280" y="3933720"/>
            <a:ext cx="3889080" cy="57492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рганизация работы по повышению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рофессиональной квалификации воспитателе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1835280" y="4581360"/>
            <a:ext cx="4176720" cy="64800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казание своевременной квалифицированн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мощи педагог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14"/>
          <p:cNvSpPr/>
          <p:nvPr/>
        </p:nvSpPr>
        <p:spPr>
          <a:xfrm>
            <a:off x="1763640" y="5300640"/>
            <a:ext cx="4608720" cy="72072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рганизация контроля за работой воспитателей по выполнен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усвоению детьми предусмотренных программ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знаний, умений и навык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16"/>
          <p:cNvSpPr/>
          <p:nvPr/>
        </p:nvSpPr>
        <p:spPr>
          <a:xfrm>
            <a:off x="1763640" y="6066000"/>
            <a:ext cx="4824360" cy="531720"/>
          </a:xfrm>
          <a:prstGeom prst="rect">
            <a:avLst/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зучение, обобщение, распространение и внедр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ередового педагогического опыта и новаторских идей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3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Georgia"/>
              </a:rPr>
              <a:t>ГИПОТЕЗА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84000" y="907560"/>
            <a:ext cx="633564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Формирование элементарных математических представлений у  дошкольников будет осуществляться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эффективнее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,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если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будет организована целостная система мер, направленная на помощь ребенку в преодолении проблем математического харак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2" descr="MCj04380020000[1]"/>
          <p:cNvPicPr/>
          <p:nvPr/>
        </p:nvPicPr>
        <p:blipFill>
          <a:blip r:embed="rId1"/>
          <a:stretch/>
        </p:blipFill>
        <p:spPr>
          <a:xfrm>
            <a:off x="900000" y="260280"/>
            <a:ext cx="1440000" cy="97812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2"/>
          <p:cNvSpPr/>
          <p:nvPr/>
        </p:nvSpPr>
        <p:spPr>
          <a:xfrm>
            <a:off x="1332000" y="2492280"/>
            <a:ext cx="36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c1c1c"/>
                </a:solidFill>
                <a:latin typeface="Georgia"/>
                <a:ea typeface="Times New Roman"/>
              </a:rPr>
              <a:t>ПРЕДМ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539640" y="3213000"/>
            <a:ext cx="5616720" cy="3024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М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ОНИТОРИНГ ДЕЯТЕ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А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КТИВНОСТЬ ПЕДАГОГ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Т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АЛАНТЛИВОСТЬ ДЕ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Е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ДИНЫЙ ГОСУДАРСТВЕННЫЙ ЭКЗАМЕ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М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ЕХАНИЗМ ВОЗДЕЙСТ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А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КТУАЛЬНОСТЬ ТЕ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Т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ЕХНОЛОГИЯ РАБО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И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ННОВАЦИОННЫЙ ПОДХ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К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АЧЕСТВО ЗНА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Georgia"/>
              </a:rPr>
              <a:t>А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НАЛИЗ РЕЗУЛЬТ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278560" cy="111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Georgia"/>
              </a:rPr>
              <a:t>ЭТАПЫ </a:t>
            </a:r>
            <a:br>
              <a:rPr sz="3600"/>
            </a:br>
            <a:r>
              <a:rPr b="1" lang="ru-RU" sz="3600" spc="-1" strike="noStrike">
                <a:solidFill>
                  <a:srgbClr val="1c1c1c"/>
                </a:solidFill>
                <a:latin typeface="Georgia"/>
              </a:rPr>
              <a:t>ОСУЩЕСТВЛЕНИЯ ПРОЕКТА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395280" y="2565000"/>
            <a:ext cx="820728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3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часть – 3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3 час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8" name="Picture 5" descr=""/>
          <p:cNvPicPr/>
          <p:nvPr/>
        </p:nvPicPr>
        <p:blipFill>
          <a:blip r:embed="rId1"/>
          <a:stretch/>
        </p:blipFill>
        <p:spPr>
          <a:xfrm>
            <a:off x="6300720" y="4456080"/>
            <a:ext cx="1943280" cy="155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AutoShape 13"/>
          <p:cNvSpPr/>
          <p:nvPr/>
        </p:nvSpPr>
        <p:spPr>
          <a:xfrm>
            <a:off x="395280" y="476280"/>
            <a:ext cx="1800360" cy="5688000"/>
          </a:xfrm>
          <a:prstGeom prst="rightArrowCallout">
            <a:avLst>
              <a:gd name="adj1" fmla="val 28115"/>
              <a:gd name="adj2" fmla="val 31754"/>
              <a:gd name="adj3" fmla="val 16667"/>
              <a:gd name="adj4" fmla="val 68630"/>
            </a:avLst>
          </a:prstGeom>
          <a:gradFill rotWithShape="0">
            <a:gsLst>
              <a:gs pos="0">
                <a:srgbClr val="ff8eb7"/>
              </a:gs>
              <a:gs pos="100000">
                <a:srgbClr val="ffdde9"/>
              </a:gs>
            </a:gsLst>
            <a:lin ang="16200000"/>
          </a:gradFill>
          <a:ln w="9360">
            <a:solidFill>
              <a:srgbClr val="fd60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Ы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AutoShape 15"/>
          <p:cNvSpPr/>
          <p:nvPr/>
        </p:nvSpPr>
        <p:spPr>
          <a:xfrm>
            <a:off x="2411280" y="549360"/>
            <a:ext cx="6336000" cy="561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d5bf"/>
              </a:gs>
              <a:gs pos="100000">
                <a:srgbClr val="fff2eb"/>
              </a:gs>
            </a:gsLst>
            <a:lin ang="16200000"/>
          </a:gradFill>
          <a:ln w="9360">
            <a:solidFill>
              <a:srgbClr val="fbc5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Цель достигну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ект эффектив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ипотеза нашл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дтвер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еятельность име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актическу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начим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1:29:35Z</dcterms:created>
  <dc:creator>USER</dc:creator>
  <dc:description/>
  <cp:keywords/>
  <dc:language>en-US</dc:language>
  <cp:lastModifiedBy>www.PHILka.RU</cp:lastModifiedBy>
  <dcterms:modified xsi:type="dcterms:W3CDTF">2012-02-09T19:52:28Z</dcterms:modified>
  <cp:revision>396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