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4.png" ContentType="image/png"/>
  <Override PartName="/ppt/media/image27.png" ContentType="image/png"/>
  <Override PartName="/ppt/media/image13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9.jpeg" ContentType="image/jpe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1.png" ContentType="image/png"/>
  <Override PartName="/ppt/media/image22.png" ContentType="image/png"/>
  <Override PartName="/ppt/media/image2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8D71-700E-4393-B136-74E944BED7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BD53-EF43-49C4-831A-1894012152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1547-FC27-414A-8E82-2DE0A36AE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A9EE-E76F-462C-86A2-6E158815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DDEC-EC16-47AD-B463-0BF8B1CED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092E-DFCB-4D99-94FA-48AE5324F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6205-B375-492D-9E11-0FB21E4A6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A357-4EEF-4D65-9823-3EA3C73E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D2B8-94D3-4BE9-ACD6-841D9971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B3C9-A140-41B5-BB9A-8D4631C8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1C8D-EB7D-4278-81FD-8A178BED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EF72-B64A-45BA-A8DC-D84EB827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7B80-9F77-4659-B420-B5CFFE9B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8BA7-933B-421D-96F9-61B1B7D9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ACFA-642B-4620-8C51-7D28CE76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A5A9-E6D1-4F6C-AB44-6FA53BC2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88AE-EE80-425B-A56E-82D5343D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A26C-C205-4C69-BB84-B98FCD0FA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D84F-0161-4BC2-8626-B47E4605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EBA04-D1FF-4FB2-A8CF-527D060F0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1F750-CF36-48FB-86FF-96D27552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500AD-4434-4BB8-A418-B3AEC7B2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BB88B-A171-48AD-9F51-EA5E4212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12FF8-BB86-4F3B-BD9D-32C05B4A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729E-9A99-4A5A-A0B6-9AD4F47C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A7DBC-489B-46D9-983F-782F3F85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9374C-CFBD-4A88-BA28-E1806A5F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36839-0C4B-4B9F-820B-06071138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C0A3C-D70E-48AF-8E4A-681F55EF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A62E1-8CD1-4AFD-9490-83F39985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F1847-E790-4B1F-9349-8BA6C335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D2725-26CF-4FDD-8040-31A9C377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F2063-6E63-49FB-8EF9-DAED7CEFF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4623B-BF59-4662-B666-C144F928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B3657-DB68-49CF-A333-32A77983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5492-C63C-4728-9772-B9502749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74236-67C1-4353-95D6-D76FA370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62D3C-6EA6-4865-A173-B3FED432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51D87-76EF-44A9-9E4A-C8222E80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BF3DE-C853-4087-9288-A57C2BF3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A948D-0E17-452F-A5D9-33D5E259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06FB7-FC18-4635-A219-8A398D31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8D9B8-1BEA-4C92-B2D6-62DB7F71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B6364-7836-43F9-AAEE-8BB2568D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EEF6C-26AD-4559-BC83-9EAA43054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1F1F0-DDD2-4EFD-98CE-11882A02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E4EA-9043-4334-898F-52F728B0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D1F19-9702-4DFE-AD34-FE323CA4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AECD3-AD73-4E0F-92E7-D2A5C278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CFCE8-8E06-4A47-884E-47F01762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8F3DC-677C-4433-8978-56852557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76217-3AEF-4FE5-9F8D-C0FD4114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78855-483F-42F8-AFBE-6F183649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CAB6B-C11A-4D64-8C92-C5D4F218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EFB0C-F812-4E56-87E0-F469A9B6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6A61C-DD8D-4200-BE90-5CF986A4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3FBDE-A0EE-402A-B887-415BE5ED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E1AB-9CFE-47AC-92EC-E6E51084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96A99-DD27-42BD-BA9F-D925ED4F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CB26-44F4-4ACC-9799-A4AC9543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9E12-55CE-46B9-8C2D-5C829BD9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F5DD-5339-47ED-846E-424DFB72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098C-A975-4EBD-A499-845F122FA7A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00EC-C369-4298-90DC-11E057DD12B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D5B6-F8EB-4B69-B732-D0938FDFB6F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3D36-7FC1-417E-BCDD-933F9329139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BEEC-F624-49C7-B36C-6C05009D567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gu.ru/" TargetMode="External"/><Relationship Id="rId2" Type="http://schemas.openxmlformats.org/officeDocument/2006/relationships/hyperlink" Target="http://books.atheism.ru/atheists/edison1.jpg" TargetMode="External"/><Relationship Id="rId3" Type="http://schemas.openxmlformats.org/officeDocument/2006/relationships/hyperlink" Target="http://www.adeptis.ru/vinci/m_part1.html" TargetMode="External"/><Relationship Id="rId4" Type="http://schemas.openxmlformats.org/officeDocument/2006/relationships/hyperlink" Target="http://www.taralex.by.ru/paint/brullov14.htm" TargetMode="External"/><Relationship Id="rId5" Type="http://schemas.openxmlformats.org/officeDocument/2006/relationships/hyperlink" Target="http://www.foru.ru/article.332.html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2"/>
          <p:cNvSpPr/>
          <p:nvPr/>
        </p:nvSpPr>
        <p:spPr>
          <a:xfrm>
            <a:off x="3594240" y="4038480"/>
            <a:ext cx="4572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 выполни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ники 9 «А»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етисян Н., Агафонова И., Онищенко Л., Тесленко 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ководители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нисенко В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1105200" y="609480"/>
            <a:ext cx="704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юджет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Поронайска Сахали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Прямоугольник 1" descr=""/>
          <p:cNvPicPr/>
          <p:nvPr/>
        </p:nvPicPr>
        <p:blipFill>
          <a:blip r:embed="rId1"/>
          <a:stretch/>
        </p:blipFill>
        <p:spPr>
          <a:xfrm>
            <a:off x="1047600" y="2554200"/>
            <a:ext cx="7162920" cy="1042920"/>
          </a:xfrm>
          <a:prstGeom prst="rect">
            <a:avLst/>
          </a:prstGeom>
          <a:ln w="0">
            <a:noFill/>
          </a:ln>
        </p:spPr>
      </p:pic>
      <p:sp>
        <p:nvSpPr>
          <p:cNvPr id="238" name="TextBox 3"/>
          <p:cNvSpPr/>
          <p:nvPr/>
        </p:nvSpPr>
        <p:spPr>
          <a:xfrm>
            <a:off x="1981080" y="18730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ко - ориентированный  учебный  про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Object 4"/>
          <p:cNvGraphicFramePr/>
          <p:nvPr/>
        </p:nvGraphicFramePr>
        <p:xfrm>
          <a:off x="1143000" y="914400"/>
          <a:ext cx="755028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75502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96464"/>
                </a:solidFill>
                <a:uFillTx/>
                <a:latin typeface="Arial"/>
              </a:rPr>
              <a:t>Что повлияло на выбор будущей профессии?</a:t>
            </a: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96464"/>
                </a:solidFill>
                <a:uFillTx/>
                <a:latin typeface="Calibri"/>
              </a:rPr>
              <a:t>С какими областями науки и сферами деятельности вы бы предпочли связать будущею профессию?</a:t>
            </a:r>
            <a:br>
              <a:rPr sz="2400"/>
            </a:b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277" name="Object 4"/>
          <p:cNvGraphicFramePr/>
          <p:nvPr/>
        </p:nvGraphicFramePr>
        <p:xfrm>
          <a:off x="179280" y="1125360"/>
          <a:ext cx="864072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25360"/>
                    <a:ext cx="864072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Прямоугольник 1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7218360" cy="970200"/>
          </a:xfrm>
          <a:prstGeom prst="rect">
            <a:avLst/>
          </a:prstGeom>
          <a:ln w="0">
            <a:noFill/>
          </a:ln>
        </p:spPr>
      </p:pic>
      <p:pic>
        <p:nvPicPr>
          <p:cNvPr id="280" name="Схема 2" descr=""/>
          <p:cNvPicPr/>
          <p:nvPr/>
        </p:nvPicPr>
        <p:blipFill>
          <a:blip r:embed="rId2"/>
          <a:stretch/>
        </p:blipFill>
        <p:spPr>
          <a:xfrm>
            <a:off x="1517760" y="1390680"/>
            <a:ext cx="6108480" cy="41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Основные факторы или условия выбора профессии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2" name="Oval 29"/>
          <p:cNvSpPr/>
          <p:nvPr/>
        </p:nvSpPr>
        <p:spPr>
          <a:xfrm>
            <a:off x="2057400" y="1905120"/>
            <a:ext cx="2811600" cy="2604960"/>
          </a:xfrm>
          <a:prstGeom prst="ellipse">
            <a:avLst/>
          </a:prstGeom>
          <a:solidFill>
            <a:srgbClr val="ff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хоч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30"/>
          <p:cNvSpPr/>
          <p:nvPr/>
        </p:nvSpPr>
        <p:spPr>
          <a:xfrm>
            <a:off x="3200400" y="3581280"/>
            <a:ext cx="2741760" cy="2535480"/>
          </a:xfrm>
          <a:prstGeom prst="ellipse">
            <a:avLst/>
          </a:prstGeom>
          <a:solidFill>
            <a:srgbClr val="cc99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надо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31"/>
          <p:cNvSpPr/>
          <p:nvPr/>
        </p:nvSpPr>
        <p:spPr>
          <a:xfrm>
            <a:off x="4114800" y="1905120"/>
            <a:ext cx="2673360" cy="2536560"/>
          </a:xfrm>
          <a:prstGeom prst="ellipse">
            <a:avLst/>
          </a:prstGeom>
          <a:solidFill>
            <a:srgbClr val="ccff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мог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2"/>
          <p:cNvSpPr/>
          <p:nvPr/>
        </p:nvSpPr>
        <p:spPr>
          <a:xfrm>
            <a:off x="533520" y="220968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тересы  и склон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3"/>
          <p:cNvSpPr/>
          <p:nvPr/>
        </p:nvSpPr>
        <p:spPr>
          <a:xfrm>
            <a:off x="6400800" y="205740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ности, состояние здоровь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4"/>
          <p:cNvSpPr/>
          <p:nvPr/>
        </p:nvSpPr>
        <p:spPr>
          <a:xfrm>
            <a:off x="1371600" y="502920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требности общества в кадр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47920" y="838080"/>
            <a:ext cx="6659280" cy="914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5251"/>
                </a:solidFill>
                <a:latin typeface="Arial"/>
              </a:rPr>
              <a:t>При решении проблемы «кем быть» рекомендуется пользоваться следующими правилами:</a:t>
            </a:r>
            <a:br>
              <a:rPr sz="2400"/>
            </a:b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352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mbria"/>
              </a:rPr>
              <a:t>Правило первое: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ознай себя, свое собственное «Я»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здоровье;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интересы и склонности;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пособности, знания и умения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4572000" y="1676520"/>
            <a:ext cx="3809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авило второ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знай все о професс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, цель и условия тру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ти получения професс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ицинские противопоказ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ования профессии к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рофессионально важные качеств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уальность выбранной профессии на рынке труда и перспективы ее развит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762120" y="388620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авило трет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отнеси себя с требованиями выбранной профе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еловек – знаковая систем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еловек-техн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еловек-прир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еловек-художественный образ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еловек-челове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WordArt 4" descr=""/>
          <p:cNvPicPr/>
          <p:nvPr/>
        </p:nvPicPr>
        <p:blipFill>
          <a:blip r:embed="rId1"/>
          <a:stretch/>
        </p:blipFill>
        <p:spPr>
          <a:xfrm>
            <a:off x="1017720" y="195120"/>
            <a:ext cx="7108560" cy="81612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6"/>
          <p:cNvSpPr/>
          <p:nvPr/>
        </p:nvSpPr>
        <p:spPr>
          <a:xfrm>
            <a:off x="838080" y="1062360"/>
            <a:ext cx="7467840" cy="38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00"/>
                </a:solidFill>
                <a:uFillTx/>
                <a:latin typeface="Arial"/>
              </a:rPr>
              <a:t>Типичные ошибки при выборе профессии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Выбор профессии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за компанию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Выбор престижной професси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Отождествление профессии с конкретным человеком, который нравитс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Несоответствие здоровья и условий труда по избранной професси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Выбор профессии под давлением родителе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Устаревшие представления о характере труда и о возможностях професси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Неумение разобраться в себе, своих склонностях, способностях и мотива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Text Box 9"/>
          <p:cNvGrpSpPr/>
          <p:nvPr/>
        </p:nvGrpSpPr>
        <p:grpSpPr>
          <a:xfrm>
            <a:off x="506520" y="5048280"/>
            <a:ext cx="8124840" cy="1980000"/>
            <a:chOff x="506520" y="5048280"/>
            <a:chExt cx="8124840" cy="1980000"/>
          </a:xfrm>
        </p:grpSpPr>
        <p:pic>
          <p:nvPicPr>
            <p:cNvPr id="295" name="Text Box 9" descr=""/>
            <p:cNvPicPr/>
            <p:nvPr/>
          </p:nvPicPr>
          <p:blipFill>
            <a:blip r:embed="rId2"/>
            <a:stretch/>
          </p:blipFill>
          <p:spPr>
            <a:xfrm>
              <a:off x="506520" y="5048280"/>
              <a:ext cx="812484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609480" y="5105520"/>
              <a:ext cx="78487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Burlak"/>
                </a:rPr>
                <a:t>Знание типичных ошибок при выборе профессии оградит вас от лишних или неверных шагов, сэкономит время, поможет обрести наиболее подходящую для вас профессию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80880" y="1916280"/>
            <a:ext cx="838512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в справочниках для поступающих в учебные заведения; 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в компьютерных информационно-поисковых программах в сети INTERNET; 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в рекламных объявлениях; 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в библиотеках; 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в районных центрах занятости; 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в беседах с представителями учебных заведений и преподавателями; 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при встречах с учащимися и выпускниками; 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при личных посещениях учебных заведений. 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98" name="Прямоугольник 1" descr=""/>
          <p:cNvPicPr/>
          <p:nvPr/>
        </p:nvPicPr>
        <p:blipFill>
          <a:blip r:embed="rId1"/>
          <a:stretch/>
        </p:blipFill>
        <p:spPr>
          <a:xfrm>
            <a:off x="1146240" y="469800"/>
            <a:ext cx="6705360" cy="14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Прямоугольник 1" descr=""/>
          <p:cNvPicPr/>
          <p:nvPr/>
        </p:nvPicPr>
        <p:blipFill>
          <a:blip r:embed="rId1"/>
          <a:stretch/>
        </p:blipFill>
        <p:spPr>
          <a:xfrm>
            <a:off x="1566720" y="689040"/>
            <a:ext cx="5997600" cy="1352520"/>
          </a:xfrm>
          <a:prstGeom prst="rect">
            <a:avLst/>
          </a:prstGeom>
          <a:ln w="0">
            <a:noFill/>
          </a:ln>
        </p:spPr>
      </p:pic>
      <p:sp>
        <p:nvSpPr>
          <p:cNvPr id="300" name="Прямоугольник 2"/>
          <p:cNvSpPr/>
          <p:nvPr/>
        </p:nvSpPr>
        <p:spPr>
          <a:xfrm>
            <a:off x="1143000" y="175248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выше уровень профессионального  образования , тем быстрее человек находит работу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того  кто имеет несколько специальностей  шансы трудоустроиться возрастают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одимо использовать любую возможность получить дополнительные навыки : машинописи , работы на компьютере , в Интернете, курсы кройки и шитья , вождения автомобиля , массажа , ремонта бытовой техники , знания иностранного языка и т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пешным  может считаться работающий человек , а отнюдь не безработны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одимо сделать вывод о том , насколько востребованной на рынке труда будет полученная профессия , а для этого надо  изучить список специальностей , в которых нуждается Сахалинская область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WordArt 4"/>
          <p:cNvSpPr txBox="1"/>
          <p:nvPr/>
        </p:nvSpPr>
        <p:spPr>
          <a:xfrm>
            <a:off x="3139920" y="896760"/>
            <a:ext cx="28195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urlak"/>
              </a:rPr>
              <a:t>Источник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urlak"/>
              <a:ea typeface="Burlak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1197000" y="1905120"/>
            <a:ext cx="6705720" cy="42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правочно-информационный ежегодник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ыпускник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.   Буклет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ы заканчиваете школу. Что дальше … ?!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3. Ресурсы Интерне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www.sgu.ru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742217"/>
                </a:solidFill>
                <a:uFillTx/>
                <a:latin typeface="Arial"/>
              </a:rPr>
              <a:t>http://www.sstu.ru/abitur/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http://books.atheism.ru/atheists/edison1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http://www.adeptis.ru/vinci/m_part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Arial"/>
                <a:hlinkClick r:id="rId4"/>
              </a:rPr>
              <a:t>http://www.taralex.by.ru/paint/brullov14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Arial"/>
                <a:hlinkClick r:id="rId5"/>
              </a:rPr>
              <a:t>http://www.foru.ru/article.332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extBox 4" descr=""/>
          <p:cNvPicPr/>
          <p:nvPr/>
        </p:nvPicPr>
        <p:blipFill>
          <a:blip r:embed="rId1"/>
          <a:stretch/>
        </p:blipFill>
        <p:spPr>
          <a:xfrm>
            <a:off x="1335240" y="1657440"/>
            <a:ext cx="6858000" cy="463320"/>
          </a:xfrm>
          <a:prstGeom prst="rect">
            <a:avLst/>
          </a:prstGeom>
          <a:ln w="0">
            <a:noFill/>
          </a:ln>
        </p:spPr>
      </p:pic>
      <p:pic>
        <p:nvPicPr>
          <p:cNvPr id="240" name="TextBox 1" descr=""/>
          <p:cNvPicPr/>
          <p:nvPr/>
        </p:nvPicPr>
        <p:blipFill>
          <a:blip r:embed="rId2"/>
          <a:stretch/>
        </p:blipFill>
        <p:spPr>
          <a:xfrm>
            <a:off x="1962000" y="2004840"/>
            <a:ext cx="5408640" cy="798840"/>
          </a:xfrm>
          <a:prstGeom prst="rect">
            <a:avLst/>
          </a:prstGeom>
          <a:ln w="0">
            <a:noFill/>
          </a:ln>
        </p:spPr>
      </p:pic>
      <p:pic>
        <p:nvPicPr>
          <p:cNvPr id="241" name="Прямоугольник 2" descr=""/>
          <p:cNvPicPr/>
          <p:nvPr/>
        </p:nvPicPr>
        <p:blipFill>
          <a:blip r:embed="rId3"/>
          <a:stretch/>
        </p:blipFill>
        <p:spPr>
          <a:xfrm>
            <a:off x="1450800" y="212760"/>
            <a:ext cx="6632640" cy="457200"/>
          </a:xfrm>
          <a:prstGeom prst="rect">
            <a:avLst/>
          </a:prstGeom>
          <a:ln w="0">
            <a:noFill/>
          </a:ln>
        </p:spPr>
      </p:pic>
      <p:sp>
        <p:nvSpPr>
          <p:cNvPr id="242" name="TextBox 5"/>
          <p:cNvSpPr/>
          <p:nvPr/>
        </p:nvSpPr>
        <p:spPr>
          <a:xfrm>
            <a:off x="952560" y="608040"/>
            <a:ext cx="7127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нимаясь выбором проблемы учебного проекта: «Кем быть? О современных профессиях», мы  пришли к выводу, что для нас, учеников 9 класса на сегодняшний день важно сделать профессиональный выбор: продолжить своё обучение  в школе или пойти в профессиональное училищ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Прямоугольник 1" descr=""/>
          <p:cNvPicPr/>
          <p:nvPr/>
        </p:nvPicPr>
        <p:blipFill>
          <a:blip r:embed="rId4"/>
          <a:stretch/>
        </p:blipFill>
        <p:spPr>
          <a:xfrm>
            <a:off x="2846520" y="2779560"/>
            <a:ext cx="3633480" cy="517680"/>
          </a:xfrm>
          <a:prstGeom prst="rect">
            <a:avLst/>
          </a:prstGeom>
          <a:ln w="0">
            <a:noFill/>
          </a:ln>
        </p:spPr>
      </p:pic>
      <p:sp>
        <p:nvSpPr>
          <p:cNvPr id="244" name="TextBox 5"/>
          <p:cNvSpPr/>
          <p:nvPr/>
        </p:nvSpPr>
        <p:spPr>
          <a:xfrm>
            <a:off x="884160" y="3192480"/>
            <a:ext cx="72043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лема выбора профессии является непростым испытанием как для учащихся, так и для их род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жность подготовки к этому ответственному выбору, то есть к выбору будущей профессии  имеет большое значение в жизни 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ногим впервые в жизни предстоит совершать столь серьёзный шаг, от которого во многом будет зависеть дальнейшая судьба старшеклассни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м учащимся, которые заканчивают  школу после 9 класса, перед ними будет стоять сложная задача не только правильного выбора профессии, но и возможность дальнейшего обуч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Прямоугольник 1" descr=""/>
          <p:cNvPicPr/>
          <p:nvPr/>
        </p:nvPicPr>
        <p:blipFill>
          <a:blip r:embed="rId1"/>
          <a:stretch/>
        </p:blipFill>
        <p:spPr>
          <a:xfrm>
            <a:off x="1238400" y="420840"/>
            <a:ext cx="6851520" cy="57276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2"/>
          <p:cNvSpPr/>
          <p:nvPr/>
        </p:nvSpPr>
        <p:spPr>
          <a:xfrm>
            <a:off x="1371600" y="531504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кетирование, опрос, интервью, анализ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2"/>
          <p:cNvSpPr/>
          <p:nvPr/>
        </p:nvSpPr>
        <p:spPr>
          <a:xfrm>
            <a:off x="1139760" y="857160"/>
            <a:ext cx="704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явление профессионального самоопределения старшеклассников, влияющего на дальнейший выбор професс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Прямоугольник 4" descr=""/>
          <p:cNvPicPr/>
          <p:nvPr/>
        </p:nvPicPr>
        <p:blipFill>
          <a:blip r:embed="rId2"/>
          <a:stretch/>
        </p:blipFill>
        <p:spPr>
          <a:xfrm>
            <a:off x="3322800" y="1322280"/>
            <a:ext cx="2315880" cy="573120"/>
          </a:xfrm>
          <a:prstGeom prst="rect">
            <a:avLst/>
          </a:prstGeom>
          <a:ln w="0">
            <a:noFill/>
          </a:ln>
        </p:spPr>
      </p:pic>
      <p:sp>
        <p:nvSpPr>
          <p:cNvPr id="249" name="TextBox 5"/>
          <p:cNvSpPr/>
          <p:nvPr/>
        </p:nvSpPr>
        <p:spPr>
          <a:xfrm>
            <a:off x="996840" y="1773360"/>
            <a:ext cx="657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ширить знания о выборе профе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ести  социологический опрос :выбор профессионального пути девятиклассник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рать информацию и изготовить буклет: «Выбор профессионального пут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ести классный час: «Выбор професси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Прямоугольник 6" descr=""/>
          <p:cNvPicPr/>
          <p:nvPr/>
        </p:nvPicPr>
        <p:blipFill>
          <a:blip r:embed="rId3"/>
          <a:stretch/>
        </p:blipFill>
        <p:spPr>
          <a:xfrm>
            <a:off x="749160" y="3517920"/>
            <a:ext cx="1878120" cy="1255680"/>
          </a:xfrm>
          <a:prstGeom prst="rect">
            <a:avLst/>
          </a:prstGeom>
          <a:ln w="0">
            <a:noFill/>
          </a:ln>
        </p:spPr>
      </p:pic>
      <p:pic>
        <p:nvPicPr>
          <p:cNvPr id="251" name="Прямоугольник 7" descr=""/>
          <p:cNvPicPr/>
          <p:nvPr/>
        </p:nvPicPr>
        <p:blipFill>
          <a:blip r:embed="rId4"/>
          <a:stretch/>
        </p:blipFill>
        <p:spPr>
          <a:xfrm>
            <a:off x="5870520" y="3309840"/>
            <a:ext cx="3060720" cy="1470240"/>
          </a:xfrm>
          <a:prstGeom prst="rect">
            <a:avLst/>
          </a:prstGeom>
          <a:ln w="0">
            <a:noFill/>
          </a:ln>
        </p:spPr>
      </p:pic>
      <p:pic>
        <p:nvPicPr>
          <p:cNvPr id="252" name="Прямоугольник 8" descr=""/>
          <p:cNvPicPr/>
          <p:nvPr/>
        </p:nvPicPr>
        <p:blipFill>
          <a:blip r:embed="rId5"/>
          <a:stretch/>
        </p:blipFill>
        <p:spPr>
          <a:xfrm>
            <a:off x="2535120" y="4737240"/>
            <a:ext cx="3872160" cy="6825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6c1af13ec3"/>
          <p:cNvPicPr/>
          <p:nvPr/>
        </p:nvPicPr>
        <p:blipFill>
          <a:blip r:embed="rId6"/>
          <a:stretch/>
        </p:blipFill>
        <p:spPr>
          <a:xfrm>
            <a:off x="3060720" y="3349800"/>
            <a:ext cx="284796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Прямоугольник 3" descr=""/>
          <p:cNvPicPr/>
          <p:nvPr/>
        </p:nvPicPr>
        <p:blipFill>
          <a:blip r:embed="rId1"/>
          <a:stretch/>
        </p:blipFill>
        <p:spPr>
          <a:xfrm>
            <a:off x="1500120" y="517680"/>
            <a:ext cx="6577200" cy="10364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j0078625"/>
          <p:cNvPicPr/>
          <p:nvPr/>
        </p:nvPicPr>
        <p:blipFill>
          <a:blip r:embed="rId2"/>
          <a:stretch/>
        </p:blipFill>
        <p:spPr>
          <a:xfrm>
            <a:off x="762120" y="1600200"/>
            <a:ext cx="1666800" cy="4114800"/>
          </a:xfrm>
          <a:prstGeom prst="rect">
            <a:avLst/>
          </a:prstGeom>
          <a:ln w="0">
            <a:noFill/>
          </a:ln>
        </p:spPr>
      </p:pic>
      <p:pic>
        <p:nvPicPr>
          <p:cNvPr id="256" name="Схема 2" descr=""/>
          <p:cNvPicPr/>
          <p:nvPr/>
        </p:nvPicPr>
        <p:blipFill>
          <a:blip r:embed="rId3"/>
          <a:stretch/>
        </p:blipFill>
        <p:spPr>
          <a:xfrm>
            <a:off x="1596960" y="1274760"/>
            <a:ext cx="716292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143000" y="1523880"/>
            <a:ext cx="6934320" cy="41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онституция РФ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Трудовой  Кодекс, 2002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«Закон о занятости населения  в РФ» от 19 апреля 1991г, №1032 – 1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каз Президента РФ «О дополнительных мерах по защите трудовых прав населения», 21 апреля 1993, №471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каз Президента РФ «О привлечении и использовании в РФ иностранной рабочей силы», 16 декабря 1993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8" name="Прямоугольник 4" descr=""/>
          <p:cNvPicPr/>
          <p:nvPr/>
        </p:nvPicPr>
        <p:blipFill>
          <a:blip r:embed="rId1"/>
          <a:stretch/>
        </p:blipFill>
        <p:spPr>
          <a:xfrm>
            <a:off x="1096920" y="652320"/>
            <a:ext cx="72550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3"/>
          <p:cNvSpPr/>
          <p:nvPr/>
        </p:nvSpPr>
        <p:spPr>
          <a:xfrm>
            <a:off x="304920" y="1066680"/>
            <a:ext cx="4114800" cy="53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494142"/>
                </a:solidFill>
                <a:uFillTx/>
                <a:latin typeface="Times New Roman"/>
                <a:ea typeface="Times New Roman"/>
              </a:rPr>
              <a:t>Вопрос: Самые востребованные профессии на Сахалин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Что касается Поронайского района, то более востребованы водители, которые имеют категори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, C, D, 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есть все категорий, это газо-электро-сварщики (5-6 разряд), токари и специалисты, имеющие строительные специальности – плотники, и т.д. Что касается области и региона, востребованные строительные специальности, инженеры и механики, а гуманитарные – экономисты, юристы уже менее востребован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494142"/>
                </a:solidFill>
                <a:uFillTx/>
                <a:latin typeface="Times New Roman"/>
                <a:ea typeface="Times New Roman"/>
              </a:rPr>
              <a:t>Вопрос: </a:t>
            </a:r>
            <a:r>
              <a:rPr b="1" lang="ru-RU" sz="1600" spc="-1" strike="noStrike" u="sng">
                <a:solidFill>
                  <a:srgbClr val="494142"/>
                </a:solidFill>
                <a:uFillTx/>
                <a:latin typeface="Times New Roman"/>
                <a:ea typeface="Times New Roman"/>
              </a:rPr>
              <a:t>Какие учебные заведения для получения профессии 9-и классникам на Сахалин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Это все профессиональные училища, в Поронайске 15 училище, промышленно-экономический техникум Южно-Сахалинский, топливно-энергетический  техникум, 18-ый лицей, Александровск-Сахалинское училище и т.д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акже получили информацию о нормативно – правовом регулировании занятости и трудоустро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Прямоугольник 6" descr=""/>
          <p:cNvPicPr/>
          <p:nvPr/>
        </p:nvPicPr>
        <p:blipFill>
          <a:blip r:embed="rId1"/>
          <a:stretch/>
        </p:blipFill>
        <p:spPr>
          <a:xfrm>
            <a:off x="993600" y="208080"/>
            <a:ext cx="7259760" cy="9255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C:\Users\User\Desktop\Проект\Фото\SDC13194.JPG"/>
          <p:cNvPicPr/>
          <p:nvPr/>
        </p:nvPicPr>
        <p:blipFill>
          <a:blip r:embed="rId2"/>
          <a:stretch/>
        </p:blipFill>
        <p:spPr>
          <a:xfrm>
            <a:off x="4889520" y="2057400"/>
            <a:ext cx="33829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990720" y="1371600"/>
          <a:ext cx="4038480" cy="4343400"/>
        </p:xfrm>
        <a:graphic>
          <a:graphicData uri="http://schemas.openxmlformats.org/drawingml/2006/table">
            <a:tbl>
              <a:tblPr/>
              <a:tblGrid>
                <a:gridCol w="1104840"/>
                <a:gridCol w="1324080"/>
                <a:gridCol w="1609560"/>
              </a:tblGrid>
              <a:tr h="7779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: 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ку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черняя шко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Rectangle 4"/>
          <p:cNvSpPr/>
          <p:nvPr/>
        </p:nvSpPr>
        <p:spPr>
          <a:xfrm>
            <a:off x="5175360" y="1376640"/>
            <a:ext cx="2895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устройство выпускников 9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СОШ №1 за 2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2011 го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Прямоугольник 3" descr=""/>
          <p:cNvPicPr/>
          <p:nvPr/>
        </p:nvPicPr>
        <p:blipFill>
          <a:blip r:embed="rId1"/>
          <a:stretch/>
        </p:blipFill>
        <p:spPr>
          <a:xfrm>
            <a:off x="420840" y="378000"/>
            <a:ext cx="8321400" cy="853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C:\Users\User\Desktop\Проект\Фото\SDC13173.JPG"/>
          <p:cNvPicPr/>
          <p:nvPr/>
        </p:nvPicPr>
        <p:blipFill>
          <a:blip r:embed="rId2"/>
          <a:stretch/>
        </p:blipFill>
        <p:spPr>
          <a:xfrm>
            <a:off x="5218200" y="3127320"/>
            <a:ext cx="318744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914040" y="713880"/>
            <a:ext cx="74674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Cambria"/>
              </a:rPr>
              <a:t>. Чем вы собираетесь заниматься после окончания 9 класса?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mbria"/>
              </a:rPr>
              <a:t>А) Продолжить обучение в 10 классе-13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mbria"/>
              </a:rPr>
              <a:t>Б)Продолжить обучение в колледже, техникуме, профессиональном училище - 3 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mbria"/>
              </a:rPr>
              <a:t>В)Пока не знаю - 2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2. 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Cambria"/>
              </a:rPr>
              <a:t>Выбрали ли вы свою профессию?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mbria"/>
              </a:rPr>
              <a:t>А) Да - 11 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mbria"/>
              </a:rPr>
              <a:t>Б) Нет - 7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3. 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Cambria"/>
              </a:rPr>
              <a:t>Что повлияло на выбор будущей профессии?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mbria"/>
              </a:rPr>
              <a:t>А) Престиж данной профессии -6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mbria"/>
              </a:rPr>
              <a:t>Б) Высокая зарплата  -10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mbria"/>
              </a:rPr>
              <a:t>В) Семейные традиции  - 1 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mbria"/>
              </a:rPr>
              <a:t>Г)  Интерес к данной области деятельности -14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mbria"/>
              </a:rPr>
              <a:t>Д)  Востребованность профессии на Сахалине -2 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mbria"/>
              </a:rPr>
              <a:t>Е) Другое -1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4. 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Cambria"/>
              </a:rPr>
              <a:t>Где бы вы хотели продолжать образование после школы?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mbria"/>
              </a:rPr>
              <a:t>А) На Сахалине-5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mbria"/>
              </a:rPr>
              <a:t>Б) С выездом на материк-10 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mbria"/>
              </a:rPr>
              <a:t>В) Не знаю, ещё не решил-3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5. 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Cambria"/>
              </a:rPr>
              <a:t>С какими областями науки и сферами деятельности вы бы предпочли связать будущею профессию?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mbria"/>
              </a:rPr>
              <a:t>А) Бизнес -6 Б)Экономика – 0 В)Иностранные языки - 7 Г)Юриспруденция - 3 Д)психология - 4 Е)История- 1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mbria"/>
              </a:rPr>
              <a:t>Ж)спорт; -3 З)Компьютер - 2 И)Технические дисциплины -1  К)Другое -8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6. 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Cambria"/>
              </a:rPr>
              <a:t>Какие учебные заведения на Сахалине вы знаете? Перечислить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mbria"/>
              </a:rPr>
              <a:t>А)ВУЗы : САХГУ – 10, 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mbria"/>
              </a:rPr>
              <a:t>Б)Техникумы : АЗУТ - 1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mbria"/>
              </a:rPr>
              <a:t>В)Колледжи : Сахалинский колледж искусств – 6,  морской колледж – 1, колледж бизнеса и информатики  - 4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mbria"/>
              </a:rPr>
              <a:t>Г)Училища : ПУ 15 – 6, г. Юж-Сахалинск  ПУ 17 -  3, Кадетское училище - 2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67" name="TextBox 2" descr=""/>
          <p:cNvPicPr/>
          <p:nvPr/>
        </p:nvPicPr>
        <p:blipFill>
          <a:blip r:embed="rId1"/>
          <a:stretch/>
        </p:blipFill>
        <p:spPr>
          <a:xfrm>
            <a:off x="426960" y="42840"/>
            <a:ext cx="843120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Object 4"/>
          <p:cNvGraphicFramePr/>
          <p:nvPr/>
        </p:nvGraphicFramePr>
        <p:xfrm>
          <a:off x="457200" y="2633760"/>
          <a:ext cx="3657600" cy="24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33760"/>
                    <a:ext cx="3657600" cy="24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549000"/>
            <a:ext cx="7467480" cy="1439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295280" y="1676520"/>
          <a:ext cx="6782040" cy="4039920"/>
        </p:xfrm>
        <a:graphic>
          <a:graphicData uri="http://schemas.openxmlformats.org/drawingml/2006/table">
            <a:tbl>
              <a:tblPr/>
              <a:tblGrid>
                <a:gridCol w="1854360"/>
                <a:gridCol w="4927680"/>
              </a:tblGrid>
              <a:tr h="1836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-2012 учебный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ку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 не определили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Rectangle 4"/>
          <p:cNvSpPr/>
          <p:nvPr/>
        </p:nvSpPr>
        <p:spPr>
          <a:xfrm>
            <a:off x="239760" y="126720"/>
            <a:ext cx="829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арительные итоги  выбора профессионального пути  9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СОШ №1 2012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User</cp:lastModifiedBy>
  <dcterms:modified xsi:type="dcterms:W3CDTF">2012-02-09T08:00:39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