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E36-1388-4289-8203-BC655D49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1E0-4A3E-4D7C-AA16-5B84BD67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42B1F-F7B3-49CF-B7B9-2BDEBDEB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C66D3-9214-4A34-8A08-FF35847A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139C8-548D-4210-8E4A-C071FDD1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47145-E38A-4AC3-BAE8-52B6234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F48D6-E58D-4595-B058-638D9A61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34F06-2904-448E-B962-3505B1FD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FCAA6-9457-43C9-AD3A-1C233F75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51212-8332-4969-90A9-009AB0FD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84402-C7BB-4599-AFA3-19B1E69B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FFB-B074-42AC-AB18-2388F234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4DB-8061-4F25-91B1-7E18FD55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0907-09A6-4520-90D7-2098EAB0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6EF9-BBA2-4E8D-8CE3-D61F7FEE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69A6-D64E-4D19-B4CF-06823920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A982-A284-4DC2-A203-F3F4474E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961E-D9FD-4CED-8635-42392CF2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8BB3-DA8A-46C5-9199-3F9514BD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0D0F-BC27-4740-8B69-8B0191E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DDF-D212-4DFE-8128-722A12F0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5280-25A4-4A09-8271-78839811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A820-9D6B-445B-8B8D-A2AB3878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866A-87D2-4C03-87BF-B7F96892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1500-1889-409E-AFC0-C1B6EFD3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C568-8D74-4278-A836-B1B38A1D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57A1-4081-4D58-B846-1F49F468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849A5-1740-4655-BE93-569EE3BA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22776-294F-4462-9375-6E786DCC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B803D-598E-4057-81A3-7C508D8E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EC86-BA20-4B29-933E-6BC0D284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E1C-031A-449B-821D-74584365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6775-1212-4907-A212-8A839D59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F8FC-1F83-4420-A84E-BC85CCD1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5546F-4A10-47CC-A89A-3FB678BD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A725-BC80-4546-BF5E-4F66642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5779-7E57-435B-A764-AFDA55C0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ED6F-81BE-471C-A0C3-3542E283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6342-6935-4E4A-B986-25B872BE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A6F45-4FF9-4888-93AA-7940CEA9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DCA57-1B8A-456A-B34B-D9FAB8F6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C1D2-22E9-43F5-BDB9-39ED0BE6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51C-0EF9-4D8C-80BF-508E8F38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6234-FFB7-495C-8FC9-BE29C816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F7E83-510F-4ED5-B302-BD1A43F3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7ADF9-6E5D-43D6-8754-A998A067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1B7F1-4DAB-4520-AB02-17F20C17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788AB-E786-44ED-94CC-8DCD4813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C3E1-0D8C-44B8-AAB5-C9D4138C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B906-D22A-4677-971C-56781E4E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95570-9D70-4002-B846-C122567C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89125-A2E7-4849-87E9-4B6ED943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4B700-6694-44F7-9220-1061F9CF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410-2D4A-4445-9BE7-A118C5AE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DC087-8CCE-4296-9EAD-9FFA47AD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833E1-E08F-4BE1-82F8-60D4406E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0C12C-B409-4373-9553-38AD296F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63520-C9BB-4612-A545-BBF019C2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04543-A765-464C-B648-292187C7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94F97-7984-4C88-8BA4-54A35B29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59210-0EB2-40F0-B21D-CC8E6258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C4CFC-F281-4967-AAB2-ECB79469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05D4B-C0E8-42A8-BAA5-44704D97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27722-A5B6-472B-BBB9-BC058931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D79-3552-46FE-BCF3-1F7DA8CA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48958-F014-4C2C-AAFA-4C47315A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9EF9B-C23D-477F-8F68-5508D6C8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E84B4-0A57-4E28-B202-973C66C9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AF86C-D642-4499-8B2C-A994CA57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53352-DDF8-492E-8C54-BF6E9256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1D585-59BF-446D-87EC-FEA2F096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5868E-8BE6-4334-9D56-5723842B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9CB5F-D690-45FA-875A-857BBADC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4ABF5-3F3B-46EA-9EF7-C67983BA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C0EE9-F545-4228-9570-207EF0DF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AD7-88D8-4B98-87F7-1034CA24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304AB-A8A3-407D-91D1-3B2A6708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A41C-7C38-4349-9071-5D8460C1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A106C-4B04-4895-BADC-8942FCC0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D7DD3-D812-418C-B465-6AECDFF0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74183-6482-4E0A-9B22-4552DE5A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F3EC0-AD10-4ECB-A50F-6C8BCB2F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74776-B7CE-463C-8474-674A5978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F9122-18A5-4F5D-AABE-27CE95E9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5BED8-2BD1-414E-835F-E6AE68F6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68DC6-DFDB-46B1-8DF2-1BAE1903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7F5-A625-4025-9A61-EB80B11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3C518-0F2C-4394-922C-CC2C464C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9ECFC-C48A-4540-B09F-B27693E2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65CE6-54E3-4519-B0E5-EBCFC9DD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BE155-BAC2-4D81-9FBD-D1ADA615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A14EE-4336-404E-A8AD-D2BAC3C3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2AA13-2B42-4424-9EE2-760C2712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29C31-638E-494C-8D4A-34FD47AD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A4A5F-23EF-46FE-8149-DE50997E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249FA-8282-47F3-99BB-7D2F1B52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4A1FC-B571-46F9-875C-96A4C918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010-F40E-41BC-89A8-5699F732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38070-23A5-457E-944E-22343FEF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C9014-F14C-4ADE-8FD9-BA4FDE40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437C3-035F-4996-9B8F-85A9E81C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41F53-E999-486A-B9C4-5E6F5343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982D3-5846-4EC8-A4DB-BDC6CA92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4D07E-6945-4A29-92EF-3A4C08EE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BAD5F-A5EB-4FF3-8075-55A1C714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6BC03-C7B8-478A-B25E-95170D0E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D4ABE-9098-486C-B80F-4EDC662D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040B2-9BF7-4380-9026-729C7ABB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1E37-5ED6-43F0-97E4-F5C212A97D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0D5D-AF1C-41A2-9004-7F6AD61948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FFFB-292C-41E1-8DFD-9AAD704345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BFF2-35F7-42A9-AA84-8C75519E760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1C17-6C26-494A-9885-347E3917FA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0672-9CB1-4807-9836-2CE8446625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5AFA-1532-431D-BDD1-F9A809F6AF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50DE-ECA8-4374-8ECD-A52083053D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448F-D7F2-4077-A619-6B6341D1D2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9000" y="1139760"/>
            <a:ext cx="822312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сознанность в определении проблемы, значимости выполняемой работы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ргументированность предлагаемых решений,выводов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ыполнение принятых этапов проектирования,самостоятельность,законченность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ачество изделия, его оригинальность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ачество и полнота в оформлении записей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9017280" cy="10605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ачество доклада,полнота представления работы,аргументированность и убеждённость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ъём и глубина знаний по теме,эрудици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тветы на вопросы:полнота,аргументированность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Деловые и волевые качества: ответственное отношение,доброжелательность,контакность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чащиеся, сталкиваясь с различными жизненными ситуациями, преодолевают их как интуитивно, так и посредством новых зн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       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Спасибо за внимание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3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роект = проблема + продукт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(решение определённой,ясно осознаваемой задачи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езультат заранее известен)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Исследование = проблема + гипотез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(бескорыстный поиск истин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Результат может быть непредсказуем)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вивать познавательные интересы учащихс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Формировать умения самостоятельно конструировать свои знания и ориентироваться в информационном пространств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вивать критическое мышлени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Формирование основополагающих умений учебного проектирования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Умения планировать свою деятельность и осуществлять её в соответствии с составленным планом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оставлять план как инструкцию (теперь уже для других)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Инструкция как способ решения проблемы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амостоятельное выполнение  всех этапов проектирования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285480" y="1999800"/>
            <a:ext cx="8705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рганизовывает доступ к информационным ресурсам(адрес сайта)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ам является источником информаци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оддерживает и поощряет учащихся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ординирует и корректирует весь процесс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оддерживает непрерывную обратную связь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Даёт чёткий анализ результатов выполненого проект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ривлекает родителей к участию в школьных делах своего ребёнк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15920" y="195120"/>
            <a:ext cx="8881920" cy="14875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85480" y="1785960"/>
            <a:ext cx="870588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блема и тема должны быть актуальными для ребён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ворческая работа выполняется им добровольн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еспечение необходимым оборудованием, средствами, материал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33200" y="-171360"/>
            <a:ext cx="9017280" cy="2036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85480" y="1213920"/>
            <a:ext cx="90630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пределить источники информаци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пределить способ сбора и анализа информации(новые технологии, рукописный текст и т.д.)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Итоговый продукт (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ид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форма:спектакль,с/р игра, диск, презентация,альбом,гербарий,сувенир и т.д.)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Критерии оценивания результатов работ.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Распределение обязанностей среди членов команд.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Самостоятельная работа участников проекта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Защита проектов.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Franklin Gothic Book"/>
              </a:rPr>
              <a:t>Объявление результатов работ.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оно-проект (в рамках одной области знания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жпредметный проек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бор темы проекта, его тип, количество участник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читель продумывает варианты проблем (в рамках намеченной тематики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блемы выдвигаются учащимися с подачи учителя (наводящие вопросы, ситуации,способствующие определению проблем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Дом</cp:lastModifiedBy>
  <dcterms:modified xsi:type="dcterms:W3CDTF">2012-01-23T20:07:01Z</dcterms:modified>
  <cp:revision>35</cp:revision>
  <dc:subject/>
  <dc:title>Создание психолого-педагогических условий для проектной  деятельности учащихся</dc:title>
</cp:coreProperties>
</file>