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AD50-6411-4408-96D6-8C5CAC2B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05D-6FAA-484A-94E7-4492CCA0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49A-98B1-4DBC-95CB-13FB3E01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054-FAF7-49E2-BFE1-9BA1431E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E3CF-ACFD-45DC-A59A-C30F873E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C4AB-605C-46B6-BE98-00FA1549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CAAC-7485-4434-9587-996F80DB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DF3F-0A64-44B0-9F2E-173FDDA1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3F1B-9849-4B1A-8A46-EF23E6F7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E111-4848-40D5-9EA4-FC39A4CE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4150-E796-44C2-BC85-A9A158EA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263-A6B1-4D74-86E0-FAB9A5B7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5845-7B27-4BA0-8C82-A01A4CD7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B0D5-AE7B-46DC-863D-0A7DA2E5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3DB9-2662-4EEC-8CDF-8B74FBDE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41A6-FF69-48F7-BB4E-03CA1800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796F-9DE1-4535-A519-50455228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9296-8BCC-4AAB-88CF-19BA77F8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27DD-D771-4B38-9F8E-1C4A6826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5A0-9D7F-4A96-A583-6865DF4A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B29-F257-4612-893B-61BA940F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875F-6D75-4820-9F3F-4F2C1BC3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8FD-6ED5-4344-AFCE-7230F4AC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AD0C-5F24-4F0C-807A-8C3BD756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60A0-0A23-4953-BB6F-3F39376E8E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1C89-8704-40EC-A6AD-DD9A992F06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 Black"/>
              </a:rPr>
              <a:t>Родительское собр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 Black"/>
              </a:rPr>
              <a:t>в 1 класс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Учитель:</a:t>
            </a:r>
            <a:r>
              <a:rPr b="1" i="1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Агулов</a:t>
            </a:r>
            <a:r>
              <a:rPr b="1" i="1" lang="en-US" sz="2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 М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Профилактическая работ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таминизация пищ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оматерап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тотерапия (чесночные бус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7280" y="3789360"/>
            <a:ext cx="1903680" cy="2232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851280" y="3789360"/>
            <a:ext cx="2016000" cy="2232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516720" y="3789360"/>
            <a:ext cx="1871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26560" y="1484280"/>
            <a:ext cx="80074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Давайте попробуем сделать вместе с вами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277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Зрительная гимнастик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844280"/>
            <a:ext cx="80074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лучшает  кровоснабжение глазных яблок, нормализирует тонус  мышц,  снимает  зрительное  утомл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Пальчиковая гимнас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064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Занятия пальчиковыми играми способствуют расширению словарного запаса, а если стихотворение не проговаривать, а напевать — то и музыкального слух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Гармонизация движений тела, мелкой моторики рук и органов речи способствует формированию правильного произношения, помогает избавиться от монотонности речи, нормализовать её темп, учит соблюдению речевых пауз, снижает психическое напряж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b7"/>
                </a:solidFill>
                <a:latin typeface="Arial Black"/>
              </a:rPr>
              <a:t>Упражнения для пальчиковой гимнастики</a:t>
            </a: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907640" y="2060280"/>
            <a:ext cx="5185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ерево(лес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риб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рзин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оба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Ёж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Дыхательная гимнастик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помощью этих упражнений не только ваш ребенок оздоровится, будет пребывать в хорошем настроении и дышать полной грудью, но и вы вместе с ним вздохнете с облегчением. При регулярном выполнении такой гимнастики простуды будут обходить ваше чадо стороно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ыхательная гимнастика прекрасно дополняет любое лечение, развивает ещё несовершенную дыхательную систему ребёнка, укрепляет защитные силы организ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Музыкальные паузы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60" y="1904760"/>
            <a:ext cx="83772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имают напряже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ют благоприятную атмосферу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ъединяет детей в группы, способствует их сотрудничеству, взаимодействию межу собой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ваю речь, внимание, память, мыш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flipH="1" rot="21574200">
            <a:off x="4641120" y="4501440"/>
            <a:ext cx="33130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59464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Прислушивайтесь к потребностям своего тела и к тем сигналам, которые оно вам пода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Просыпайтесь с ощущением свежести и бодр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Ведите активный образ жизни и поддерживайте себя в прекрасной форм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Ешьте полезные продукты, которые необходимы для вашего организм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Забота о своем организме - это естественная часть любви к себ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7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7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7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7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7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9640" y="5084640"/>
            <a:ext cx="832032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Лучшее, что мы можем дать нашим детям, - это научить их любить себя.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Луиза Х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3640" y="333000"/>
            <a:ext cx="4214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Детям нужны 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поучения, а пример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      Жозеф Жубе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211640" y="765000"/>
            <a:ext cx="4392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8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8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7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06064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075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ациональная    образовательная инициатива «Наша новая школа» определяет задачи и  основные направления (стратегию) развития общего образования в Российской Федерации до 2020 г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дним из ключевых направлений является направл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хранение и укрепление здоровья школьников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b7"/>
                </a:solidFill>
                <a:latin typeface="Arial Black"/>
              </a:rPr>
              <a:t>«Здоровье ребенка – залог успешности обучения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c71ff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охранение, укрепление  и развитие индивидуального, физического, психического и социального здоровья участников образовательного процесса, формирование  культуры здорового образа жизни, основанной на знании и понимании функциональных особенностей своего организма и умении изменить их в лучшую сторо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32000" y="119520"/>
            <a:ext cx="64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Хронические заболевания обучающихся 1 класса «А»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10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челове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836640"/>
          <a:ext cx="8064360" cy="5761080"/>
        </p:xfrm>
        <a:graphic>
          <a:graphicData uri="http://schemas.openxmlformats.org/drawingml/2006/table">
            <a:tbl>
              <a:tblPr/>
              <a:tblGrid>
                <a:gridCol w="635040"/>
                <a:gridCol w="3512880"/>
                <a:gridCol w="1535400"/>
                <a:gridCol w="23810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боле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л-во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 от общего колич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болевания Ц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болевания органов дых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болевания лор. органо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болевания желудочно-кишечного тра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болевания опорно-двигательного аппара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болевания органов зр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рдечнососудистые заболе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Эндокринные заболе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атология мочевыводящих пут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Эпилепс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М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нсорная тугоух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b7"/>
                </a:solidFill>
                <a:latin typeface="Arial Black"/>
              </a:rPr>
              <a:t>Работа с детьми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987640" y="2060640"/>
            <a:ext cx="39052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ial Black"/>
              </a:rPr>
              <a:t>Организация физкультурно-оздоровительной работ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тренняя гимнастика(за 10 минут до начала занят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нятие физкультурой (2раза в неделю + 1час бассейн «СпортЛайФ»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Народные игры» (автор Литвинов Е.П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ованная  двигательная акти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стоятельная двигательная активность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35280" y="244440"/>
            <a:ext cx="5207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b7"/>
                </a:solidFill>
                <a:latin typeface="Arial Black"/>
              </a:rPr>
              <a:t>Закаливание.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2530440"/>
            <a:ext cx="800748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здоровительные прогул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оскание полости рта и горла после каждого приёма пищи кипячёной водой комнатной темпера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мывание лица и ру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до локтя) прохладной вод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77080" y="4292640"/>
            <a:ext cx="2050920" cy="1977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2159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b7"/>
                </a:solidFill>
                <a:latin typeface="Arial Black"/>
              </a:rPr>
              <a:t>Здоровьесберегающие технологии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тикуляционная гимнас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рительная гимнас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льчиковая гимнасти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ыхательная гимнас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зыкальные пау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020000" y="2060640"/>
            <a:ext cx="1908000" cy="2520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4581360"/>
            <a:ext cx="19447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Коррекционно-логопедическая работ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1916280"/>
            <a:ext cx="3313080" cy="208728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едагог-логопе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тойкова Н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1916280"/>
            <a:ext cx="3240000" cy="194616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чите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логоритм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Литвинова Л. 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4149720"/>
            <a:ext cx="3168720" cy="201600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чите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хорового п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Мильева Т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4365720"/>
            <a:ext cx="3240360" cy="194292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едагог-психол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мнов В.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5:51:49Z</dcterms:created>
  <dc:creator>Admin</dc:creator>
  <dc:description/>
  <dc:language>en-US</dc:language>
  <cp:lastModifiedBy>Admin</cp:lastModifiedBy>
  <dcterms:modified xsi:type="dcterms:W3CDTF">2011-02-02T15:30:17Z</dcterms:modified>
  <cp:revision>23</cp:revision>
  <dc:subject/>
  <dc:title>ИННОВАЦИОННЫЙ ПРОЕКТ РАЗВИТИЯ  ПО ЗДОРОВЬЕСБЕРЕЖЕНИЮ</dc:title>
</cp:coreProperties>
</file>