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9348-6E29-4D25-ABA9-D4425D75E8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E59B-3004-40D0-88F8-ECD0D55692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2CBC-BFCC-4343-AB73-A6B0F2F65F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E67-1C98-402C-952D-AC9C8F5F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434-2A40-4840-85CA-A07C6311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E832-CF3B-4A1F-936A-ECB24311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3C9-C8C1-4300-B08C-3EDFFD76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8E68-7878-4D1A-884E-B817899D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0D3-8E7F-42FE-AB3E-7855F052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A0A0-BF05-4BDB-B816-73329E4F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A05-B8A1-4E93-B409-01840B55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32F2-3C37-4C0F-BF34-6F2996D0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237-C899-4902-8CF6-D505777E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419-C724-4E3D-8B6B-00903B8C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CEC-B346-497E-937F-D98EB7BA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20B1-478E-4D90-8B4C-791EBC626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image" Target="../media/image15.jpeg"/><Relationship Id="rId5" Type="http://schemas.openxmlformats.org/officeDocument/2006/relationships/image" Target="../media/image14.png"/><Relationship Id="rId6" Type="http://schemas.openxmlformats.org/officeDocument/2006/relationships/image" Target="../media/image13.jpeg"/><Relationship Id="rId7" Type="http://schemas.openxmlformats.org/officeDocument/2006/relationships/image" Target="../media/image11.jpeg"/><Relationship Id="rId8" Type="http://schemas.openxmlformats.org/officeDocument/2006/relationships/image" Target="../media/image10.jpeg"/><Relationship Id="rId9" Type="http://schemas.openxmlformats.org/officeDocument/2006/relationships/image" Target="../media/image9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5.pn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slide" Target="slide9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24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BS0055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Словари русского язы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292360" y="4220640"/>
            <a:ext cx="3546360" cy="20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3200" y="609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438280" y="6172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мск-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1187280" y="549360"/>
            <a:ext cx="6270840" cy="9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ОУ гимназия № 56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рфографический словар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09480" y="22096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685800" y="251460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495680" y="1371600"/>
            <a:ext cx="3962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казывает норму написания слов какого-либо языка в соответствии с системой правил, определяющих единообразие способов передачи речи на письм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11060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1981080"/>
            <a:ext cx="2900520" cy="38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75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ловообразовательный словар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495680" y="2286000"/>
            <a:ext cx="381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могает находить части слова и точно определять границы между ни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mm477_21_08_0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1676520"/>
            <a:ext cx="240984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75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ловарь антоним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724280" y="19810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могает подобрать антонимы, объясняет значение каждого из ни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getpic_larg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3000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75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рфоэпический словар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114800" y="2133720"/>
            <a:ext cx="43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казывает нормативное литературное произношение слов какого-либо язы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608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4400" y="1828800"/>
            <a:ext cx="2610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75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ловарь синоним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114800" y="2133720"/>
            <a:ext cx="44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могает подобрать синонимы, дает толкование слов-синонимов, отмечает их стилистические особенност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images12">
            <a:hlinkClick r:id="rId1" action="ppaction://hlinksldjump"/>
          </p:cNvPr>
          <p:cNvPicPr/>
          <p:nvPr/>
        </p:nvPicPr>
        <p:blipFill>
          <a:blip r:embed="rId2"/>
          <a:srcRect l="16629" t="0" r="0" b="0"/>
          <a:stretch/>
        </p:blipFill>
        <p:spPr>
          <a:xfrm>
            <a:off x="609480" y="1905120"/>
            <a:ext cx="292752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75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Фразеологический словар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505320" y="213372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бъясняет значения фразеологизмов, рассказывает об их происхождении, приводит фразеологические синонимы и антоним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ФРАЗА">
            <a:hlinkClick r:id="rId1" action="ppaction://hlinksldjump"/>
          </p:cNvPr>
          <p:cNvPicPr/>
          <p:nvPr/>
        </p:nvPicPr>
        <p:blipFill>
          <a:blip r:embed="rId2"/>
          <a:srcRect l="28715" t="0" r="26938" b="0"/>
          <a:stretch/>
        </p:blipFill>
        <p:spPr>
          <a:xfrm>
            <a:off x="609480" y="1828800"/>
            <a:ext cx="2597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75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Этимологический словар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419720" y="2743200"/>
            <a:ext cx="38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ассказывает о происхождении сл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images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1752480"/>
            <a:ext cx="270828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75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ловарь иноязычных сл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0" y="228600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ает объяснение иноязычных слов; указывает, из какого языка заимствовано слово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иностранный словарь"/>
          <p:cNvPicPr/>
          <p:nvPr/>
        </p:nvPicPr>
        <p:blipFill>
          <a:blip r:embed="rId1"/>
          <a:srcRect l="21624" t="0" r="35814" b="0"/>
          <a:stretch/>
        </p:blipFill>
        <p:spPr>
          <a:xfrm>
            <a:off x="838080" y="1752480"/>
            <a:ext cx="2979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75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«Шутка»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ромов 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67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ой дядя выяснял лет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всё же выяснить не мог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 говорить вернее- творог?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 может, правильней – творог!?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как-то он в молочной лав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го увидел на прилавке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цо, как роза, расцве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шил купить он полкил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 тотчас, на прилавок гляд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пять задумался мой дяд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Ведь, вероятно он не дорог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йдёт в ватрушку и  в пиро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 как спросить: «Почём творог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 может правильнее- творог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1773360"/>
            <a:ext cx="40147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в это время  у прилав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шум, и очередь, и давк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 дядя дольше всех сто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сам с собою говори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Н-да.. Я к произношенью строг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допускаю оговорок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 как  же всё-таки – творог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может правильнее – творог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чу эту смог реши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й дядя, лишь дойдя до кассы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азав: «Прошу вас получи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 полкило творожной массы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ссирша мало разбиралас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естоименьях, падеж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так сказала: «Не осталос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а распродата уже!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80808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48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оставьте правильно ударени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1197000"/>
            <a:ext cx="168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Шофер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119700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шоф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26920" y="184464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вонит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5440" y="1844640"/>
            <a:ext cx="13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вон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56360" y="234936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екла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85440" y="234936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3280" y="292428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говор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3640" y="2924280"/>
            <a:ext cx="15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гов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90560" y="350028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нцовщица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84000" y="35002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нц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щ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96000" y="407664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вартал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407664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варт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62200" y="4653000"/>
            <a:ext cx="22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простить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66200" y="4653000"/>
            <a:ext cx="19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прост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8920" y="530064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улинария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95280" y="5300640"/>
            <a:ext cx="201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улин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38080" y="9144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Словарь –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33520" y="2286000"/>
            <a:ext cx="81532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это вся вселенная в алфавитном порядке! Если хорошенько подумать, словарь – это книга книг. Он включает в себя все другие книги, нужно лишь извлечь их из него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натоль Фран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75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475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75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Найди антонимы к слова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10560" y="2060640"/>
            <a:ext cx="17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верху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2060640"/>
            <a:ext cx="11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з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78560" y="278136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удрость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2781360"/>
            <a:ext cx="17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луп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6920" y="3429000"/>
            <a:ext cx="20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обода 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94920" y="34290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гнет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4076640"/>
            <a:ext cx="22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ужество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55280" y="407664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рус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49480" y="4653000"/>
            <a:ext cx="19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рона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6920" y="46530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пад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Найди синонимы к слова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7280" y="8623080"/>
            <a:ext cx="777240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01840" y="1773360"/>
            <a:ext cx="22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кричать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75680" y="1773360"/>
            <a:ext cx="39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нять крик, заор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0000" y="2421000"/>
            <a:ext cx="160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ежак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0360" y="2421000"/>
            <a:ext cx="13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пч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46560" y="3141720"/>
            <a:ext cx="22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екарство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0920" y="3141720"/>
            <a:ext cx="174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надобь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91640" y="3860640"/>
            <a:ext cx="24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вольник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67640" y="386064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4508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чально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08720" y="4508640"/>
            <a:ext cx="17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весе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85840" y="5229360"/>
            <a:ext cx="26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тушиться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95280" y="5229360"/>
            <a:ext cx="20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дирать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69e"/>
                </a:solidFill>
                <a:latin typeface="Times New Roman"/>
              </a:rPr>
              <a:t>Одним из средств образной </a:t>
            </a:r>
            <a:br>
              <a:rPr sz="3200"/>
            </a:br>
            <a:r>
              <a:rPr b="0" lang="en-US" sz="3200" spc="-1" strike="noStrike">
                <a:solidFill>
                  <a:srgbClr val="2e069e"/>
                </a:solidFill>
                <a:latin typeface="Times New Roman"/>
              </a:rPr>
              <a:t>и выразительной литературной речи являются крылатые слов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67320" y="2133720"/>
            <a:ext cx="73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69e"/>
                </a:solidFill>
                <a:latin typeface="Times New Roman"/>
              </a:rPr>
              <a:t>Найдите значение крылатых выражени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321300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2e069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69e"/>
                </a:solidFill>
                <a:latin typeface="Times New Roman"/>
              </a:rPr>
              <a:t>свинью подложи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22200" y="4005360"/>
            <a:ext cx="34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2e069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69e"/>
                </a:solidFill>
                <a:latin typeface="Times New Roman"/>
              </a:rPr>
              <a:t>мамаево побоищ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47680" y="4797360"/>
            <a:ext cx="481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e069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69e"/>
                </a:solidFill>
                <a:latin typeface="Times New Roman"/>
              </a:rPr>
              <a:t>плясать под чужую дуд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Разгадай шифров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А – ПО – И - ДРУ - СЛО – ШИ - МОЩ- ЗЬЯ- ВА –НИ –РИ –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АШИ ДРУЗЬЯ И ПОМОЩНИКИ - СЛОВАР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Овал 4"/>
          <p:cNvSpPr/>
          <p:nvPr/>
        </p:nvSpPr>
        <p:spPr>
          <a:xfrm>
            <a:off x="2428920" y="2786040"/>
            <a:ext cx="3929040" cy="100008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2571840" y="292896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асибо за работу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СЛОВАРЬ"/>
          <p:cNvPicPr/>
          <p:nvPr/>
        </p:nvPicPr>
        <p:blipFill>
          <a:blip r:embed="rId1"/>
          <a:srcRect l="30492" t="0" r="32260" b="8527"/>
          <a:stretch/>
        </p:blipFill>
        <p:spPr>
          <a:xfrm rot="4061400">
            <a:off x="7218720" y="2721600"/>
            <a:ext cx="1171440" cy="1722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ТОП-СЛОВАРЬ"/>
          <p:cNvPicPr/>
          <p:nvPr/>
        </p:nvPicPr>
        <p:blipFill>
          <a:blip r:embed="rId2"/>
          <a:srcRect l="26938" t="0" r="32260" b="0"/>
          <a:stretch/>
        </p:blipFill>
        <p:spPr>
          <a:xfrm rot="17246400">
            <a:off x="689040" y="2242440"/>
            <a:ext cx="1153800" cy="1693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иностранный словарь"/>
          <p:cNvPicPr/>
          <p:nvPr/>
        </p:nvPicPr>
        <p:blipFill>
          <a:blip r:embed="rId3"/>
          <a:srcRect l="21624" t="0" r="35814" b="0"/>
          <a:stretch/>
        </p:blipFill>
        <p:spPr>
          <a:xfrm rot="1867200">
            <a:off x="1842840" y="3938760"/>
            <a:ext cx="1422360" cy="2000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images8"/>
          <p:cNvPicPr/>
          <p:nvPr/>
        </p:nvPicPr>
        <p:blipFill>
          <a:blip r:embed="rId4"/>
          <a:stretch/>
        </p:blipFill>
        <p:spPr>
          <a:xfrm rot="19273200">
            <a:off x="1128240" y="1283760"/>
            <a:ext cx="1047960" cy="1694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ФРАЗА"/>
          <p:cNvPicPr/>
          <p:nvPr/>
        </p:nvPicPr>
        <p:blipFill>
          <a:blip r:embed="rId5"/>
          <a:srcRect l="28715" t="0" r="26938" b="0"/>
          <a:stretch/>
        </p:blipFill>
        <p:spPr>
          <a:xfrm rot="2892000">
            <a:off x="6629040" y="1581480"/>
            <a:ext cx="1241280" cy="1857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images12"/>
          <p:cNvPicPr/>
          <p:nvPr/>
        </p:nvPicPr>
        <p:blipFill>
          <a:blip r:embed="rId6"/>
          <a:srcRect l="16629" t="0" r="0" b="0"/>
          <a:stretch/>
        </p:blipFill>
        <p:spPr>
          <a:xfrm rot="1722000">
            <a:off x="5587560" y="860040"/>
            <a:ext cx="1314360" cy="1592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getpic_large"/>
          <p:cNvPicPr/>
          <p:nvPr/>
        </p:nvPicPr>
        <p:blipFill>
          <a:blip r:embed="rId7"/>
          <a:stretch/>
        </p:blipFill>
        <p:spPr>
          <a:xfrm rot="421800">
            <a:off x="4448160" y="850680"/>
            <a:ext cx="1147680" cy="1544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mm477_21_08_01"/>
          <p:cNvPicPr/>
          <p:nvPr/>
        </p:nvPicPr>
        <p:blipFill>
          <a:blip r:embed="rId8"/>
          <a:stretch/>
        </p:blipFill>
        <p:spPr>
          <a:xfrm rot="20356800">
            <a:off x="2199960" y="771120"/>
            <a:ext cx="1042920" cy="1722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110605"/>
          <p:cNvPicPr/>
          <p:nvPr/>
        </p:nvPicPr>
        <p:blipFill>
          <a:blip r:embed="rId9"/>
          <a:stretch/>
        </p:blipFill>
        <p:spPr>
          <a:xfrm rot="20111400">
            <a:off x="5616720" y="3997080"/>
            <a:ext cx="1417320" cy="18842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3643200" y="3929040"/>
            <a:ext cx="1801440" cy="2520720"/>
            <a:chOff x="3643200" y="3929040"/>
            <a:chExt cx="1801440" cy="2520720"/>
          </a:xfrm>
        </p:grpSpPr>
        <p:pic>
          <p:nvPicPr>
            <p:cNvPr id="171" name="Picture 6" descr="getimage2"/>
            <p:cNvPicPr/>
            <p:nvPr/>
          </p:nvPicPr>
          <p:blipFill>
            <a:blip r:embed="rId10"/>
            <a:stretch/>
          </p:blipFill>
          <p:spPr>
            <a:xfrm>
              <a:off x="4571280" y="4878720"/>
              <a:ext cx="873360" cy="157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7" descr="img4"/>
            <p:cNvPicPr/>
            <p:nvPr/>
          </p:nvPicPr>
          <p:blipFill>
            <a:blip r:embed="rId11"/>
            <a:stretch/>
          </p:blipFill>
          <p:spPr>
            <a:xfrm>
              <a:off x="3875040" y="3929040"/>
              <a:ext cx="95256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8" descr="82097"/>
            <p:cNvPicPr/>
            <p:nvPr/>
          </p:nvPicPr>
          <p:blipFill>
            <a:blip r:embed="rId12"/>
            <a:stretch/>
          </p:blipFill>
          <p:spPr>
            <a:xfrm>
              <a:off x="3643200" y="4831200"/>
              <a:ext cx="938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4" name="Picture 4" descr="6084"/>
          <p:cNvPicPr/>
          <p:nvPr/>
        </p:nvPicPr>
        <p:blipFill>
          <a:blip r:embed="rId13"/>
          <a:stretch/>
        </p:blipFill>
        <p:spPr>
          <a:xfrm rot="21230400">
            <a:off x="3240000" y="487080"/>
            <a:ext cx="118260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Лексикограф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685800" y="25146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греч.) - это ученый, который занимается составлением словаре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Знаменитые лексикограф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13">
            <a:hlinkClick r:id="rId1" action="ppaction://hlinksldjump"/>
          </p:cNvPr>
          <p:cNvPicPr/>
          <p:nvPr/>
        </p:nvPicPr>
        <p:blipFill>
          <a:blip r:embed="rId2"/>
          <a:srcRect l="8738" t="0" r="0" b="17279"/>
          <a:stretch/>
        </p:blipFill>
        <p:spPr>
          <a:xfrm>
            <a:off x="3124080" y="2743200"/>
            <a:ext cx="2173320" cy="198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images1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45120" y="3200400"/>
            <a:ext cx="2000160" cy="2701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images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" y="3276720"/>
            <a:ext cx="1890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images1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00200" y="1371600"/>
            <a:ext cx="3243240" cy="438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8209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2057400"/>
            <a:ext cx="3227400" cy="4267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5720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ладимир Иванович Да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митрий Николаевич Уша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13">
            <a:hlinkClick r:id="rId1" action="ppaction://hlinksldjump"/>
          </p:cNvPr>
          <p:cNvPicPr/>
          <p:nvPr/>
        </p:nvPicPr>
        <p:blipFill>
          <a:blip r:embed="rId2"/>
          <a:srcRect l="10446" t="0" r="7649" b="0"/>
          <a:stretch/>
        </p:blipFill>
        <p:spPr>
          <a:xfrm>
            <a:off x="1547640" y="1628640"/>
            <a:ext cx="3384720" cy="4051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200606011024-224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00720" y="2637000"/>
            <a:ext cx="257940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ргей Иванович Ожег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images1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52480" y="1447920"/>
            <a:ext cx="3127320" cy="4157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getimage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19720" y="2590920"/>
            <a:ext cx="26575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11280" y="549360"/>
            <a:ext cx="8001000" cy="62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Толковый слова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Орфографический слова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Словообразовательный слова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Словарь антоним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Словарь синоним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Орфоэпический слова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Фразеологический слова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Этимологический слова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Словарь иноязычных с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3">
            <a:hlinkClick r:id="rId10" action="ppaction://hlinksldjump"/>
          </p:cNvPr>
          <p:cNvSpPr/>
          <p:nvPr/>
        </p:nvSpPr>
        <p:spPr>
          <a:xfrm>
            <a:off x="7812000" y="6308640"/>
            <a:ext cx="505080" cy="54936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492">
                <a:moveTo>
                  <a:pt x="0" y="0"/>
                </a:moveTo>
                <a:lnTo>
                  <a:pt x="21600" y="0"/>
                </a:lnTo>
                <a:lnTo>
                  <a:pt x="21600" y="23492"/>
                </a:lnTo>
                <a:lnTo>
                  <a:pt x="0" y="23492"/>
                </a:lnTo>
                <a:close/>
              </a:path>
              <a:path fill="lightenLess" w="21600" h="234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92">
                <a:moveTo>
                  <a:pt x="21600" y="0"/>
                </a:moveTo>
                <a:lnTo>
                  <a:pt x="21600" y="23492"/>
                </a:lnTo>
                <a:lnTo>
                  <a:pt x="20200" y="22092"/>
                </a:lnTo>
                <a:lnTo>
                  <a:pt x="20200" y="1400"/>
                </a:lnTo>
                <a:close/>
              </a:path>
              <a:path fill="darkenLess" w="21600" h="23492">
                <a:moveTo>
                  <a:pt x="21600" y="23492"/>
                </a:moveTo>
                <a:lnTo>
                  <a:pt x="0" y="23492"/>
                </a:lnTo>
                <a:lnTo>
                  <a:pt x="1400" y="22092"/>
                </a:lnTo>
                <a:lnTo>
                  <a:pt x="20200" y="22092"/>
                </a:lnTo>
                <a:close/>
              </a:path>
              <a:path fill="lighten" w="21600" h="23492">
                <a:moveTo>
                  <a:pt x="0" y="234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92"/>
                </a:lnTo>
                <a:close/>
              </a:path>
              <a:path fill="darken" w="21600" h="23492">
                <a:moveTo>
                  <a:pt x="7301" y="11746"/>
                </a:moveTo>
                <a:lnTo>
                  <a:pt x="17806" y="4740"/>
                </a:lnTo>
                <a:lnTo>
                  <a:pt x="17806" y="18753"/>
                </a:lnTo>
                <a:close/>
              </a:path>
              <a:path fill="darken" w="21600" h="23492">
                <a:moveTo>
                  <a:pt x="3794" y="4740"/>
                </a:moveTo>
                <a:lnTo>
                  <a:pt x="5456" y="4740"/>
                </a:lnTo>
                <a:lnTo>
                  <a:pt x="5456" y="18753"/>
                </a:lnTo>
                <a:lnTo>
                  <a:pt x="3794" y="1875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Толковый словар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66720" y="1295280"/>
            <a:ext cx="4419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бъясняет значения слов какого-либо языка, содержит их грамматическую и стилистическую характеристику, примеры употребления в реч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1"/>
          <p:cNvGrpSpPr/>
          <p:nvPr/>
        </p:nvGrpSpPr>
        <p:grpSpPr>
          <a:xfrm>
            <a:off x="609480" y="1905120"/>
            <a:ext cx="3549600" cy="4044960"/>
            <a:chOff x="609480" y="1905120"/>
            <a:chExt cx="3549600" cy="4044960"/>
          </a:xfrm>
        </p:grpSpPr>
        <p:pic>
          <p:nvPicPr>
            <p:cNvPr id="77" name="Picture 6" descr="getimage2"/>
            <p:cNvPicPr/>
            <p:nvPr/>
          </p:nvPicPr>
          <p:blipFill>
            <a:blip r:embed="rId1"/>
            <a:stretch/>
          </p:blipFill>
          <p:spPr>
            <a:xfrm>
              <a:off x="2438280" y="3429000"/>
              <a:ext cx="1720800" cy="25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7" descr="img4"/>
            <p:cNvPicPr/>
            <p:nvPr/>
          </p:nvPicPr>
          <p:blipFill>
            <a:blip r:embed="rId2"/>
            <a:stretch/>
          </p:blipFill>
          <p:spPr>
            <a:xfrm>
              <a:off x="1066680" y="1905120"/>
              <a:ext cx="187668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8" descr="82097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09480" y="3352680"/>
              <a:ext cx="1849680" cy="24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75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0:18:23Z</dcterms:created>
  <dc:creator>Библиотекарь</dc:creator>
  <dc:description/>
  <dc:language>en-US</dc:language>
  <cp:lastModifiedBy>Библиотека</cp:lastModifiedBy>
  <dcterms:modified xsi:type="dcterms:W3CDTF">2010-05-18T07:38:38Z</dcterms:modified>
  <cp:revision>74</cp:revision>
  <dc:subject/>
  <dc:title>Словари русского языка</dc:title>
</cp:coreProperties>
</file>