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1DF3-2DC9-4197-9D75-AAB45C85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06AE-BB7C-4B6B-9F63-26658DF6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16B0-D4FE-4965-BE2A-262A185E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25B4-0A25-451C-BAAD-6E3325CC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AEC8-9011-44CE-9E06-645F9E6B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D405-35B3-4111-93C2-7C817C5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E20-BF1C-44E2-8ED3-B171303D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C458-9C54-448F-B35C-7D2E4A59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234E-0D3A-47F0-B290-F150FC4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217-C176-472C-A2F3-7477D53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84AF-2FBC-489E-98C7-20982F02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EC3C-BBF6-4A29-A9B8-A35E0EA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9904-B38D-41B9-BF1A-19C9B59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694F-BE0A-4B82-889B-723F42DE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9F15-F511-440E-A21E-DBC3D51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390F-B1EE-443C-882F-590AEB7B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E97-71E1-432F-89C7-49C9073C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6281-0727-485C-A9A5-3BB94DAC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48B1-5920-40E7-9437-3902BE2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5D49-7E1B-4871-84E6-5AE61C4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DA39-7B20-4770-88DD-8D130DAD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06C9-AEB5-4B7A-8CEB-F7604AC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2D34-FB56-4066-8177-DBB4471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3E53-71C8-4E48-A1D1-A9E7461B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B053-0947-4864-AA25-E69DDD725A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F6B4-EBA2-4116-91F7-CB4FC9C4CD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«МУФТА, ПОЛБОТИНКА И МОХОВАЯ БОРОДА»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равнительный анализ книги Эно Рауд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спектакля саратовского ТЮЗ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716000" y="4292640"/>
            <a:ext cx="414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цея № 37 г. Сарат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рапуна Пав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оховая Боро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03920"/>
            <a:ext cx="266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унок художника Вадима Че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6165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ктриса Анна Богда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398760" cy="4530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иви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877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унок художника Вадима Че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ктриса Ольга Самох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73800" y="1600200"/>
            <a:ext cx="2387520" cy="45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4800" y="2151000"/>
            <a:ext cx="37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70040" y="404640"/>
          <a:ext cx="191448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404640"/>
                    <a:ext cx="1914480" cy="3240360"/>
                  </a:xfrm>
                  <a:prstGeom prst="rect">
                    <a:avLst/>
                  </a:prstGeom>
                  <a:ln w="7632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00720" y="98100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Игруш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2227320" cy="2765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867280" y="3500280"/>
            <a:ext cx="2165400" cy="3197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059280" y="2533680"/>
            <a:ext cx="331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нига и Спектак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1268280"/>
          <a:ext cx="7931160" cy="4248360"/>
        </p:xfrm>
        <a:graphic>
          <a:graphicData uri="http://schemas.openxmlformats.org/drawingml/2006/table">
            <a:tbl>
              <a:tblPr/>
              <a:tblGrid>
                <a:gridCol w="3960720"/>
                <a:gridCol w="397044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вествование о    событи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исание места 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исание  речь автор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ртрет героя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и события изображают актёр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корации, освещение, звуковое оформлени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виз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тюмы и гри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логи и монологи герое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но Рау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87880" y="1413000"/>
            <a:ext cx="2901960" cy="4032000"/>
          </a:xfrm>
          <a:prstGeom prst="rect">
            <a:avLst/>
          </a:prstGeom>
          <a:ln w="38160">
            <a:solidFill>
              <a:srgbClr val="ebf25a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276720" y="5589720"/>
            <a:ext cx="3024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199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ниги Эно Рау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68300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8960" cy="218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24360" y="3429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3640" y="1341360"/>
            <a:ext cx="223056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948360" y="1341360"/>
            <a:ext cx="171144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916360" y="3141720"/>
            <a:ext cx="2052360" cy="270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500720" y="1413000"/>
            <a:ext cx="16412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обытия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комств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шение о путешествии втроё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фта признаётся, что сам себе пишет пись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ботинка заболел, а Моховая Борода вылечил его отва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чёвка в лесу и костё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реча с привид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есто действ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359080"/>
            <a:ext cx="4027320" cy="302112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49160" y="1600200"/>
            <a:ext cx="3453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ремя действ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2914560" cy="3887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11280" y="1844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книге ле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1484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спектакле з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2384280"/>
            <a:ext cx="40384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уф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51664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унок художника Вадима Чел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80536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риса Юлия Мещеряк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2496960" cy="453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2619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лботи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616572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021360"/>
            <a:ext cx="26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унок художника Вадима Че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6093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ктёр Михаил Селив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2425680" cy="4530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2120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9:20:40Z</dcterms:created>
  <dc:creator>Admin</dc:creator>
  <dc:description/>
  <dc:language>en-US</dc:language>
  <cp:lastModifiedBy>Лена</cp:lastModifiedBy>
  <dcterms:modified xsi:type="dcterms:W3CDTF">2012-02-09T15:41:27Z</dcterms:modified>
  <cp:revision>22</cp:revision>
  <dc:subject/>
  <dc:title>«МУФТА, ПОЛБОТИНКА И МОХОВАЯ БОРОДА»  Сравнительный анализ книги Эно Рауда  и спектакля саратовского ТЮЗа</dc:title>
</cp:coreProperties>
</file>