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6C8-450E-451A-98AB-A3C32349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4FE-562A-44CD-8A21-F514C812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1F4BD-4AE1-4CFD-8F74-8D088445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C0A8C-78C4-4A38-B59D-4CBF3176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F9D72-2D0C-4A8A-86E9-5428FB2E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1CDAB-458C-4E74-B947-05ACC141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ADBA4-2B17-4DD0-A6D2-876EF7C4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903B7-6251-406D-8C34-A56BB442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A12C9-F219-456C-AB5B-A35ADE50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F88FB-1591-4455-85CC-F0FA96BF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807B8-C86E-41A4-A230-BEB4930D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C4DE5-FA83-4E96-A927-05742864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587-CA30-44E9-BB97-4678E89B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E012D-D610-4FE8-9475-F9CFE8B8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0DD2C-7365-4907-B0A1-AA623E16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DC02E-35E4-4116-A5E9-4D0C7B22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CB8E8-505E-43F1-B1AE-DF9A7FF5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6F6E6-A479-4C93-A5C7-E27D0C34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6366D-49F0-4E86-A8A9-3AF2D049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91D0F-D655-490C-B70E-2ED0A53D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735EF-EBB9-4342-AE92-4458D381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06232-B5FC-4534-B2FD-61B20C5E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D03C4-7F44-46F0-98EB-DDF9BB98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55F-B3FE-41E5-A2A4-B4502176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171E1-94D7-4BCF-98DB-FBD52300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A2FDE-201E-465F-94BD-E45B0566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599E0-D903-4D5C-B9BB-0F7DA50B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D5E8A-7F45-45EA-933E-3FC35D10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650CD-291D-4069-B702-2F18B94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65F35-D81B-4A2B-895B-6C89E187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8F9E0-91CE-4BC1-8293-216F2CED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07D40-A330-44F0-AB7E-FA94C31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615BA-C47A-4AC1-9CDB-F6C7E198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50C84-33A8-466A-B010-1378B7CF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0BDF-9CB5-4465-B9B8-65B1DE2C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B3C05-4D94-4BB1-B2FE-5D76E2D0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AC30C-B2AF-4720-A438-979A1390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A2489-616D-4A94-8161-554E823B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6C0BB-75DE-49AD-9DD2-E2CA9212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74E23-D6A6-4F58-A523-712F148C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FD42F-12F1-4542-BB08-6AA2ECC8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90AAB-70BC-45EE-ADDC-80B1392F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3A5BF-14BC-4164-9784-50C06E03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91A8F-432C-4D57-9EEB-D981706C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1FFE4-9DBC-4E41-8450-64DA1AD4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588F-BE97-4EF9-9FD5-6E18DB8C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98E74-F507-4C05-A1C0-9F40D05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2F9EB-1CEE-46F9-91BC-EEDB8BA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4435E-C6DE-4EBB-8C56-AECBB499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792D5-791A-44DE-A17A-9A632FB1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155F7-4C92-45CD-B92A-6467AB5D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16D0-454B-4623-B6F2-A757581B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FF9D-8BE1-4E2B-8F6E-6461C0EA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24F5-53C6-4BAC-82F5-635EDFA8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057A-EA2B-4904-AF01-8EFFAC59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C57C-870A-445B-BC34-183EE9AA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195-66E9-4B18-A3C5-931C2A4D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9AA3-533C-47D7-811B-D7C61C24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39A1-A13F-418F-9450-A0B5D47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299F-7132-4057-9A24-B52D0F9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E6B8-DCB0-4980-82B1-6EC3B719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BEF1-9A22-4066-AD6E-05A2A00B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87CC-0EFC-4543-929A-B4BA5C1F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0A80-708B-4CBC-89C9-7F00659A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F9F0-AD77-4886-99CC-D4E40174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7023-5319-4F2E-B8D5-C9834151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FB82-DB00-45C1-8723-ECB72E50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335-6DE4-4838-A2EB-BA7A66DF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F020-E10C-4554-9779-7764D307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4533-3115-409E-AE9C-AC53F59F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2CE2-60BE-4303-A035-A008412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D12BF-A0E1-4CE2-B2EA-9AEAFF26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EB6B-B60C-433A-9637-FD52B9D9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7E125-B8EE-4985-BC80-A2BF02CA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68361-72E4-412B-A9E4-356F5847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3B12-574D-4702-A8D4-84E7B110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47C3D-006A-48DB-AED4-25F95812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879C-BE8D-446F-9632-7D159CFB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DB7-B39C-46F1-AAC5-41C48A18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7E4A8-D700-448D-8151-CBDC365A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298A4-AE4C-431F-8FEA-8775A798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0E18-E8FA-431F-A712-4978A86F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6124-79BC-4940-8AC0-DDBED942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A48C-D133-4315-9A87-A14E5A34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F8F81-A056-4F32-9744-DAA30B50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D646-40B4-49FB-A294-2AE6BFC1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34B79-B7AC-4D17-AA74-AD967A33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C2EA0-E73B-4C86-BCB7-47EEE65A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0317-CB25-4FF5-BC1C-B2F73751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716-CDF3-4902-8A99-E5E5C930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15439-F341-4D88-B877-DF025683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702EB-4740-4CD4-B536-442E22CC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99781-EA1B-4129-9927-6F6AA019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C5E3B-26B1-4324-A1B8-DF9CE7A6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BB820-7876-4394-8A3F-12C69710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10403-F49E-4292-B237-A069B69B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8D149-BA3A-4DDC-94B8-574E16C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F0F09-EC34-48E5-BE8D-05F31FAC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B3A73-0DED-4CE3-A287-C7E79726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FBAB-E78E-4B0D-BFE8-51F4143E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2D0-74E0-4A60-941E-74A7989E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2CB21-51E1-4FD1-891F-51533F2D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D9EE4-68FF-4836-8DB7-16455BC2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E137E-16AA-4C5D-B734-960831EB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26150-9A55-482F-A900-53E458F1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95C4-EF22-413B-8EDB-E6BE9AD0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7A177-B0F9-4B68-ACD6-A1E054A0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1DB5A-5FCB-4B7D-BDCF-45C1447D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E105-0E9F-4C6F-8D0A-C776FF2B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77663-A98F-45CF-AB3C-E93D84D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EBF26-99E5-4ACE-A42B-A8235874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E72-E84F-47C1-A1EB-614A588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DA9B9-3DF5-4CDC-8BBC-CEE7CF0A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F3C0E-6B62-4405-803A-E633C06D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72E47-E9B7-40EC-9C01-C371E6EE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E4E2D-C2A6-4B07-92A5-31FD92C0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F7D39-B01B-4A35-B9EB-EE2D3BF1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43243-ED37-4A12-99EE-75A6DBA5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B001F-FABD-4358-8852-9C27E12E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1FB16-1D92-49FF-859D-75C92567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A0004-0DB0-41BB-8EDC-F059FB58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4833-043A-4F76-9D70-65DFC68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9E5-4C3C-4CF7-A1A5-945D3C8B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6F1EB-93E0-431D-89EF-73616929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3C22D-E3D9-4384-A75B-8ED90F6D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CEA2B-1915-4B89-81B4-7D7D8A29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39962-204E-4FAF-AF8B-018BCBF1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AEB6E-80FB-46E8-8848-8CF2029D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82DE6-4407-435C-9F61-49BF61BA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5612-0056-4FFD-81F8-F22888B0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B44A2-28E1-4B6A-A705-A1D49482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C868C-019A-4829-B993-B335B08E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7E4F-9F64-4D64-9958-BF6047BD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499-A0BD-414E-878E-D9DB4650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B02AC-FD49-4732-8E88-8A3E8EC0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46FAE-9D09-48AB-8D6A-199654DF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3EB80-A673-48D6-8EB5-7F0FDBB5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880DD-A3D9-4FD4-B223-B77FB3E3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8A7D0-4C1C-47B2-8194-04F4D706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41BD9-3807-4439-8968-C08644E5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66295-86C8-49E6-BDED-325FE7E9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E8BA1-52A3-4D45-8CE4-096E1DB0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E5D1F-525B-4D52-8BA7-9C9FBB8D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D44FC-21D8-4EDF-B0E2-6DBB984E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2F07-9684-4797-9AD8-6529E3C5B78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867D-BD4F-4E4E-969F-29D0E64ACAF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927C-028A-45DE-ADDC-9CAC3DF20A4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8A65-F378-4F3B-8697-052A3A79CEA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90C8-8395-4F3A-A593-080EF6FABA0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AEC0-A7CC-421F-809E-366CBEC38C2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2B8F-F1F8-49FE-A7B5-DB0956965A2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2D9-6EDA-48F5-AA5A-A090E5151BE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9525-3735-4E20-A0E6-CBEE2BD2BF5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D9CC-6AF8-4B4F-BEB2-0BDCEF604CB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F2A8-CF48-4FCF-8F5C-3C5EC284AD0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0F42-7D36-4720-ABDF-3C980910086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571560"/>
            <a:ext cx="6400800" cy="895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ЧАТЬ ТЕСТ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Техника безопасности и правила поведени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ыбери правильный отве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касаться к экрану и задней стенке монито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TextBox 3"/>
          <p:cNvSpPr/>
          <p:nvPr/>
        </p:nvSpPr>
        <p:spPr>
          <a:xfrm>
            <a:off x="78588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TextBox 4"/>
          <p:cNvSpPr/>
          <p:nvPr/>
        </p:nvSpPr>
        <p:spPr>
          <a:xfrm>
            <a:off x="507204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Содержимое 2"/>
          <p:cNvSpPr/>
          <p:nvPr/>
        </p:nvSpPr>
        <p:spPr>
          <a:xfrm>
            <a:off x="285840" y="3857760"/>
            <a:ext cx="85042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ходить в кабинет с жевательными резинками, булочками, конфетами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TextBox 6"/>
          <p:cNvSpPr/>
          <p:nvPr/>
        </p:nvSpPr>
        <p:spPr>
          <a:xfrm>
            <a:off x="857160" y="5000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5143680" y="50007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4357800" y="10000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001000" y="60008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ыбери правильный отве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ботать на компьютере без помощи сосе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TextBox 3"/>
          <p:cNvSpPr/>
          <p:nvPr/>
        </p:nvSpPr>
        <p:spPr>
          <a:xfrm>
            <a:off x="78588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507204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Содержимое 2"/>
          <p:cNvSpPr/>
          <p:nvPr/>
        </p:nvSpPr>
        <p:spPr>
          <a:xfrm>
            <a:off x="285840" y="3857760"/>
            <a:ext cx="85042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ередвигать оборудование в кабинете без разрешения учител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TextBox 6"/>
          <p:cNvSpPr/>
          <p:nvPr/>
        </p:nvSpPr>
        <p:spPr>
          <a:xfrm>
            <a:off x="857160" y="5000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TextBox 7"/>
          <p:cNvSpPr/>
          <p:nvPr/>
        </p:nvSpPr>
        <p:spPr>
          <a:xfrm>
            <a:off x="5143680" y="50007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4357800" y="10000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001000" y="60008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Прямоугольник 1" descr=""/>
          <p:cNvPicPr/>
          <p:nvPr/>
        </p:nvPicPr>
        <p:blipFill>
          <a:blip r:embed="rId1"/>
          <a:stretch/>
        </p:blipFill>
        <p:spPr>
          <a:xfrm>
            <a:off x="285840" y="1620720"/>
            <a:ext cx="8315280" cy="2481480"/>
          </a:xfrm>
          <a:prstGeom prst="rect">
            <a:avLst/>
          </a:prstGeom>
          <a:ln w="0">
            <a:noFill/>
          </a:ln>
        </p:spPr>
      </p:pic>
      <p:sp>
        <p:nvSpPr>
          <p:cNvPr id="678" name="Управляющая кнопка: настраиваемая 2">
            <a:hlinkClick r:id="" action="ppaction://hlinkshowjump?jump=endshow"/>
          </p:cNvPr>
          <p:cNvSpPr/>
          <p:nvPr/>
        </p:nvSpPr>
        <p:spPr>
          <a:xfrm>
            <a:off x="7215120" y="5786280"/>
            <a:ext cx="1357560" cy="428760"/>
          </a:xfrm>
          <a:custGeom>
            <a:avLst/>
            <a:gdLst>
              <a:gd name="textAreaLeft" fmla="*/ 27720 w 1357560"/>
              <a:gd name="textAreaRight" fmla="*/ 1329840 w 13575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Прямоугольник 3" descr=""/>
          <p:cNvPicPr/>
          <p:nvPr/>
        </p:nvPicPr>
        <p:blipFill>
          <a:blip r:embed="rId1"/>
          <a:stretch/>
        </p:blipFill>
        <p:spPr>
          <a:xfrm>
            <a:off x="895320" y="1352520"/>
            <a:ext cx="7121520" cy="2347920"/>
          </a:xfrm>
          <a:prstGeom prst="rect">
            <a:avLst/>
          </a:prstGeom>
          <a:ln w="0">
            <a:noFill/>
          </a:ln>
        </p:spPr>
      </p:pic>
      <p:sp>
        <p:nvSpPr>
          <p:cNvPr id="609" name="Управляющая кнопка: далее 4">
            <a:hlinkClick r:id="" action="ppaction://hlinkshowjump?jump=previousslide"/>
          </p:cNvPr>
          <p:cNvSpPr/>
          <p:nvPr/>
        </p:nvSpPr>
        <p:spPr>
          <a:xfrm>
            <a:off x="3071880" y="4429080"/>
            <a:ext cx="2786040" cy="428760"/>
          </a:xfrm>
          <a:custGeom>
            <a:avLst/>
            <a:gdLst>
              <a:gd name="textAreaLeft" fmla="*/ 27720 w 2786040"/>
              <a:gd name="textAreaRight" fmla="*/ 2758320 w 2786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140255" h="21600">
                <a:moveTo>
                  <a:pt x="0" y="0"/>
                </a:moveTo>
                <a:lnTo>
                  <a:pt x="140255" y="0"/>
                </a:lnTo>
                <a:lnTo>
                  <a:pt x="140255" y="21600"/>
                </a:lnTo>
                <a:lnTo>
                  <a:pt x="0" y="21600"/>
                </a:lnTo>
                <a:close/>
              </a:path>
              <a:path fill="lightenLess" w="140255" h="21600">
                <a:moveTo>
                  <a:pt x="0" y="0"/>
                </a:moveTo>
                <a:lnTo>
                  <a:pt x="140255" y="0"/>
                </a:lnTo>
                <a:lnTo>
                  <a:pt x="138855" y="1400"/>
                </a:lnTo>
                <a:lnTo>
                  <a:pt x="1400" y="1400"/>
                </a:lnTo>
                <a:close/>
              </a:path>
              <a:path fill="darken" w="140255" h="21600">
                <a:moveTo>
                  <a:pt x="140255" y="0"/>
                </a:moveTo>
                <a:lnTo>
                  <a:pt x="140255" y="21600"/>
                </a:lnTo>
                <a:lnTo>
                  <a:pt x="138855" y="20200"/>
                </a:lnTo>
                <a:lnTo>
                  <a:pt x="138855" y="1400"/>
                </a:lnTo>
                <a:close/>
              </a:path>
              <a:path fill="darkenLess" w="140255" h="21600">
                <a:moveTo>
                  <a:pt x="140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55" y="20200"/>
                </a:lnTo>
                <a:close/>
              </a:path>
              <a:path fill="lighten" w="140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0255" h="21600">
                <a:moveTo>
                  <a:pt x="63121" y="3794"/>
                </a:moveTo>
                <a:lnTo>
                  <a:pt x="77134" y="10800"/>
                </a:lnTo>
                <a:lnTo>
                  <a:pt x="63121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Прямоугольник 3" descr=""/>
          <p:cNvPicPr/>
          <p:nvPr/>
        </p:nvPicPr>
        <p:blipFill>
          <a:blip r:embed="rId1"/>
          <a:stretch/>
        </p:blipFill>
        <p:spPr>
          <a:xfrm>
            <a:off x="1182600" y="1712880"/>
            <a:ext cx="7120080" cy="2346480"/>
          </a:xfrm>
          <a:prstGeom prst="rect">
            <a:avLst/>
          </a:prstGeom>
          <a:ln w="0">
            <a:noFill/>
          </a:ln>
        </p:spPr>
      </p:pic>
      <p:sp>
        <p:nvSpPr>
          <p:cNvPr id="611" name="Управляющая кнопка: далее 2">
            <a:hlinkClick r:id="" action="ppaction://hlinkshowjump?jump=previousslide"/>
          </p:cNvPr>
          <p:cNvSpPr/>
          <p:nvPr/>
        </p:nvSpPr>
        <p:spPr>
          <a:xfrm>
            <a:off x="3071880" y="4572000"/>
            <a:ext cx="2786040" cy="428760"/>
          </a:xfrm>
          <a:custGeom>
            <a:avLst/>
            <a:gdLst>
              <a:gd name="textAreaLeft" fmla="*/ 27720 w 2786040"/>
              <a:gd name="textAreaRight" fmla="*/ 2758320 w 2786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140255" h="21600">
                <a:moveTo>
                  <a:pt x="0" y="0"/>
                </a:moveTo>
                <a:lnTo>
                  <a:pt x="140255" y="0"/>
                </a:lnTo>
                <a:lnTo>
                  <a:pt x="140255" y="21600"/>
                </a:lnTo>
                <a:lnTo>
                  <a:pt x="0" y="21600"/>
                </a:lnTo>
                <a:close/>
              </a:path>
              <a:path fill="lightenLess" w="140255" h="21600">
                <a:moveTo>
                  <a:pt x="0" y="0"/>
                </a:moveTo>
                <a:lnTo>
                  <a:pt x="140255" y="0"/>
                </a:lnTo>
                <a:lnTo>
                  <a:pt x="138855" y="1400"/>
                </a:lnTo>
                <a:lnTo>
                  <a:pt x="1400" y="1400"/>
                </a:lnTo>
                <a:close/>
              </a:path>
              <a:path fill="darken" w="140255" h="21600">
                <a:moveTo>
                  <a:pt x="140255" y="0"/>
                </a:moveTo>
                <a:lnTo>
                  <a:pt x="140255" y="21600"/>
                </a:lnTo>
                <a:lnTo>
                  <a:pt x="138855" y="20200"/>
                </a:lnTo>
                <a:lnTo>
                  <a:pt x="138855" y="1400"/>
                </a:lnTo>
                <a:close/>
              </a:path>
              <a:path fill="darkenLess" w="140255" h="21600">
                <a:moveTo>
                  <a:pt x="140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55" y="20200"/>
                </a:lnTo>
                <a:close/>
              </a:path>
              <a:path fill="lighten" w="140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0255" h="21600">
                <a:moveTo>
                  <a:pt x="63121" y="3794"/>
                </a:moveTo>
                <a:lnTo>
                  <a:pt x="77134" y="10800"/>
                </a:lnTo>
                <a:lnTo>
                  <a:pt x="63121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Прямоугольник 3" descr=""/>
          <p:cNvPicPr/>
          <p:nvPr/>
        </p:nvPicPr>
        <p:blipFill>
          <a:blip r:embed="rId1"/>
          <a:stretch/>
        </p:blipFill>
        <p:spPr>
          <a:xfrm>
            <a:off x="1170000" y="1712880"/>
            <a:ext cx="7192800" cy="1328760"/>
          </a:xfrm>
          <a:prstGeom prst="rect">
            <a:avLst/>
          </a:prstGeom>
          <a:ln w="0">
            <a:noFill/>
          </a:ln>
        </p:spPr>
      </p:pic>
      <p:sp>
        <p:nvSpPr>
          <p:cNvPr id="613" name="Управляющая кнопка: далее 2">
            <a:hlinkClick r:id="" action="ppaction://hlinkshowjump?jump=previousslide"/>
          </p:cNvPr>
          <p:cNvSpPr/>
          <p:nvPr/>
        </p:nvSpPr>
        <p:spPr>
          <a:xfrm>
            <a:off x="3071880" y="4572000"/>
            <a:ext cx="2786040" cy="428760"/>
          </a:xfrm>
          <a:custGeom>
            <a:avLst/>
            <a:gdLst>
              <a:gd name="textAreaLeft" fmla="*/ 27720 w 2786040"/>
              <a:gd name="textAreaRight" fmla="*/ 2758320 w 2786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140255" h="21600">
                <a:moveTo>
                  <a:pt x="0" y="0"/>
                </a:moveTo>
                <a:lnTo>
                  <a:pt x="140255" y="0"/>
                </a:lnTo>
                <a:lnTo>
                  <a:pt x="140255" y="21600"/>
                </a:lnTo>
                <a:lnTo>
                  <a:pt x="0" y="21600"/>
                </a:lnTo>
                <a:close/>
              </a:path>
              <a:path fill="lightenLess" w="140255" h="21600">
                <a:moveTo>
                  <a:pt x="0" y="0"/>
                </a:moveTo>
                <a:lnTo>
                  <a:pt x="140255" y="0"/>
                </a:lnTo>
                <a:lnTo>
                  <a:pt x="138855" y="1400"/>
                </a:lnTo>
                <a:lnTo>
                  <a:pt x="1400" y="1400"/>
                </a:lnTo>
                <a:close/>
              </a:path>
              <a:path fill="darken" w="140255" h="21600">
                <a:moveTo>
                  <a:pt x="140255" y="0"/>
                </a:moveTo>
                <a:lnTo>
                  <a:pt x="140255" y="21600"/>
                </a:lnTo>
                <a:lnTo>
                  <a:pt x="138855" y="20200"/>
                </a:lnTo>
                <a:lnTo>
                  <a:pt x="138855" y="1400"/>
                </a:lnTo>
                <a:close/>
              </a:path>
              <a:path fill="darkenLess" w="140255" h="21600">
                <a:moveTo>
                  <a:pt x="140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55" y="20200"/>
                </a:lnTo>
                <a:close/>
              </a:path>
              <a:path fill="lighten" w="140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0255" h="21600">
                <a:moveTo>
                  <a:pt x="63121" y="3794"/>
                </a:moveTo>
                <a:lnTo>
                  <a:pt x="77134" y="10800"/>
                </a:lnTo>
                <a:lnTo>
                  <a:pt x="63121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ыбери правильный отве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ходить в кабинет без разрешения учител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3">
            <a:hlinkClick r:id="rId1" action="ppaction://hlinksldjump"/>
          </p:cNvPr>
          <p:cNvSpPr/>
          <p:nvPr/>
        </p:nvSpPr>
        <p:spPr>
          <a:xfrm>
            <a:off x="78588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TextBox 4">
            <a:hlinkClick r:id="rId2" action="ppaction://hlinksldjump"/>
          </p:cNvPr>
          <p:cNvSpPr/>
          <p:nvPr/>
        </p:nvSpPr>
        <p:spPr>
          <a:xfrm>
            <a:off x="507204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Содержимое 2"/>
          <p:cNvSpPr/>
          <p:nvPr/>
        </p:nvSpPr>
        <p:spPr>
          <a:xfrm>
            <a:off x="285840" y="3857760"/>
            <a:ext cx="85042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ходить в класс спокойно, занимать свое мест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Box 6">
            <a:hlinkClick r:id="rId3" action="ppaction://hlinksldjump"/>
          </p:cNvPr>
          <p:cNvSpPr/>
          <p:nvPr/>
        </p:nvSpPr>
        <p:spPr>
          <a:xfrm>
            <a:off x="857160" y="5000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TextBox 7">
            <a:hlinkClick r:id="rId4" action="ppaction://hlinksldjump"/>
          </p:cNvPr>
          <p:cNvSpPr/>
          <p:nvPr/>
        </p:nvSpPr>
        <p:spPr>
          <a:xfrm>
            <a:off x="5143680" y="50007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4429080" y="10000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001000" y="60008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ыбери правильный отве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ходится в кабинете в верхней одежд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TextBox 3">
            <a:hlinkClick r:id="rId1" action="ppaction://hlinksldjump"/>
          </p:cNvPr>
          <p:cNvSpPr/>
          <p:nvPr/>
        </p:nvSpPr>
        <p:spPr>
          <a:xfrm>
            <a:off x="78588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TextBox 4">
            <a:hlinkClick r:id="rId2" action="ppaction://hlinksldjump"/>
          </p:cNvPr>
          <p:cNvSpPr/>
          <p:nvPr/>
        </p:nvSpPr>
        <p:spPr>
          <a:xfrm>
            <a:off x="507204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Содержимое 2"/>
          <p:cNvSpPr/>
          <p:nvPr/>
        </p:nvSpPr>
        <p:spPr>
          <a:xfrm>
            <a:off x="285840" y="3857760"/>
            <a:ext cx="85042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 обнаружении неисправностей компьютера сообщить учителю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TextBox 6">
            <a:hlinkClick r:id="rId3" action="ppaction://hlinksldjump"/>
          </p:cNvPr>
          <p:cNvSpPr/>
          <p:nvPr/>
        </p:nvSpPr>
        <p:spPr>
          <a:xfrm>
            <a:off x="857160" y="5000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TextBox 7">
            <a:hlinkClick r:id="rId4" action="ppaction://hlinksldjump"/>
          </p:cNvPr>
          <p:cNvSpPr/>
          <p:nvPr/>
        </p:nvSpPr>
        <p:spPr>
          <a:xfrm>
            <a:off x="5143680" y="50007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TextBox 8"/>
          <p:cNvSpPr/>
          <p:nvPr/>
        </p:nvSpPr>
        <p:spPr>
          <a:xfrm>
            <a:off x="4357800" y="10000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001000" y="60008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ыбери правильный отве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ступать к работе на компьютере после разрешения учител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TextBox 3">
            <a:hlinkClick r:id="rId1" action="ppaction://hlinksldjump"/>
          </p:cNvPr>
          <p:cNvSpPr/>
          <p:nvPr/>
        </p:nvSpPr>
        <p:spPr>
          <a:xfrm>
            <a:off x="78588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TextBox 4">
            <a:hlinkClick r:id="rId2" action="ppaction://hlinksldjump"/>
          </p:cNvPr>
          <p:cNvSpPr/>
          <p:nvPr/>
        </p:nvSpPr>
        <p:spPr>
          <a:xfrm>
            <a:off x="507204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Содержимое 2"/>
          <p:cNvSpPr/>
          <p:nvPr/>
        </p:nvSpPr>
        <p:spPr>
          <a:xfrm>
            <a:off x="285840" y="3857760"/>
            <a:ext cx="85042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касаться к проводам питания и разъемам соединительных проводов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TextBox 6">
            <a:hlinkClick r:id="rId3" action="ppaction://hlinksldjump"/>
          </p:cNvPr>
          <p:cNvSpPr/>
          <p:nvPr/>
        </p:nvSpPr>
        <p:spPr>
          <a:xfrm>
            <a:off x="857160" y="5000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TextBox 7">
            <a:hlinkClick r:id="rId4" action="ppaction://hlinksldjump"/>
          </p:cNvPr>
          <p:cNvSpPr/>
          <p:nvPr/>
        </p:nvSpPr>
        <p:spPr>
          <a:xfrm>
            <a:off x="5143680" y="50007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TextBox 8"/>
          <p:cNvSpPr/>
          <p:nvPr/>
        </p:nvSpPr>
        <p:spPr>
          <a:xfrm>
            <a:off x="4429080" y="10000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001000" y="60008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ыбери правильный отве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ытаться самостоятельно устранить обнаруженную неисправность компьютера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TextBox 3">
            <a:hlinkClick r:id="rId1" action="ppaction://hlinksldjump"/>
          </p:cNvPr>
          <p:cNvSpPr/>
          <p:nvPr/>
        </p:nvSpPr>
        <p:spPr>
          <a:xfrm>
            <a:off x="78588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TextBox 4">
            <a:hlinkClick r:id="rId2" action="ppaction://hlinksldjump"/>
          </p:cNvPr>
          <p:cNvSpPr/>
          <p:nvPr/>
        </p:nvSpPr>
        <p:spPr>
          <a:xfrm>
            <a:off x="507204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Содержимое 2"/>
          <p:cNvSpPr/>
          <p:nvPr/>
        </p:nvSpPr>
        <p:spPr>
          <a:xfrm>
            <a:off x="285840" y="3857760"/>
            <a:ext cx="85042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ключать игры и другие программы не относящиеся к уроку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TextBox 6">
            <a:hlinkClick r:id="rId3" action="ppaction://hlinksldjump"/>
          </p:cNvPr>
          <p:cNvSpPr/>
          <p:nvPr/>
        </p:nvSpPr>
        <p:spPr>
          <a:xfrm>
            <a:off x="857160" y="5000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TextBox 7">
            <a:hlinkClick r:id="rId4" action="ppaction://hlinksldjump"/>
          </p:cNvPr>
          <p:cNvSpPr/>
          <p:nvPr/>
        </p:nvSpPr>
        <p:spPr>
          <a:xfrm>
            <a:off x="5143680" y="50007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4357800" y="10000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001000" y="60008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ыбери правильный отве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ботать на компьютере грязными или мокрыми руками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TextBox 3">
            <a:hlinkClick r:id="rId1" action="ppaction://hlinksldjump"/>
          </p:cNvPr>
          <p:cNvSpPr/>
          <p:nvPr/>
        </p:nvSpPr>
        <p:spPr>
          <a:xfrm>
            <a:off x="78588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TextBox 4"/>
          <p:cNvSpPr/>
          <p:nvPr/>
        </p:nvSpPr>
        <p:spPr>
          <a:xfrm>
            <a:off x="507204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Содержимое 2"/>
          <p:cNvSpPr/>
          <p:nvPr/>
        </p:nvSpPr>
        <p:spPr>
          <a:xfrm>
            <a:off x="285840" y="3857760"/>
            <a:ext cx="85042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жимать на клавиши мягко, без особых удар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TextBox 6"/>
          <p:cNvSpPr/>
          <p:nvPr/>
        </p:nvSpPr>
        <p:spPr>
          <a:xfrm>
            <a:off x="857160" y="5000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TextBox 7"/>
          <p:cNvSpPr/>
          <p:nvPr/>
        </p:nvSpPr>
        <p:spPr>
          <a:xfrm>
            <a:off x="5143680" y="50007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4357800" y="10000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001000" y="60008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0:00:23Z</dcterms:created>
  <dc:creator>anna</dc:creator>
  <dc:description/>
  <dc:language>en-US</dc:language>
  <cp:lastModifiedBy>anna</cp:lastModifiedBy>
  <dcterms:modified xsi:type="dcterms:W3CDTF">2012-02-09T19:24:33Z</dcterms:modified>
  <cp:revision>14</cp:revision>
  <dc:subject/>
  <dc:title>Техника безопасности и правила поведения</dc:title>
</cp:coreProperties>
</file>