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C64-41EE-45BF-8689-3DE6BC12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CA5-345E-4EC1-864E-8E8962F9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705-6472-4199-984F-CDCF0624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73F-0238-432F-833E-D5D9558D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522-42D6-4AEE-B32F-2FA2892B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B6B-6592-4E9A-90F4-32D33538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50E-D961-4019-B07D-B1E720A6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5E9-F938-4B98-9697-366E764E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00A-EF1D-4792-9D23-689CBE3D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528-DFEC-4E17-8FA6-7C6FD0AE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A27-C347-400A-BED0-C4540AE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F00-298F-4711-B7AE-687218D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A7B6-21D9-4BDB-A340-06CD42650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-304920" y="-257040"/>
            <a:ext cx="9677520" cy="720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72200" y="548640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Федотова Еле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учитель хим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МБОУ Изых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0"/>
            <a:ext cx="746748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хн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зопасност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уроках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им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-838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если вы пользуетесь чем-либо – 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держите в чистоте и поряд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-если вы не знаете, как это действует, не трогай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-если вы не знаете, как это делается, сразу спрос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вы не усвоили этих правил не входите в лаборатори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290340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105520" y="4572000"/>
            <a:ext cx="3628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52280" y="5638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исатель – фантаст и учёный – биохимик Айзек Азимов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304920"/>
            <a:ext cx="791064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«Химия – это смерт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пакованная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анки и коробки»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4724280" cy="739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558200" cy="566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0492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спеши хватать прибор 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инструкцию чит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бедись, что ты все пон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тогда и начин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хочешь долго ж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о медленно сп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38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Как же нюхать веще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В колбу нос совать нельз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Что может случ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Ты можешь отрави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433440"/>
            <a:ext cx="8686800" cy="651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усть в пробирке пахнет вобл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 колбе- будто марме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ещества на вкус не проб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ладко пахнет даже 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54756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371960" y="228240"/>
            <a:ext cx="6172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Чай и вкусный бутерброд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Очень просятся в твой рот.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Не обманывай себя-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Есть и пить у нас нельзя!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Это, друг, химкабинет,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Для еды условий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8458200" cy="6343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Помни: щелочь,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Вмиг прожгут одежду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Надевай халат, как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И работай без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5715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Ты сливал, нагревал ре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И отчет подготовил в тетра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Не забудь вымыть руки с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Чтоб здоровье было в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2-01-24T09:46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