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9.gif" ContentType="image/gif"/>
  <Override PartName="/ppt/media/image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0.gif" ContentType="image/gif"/>
  <Override PartName="/ppt/media/image4.jpeg" ContentType="image/jpeg"/>
  <Override PartName="/ppt/media/image8.gif" ContentType="image/gif"/>
  <Override PartName="/ppt/media/image18.jpeg" ContentType="image/jpeg"/>
  <Override PartName="/ppt/media/image5.gif" ContentType="image/gif"/>
  <Override PartName="/ppt/media/image1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3D9-7C27-49F9-9BAD-15E555D3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E22-8CD6-4C04-B830-C983BFE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EA9-8276-458C-87B0-14864666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14F-F490-4C1A-9ED7-46C39CF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32B-159D-420A-987B-D84A83AA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FE7-C7CA-4A4B-BD9F-C3BC2CF7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9EB-4C95-4A55-A4F4-C59F24B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3F1-FC58-4E3F-81BD-E7F178F8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646-CC1A-4828-B23F-968F65F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1C3-2010-4586-BBB2-7F768A4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D95-9EE2-4FE3-A6C0-E144E51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7D9-6C6D-4CD3-B171-000E5A1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BCF-E60E-4466-A9C3-B59824E51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304920" y="228600"/>
            <a:ext cx="85341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ОУ Б-Неклиновская СОШ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              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2" name="WordArt 22"/>
          <p:cNvSpPr txBox="1"/>
          <p:nvPr/>
        </p:nvSpPr>
        <p:spPr>
          <a:xfrm>
            <a:off x="85680" y="6400800"/>
            <a:ext cx="4486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еляева к. Глушко К.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171360" y="2286000"/>
            <a:ext cx="8801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Как сельскохозяйственная деятельность </a:t>
            </a:r>
            <a:endParaRPr b="0" lang="en-US" sz="2400" spc="1" strike="noStrike">
              <a:ln w="19080">
                <a:solidFill>
                  <a:srgbClr val="33cc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рицательно влияет на окружающую среду.»</a:t>
            </a:r>
            <a:endParaRPr b="0" lang="en-US" sz="2400" spc="1" strike="noStrike">
              <a:ln w="19080">
                <a:solidFill>
                  <a:srgbClr val="33cc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27"/>
          <p:cNvSpPr txBox="1"/>
          <p:nvPr/>
        </p:nvSpPr>
        <p:spPr>
          <a:xfrm>
            <a:off x="4191120" y="3429000"/>
            <a:ext cx="45622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тревога за жизнь неустанна,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б не сгинуть в космической мгле –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черпаемы все океаны,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черпаемо всё на земле.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леса и поля обижаем,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онут реки от горьких обид.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5" name="WordArt 28"/>
          <p:cNvSpPr txBox="1"/>
          <p:nvPr/>
        </p:nvSpPr>
        <p:spPr>
          <a:xfrm>
            <a:off x="4572000" y="57150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ебя мы прощаем,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ебя мы прощаем,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 грядущее нас не простит!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Сельское хозяйство – одна из  отраслей экономики  российского государства, самым тесным образом связанная с использованием в производственном процессе природных ресурсов. Без земли и воды нет аграрного производства. Но сельское хозяйство не может обойтись и без леса, и без использования для своих нужд недр. Объекты животного мира, атмосферный воздух также находятся во взаимодействии с сельским хозяйством. Таким образом, все компоненты природной среды взаимосвязаны с аграрной экономикой и ключ к  их экологической безопасности и экономически эффективному существованию – это соблюдение баланса между потребностями экономики и возможностями природной 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C:\Documents and Settings\Сергей\Рабочий стол\Безимени-111.gif"/>
          <p:cNvPicPr/>
          <p:nvPr/>
        </p:nvPicPr>
        <p:blipFill>
          <a:blip r:embed="rId2"/>
          <a:stretch/>
        </p:blipFill>
        <p:spPr>
          <a:xfrm>
            <a:off x="4648320" y="3886200"/>
            <a:ext cx="4495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Bodoni MT Black"/>
              </a:rPr>
              <a:t>Сельская местность исторически ассоциируется с самым здоровым воздухом, кристально чистой ключевой водой, с лесами полными грибов и ягод, со зверьем, рыбами и другими живыми и растительными организмами. Но, к сожалению, все это в прошлом. Сегодня природа стонет и плачет от варварства высшего социального члена биоты – человека. Как бы не было обидно, но и сельскохозяйственная деятельность человека вносит в процесс деградации окружающей природной среды  свою негативную до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D:\картинки для презентации\1анимашки\107.gif"/>
          <p:cNvPicPr/>
          <p:nvPr/>
        </p:nvPicPr>
        <p:blipFill>
          <a:blip r:embed="rId2"/>
          <a:stretch/>
        </p:blipFill>
        <p:spPr>
          <a:xfrm>
            <a:off x="7351560" y="5048280"/>
            <a:ext cx="179244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:\картинки для презентации\Анимашки из интернета\рыбки и т.п\sea19.gif"/>
          <p:cNvPicPr/>
          <p:nvPr/>
        </p:nvPicPr>
        <p:blipFill>
          <a:blip r:embed="rId3"/>
          <a:stretch/>
        </p:blipFill>
        <p:spPr>
          <a:xfrm>
            <a:off x="289548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картинки для презентации\Анимашки из интернета\рыбки и т.п\sea65.gif"/>
          <p:cNvPicPr/>
          <p:nvPr/>
        </p:nvPicPr>
        <p:blipFill>
          <a:blip r:embed="rId4"/>
          <a:stretch/>
        </p:blipFill>
        <p:spPr>
          <a:xfrm>
            <a:off x="4343400" y="5692680"/>
            <a:ext cx="1565280" cy="116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:\картинки для презентации\Анимашки\Животные\0177.gif"/>
          <p:cNvPicPr/>
          <p:nvPr/>
        </p:nvPicPr>
        <p:blipFill>
          <a:blip r:embed="rId5"/>
          <a:stretch/>
        </p:blipFill>
        <p:spPr>
          <a:xfrm>
            <a:off x="380880" y="304920"/>
            <a:ext cx="153216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:\картинки для презентации\Анимашки из интернета\птички\bird4.gif"/>
          <p:cNvPicPr/>
          <p:nvPr/>
        </p:nvPicPr>
        <p:blipFill>
          <a:blip r:embed="rId6"/>
          <a:stretch/>
        </p:blipFill>
        <p:spPr>
          <a:xfrm>
            <a:off x="6400800" y="6094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:\картинки для презентации\Анимашки из интернета\птички\bird43.gif"/>
          <p:cNvPicPr/>
          <p:nvPr/>
        </p:nvPicPr>
        <p:blipFill>
          <a:blip r:embed="rId7"/>
          <a:stretch/>
        </p:blipFill>
        <p:spPr>
          <a:xfrm>
            <a:off x="3505320" y="0"/>
            <a:ext cx="141768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C:\Documents and Settings\Сергей\Рабочий стол\Безимени-1111.gif"/>
          <p:cNvPicPr/>
          <p:nvPr/>
        </p:nvPicPr>
        <p:blipFill>
          <a:blip r:embed="rId8"/>
          <a:stretch/>
        </p:blipFill>
        <p:spPr>
          <a:xfrm>
            <a:off x="0" y="4648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C:\Documents and Settings\Сергей\Рабочий стол\Безимени-1111.gif"/>
          <p:cNvPicPr/>
          <p:nvPr/>
        </p:nvPicPr>
        <p:blipFill>
          <a:blip r:embed="rId9"/>
          <a:stretch/>
        </p:blipFill>
        <p:spPr>
          <a:xfrm>
            <a:off x="6643800" y="6172200"/>
            <a:ext cx="99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8.78613E-006 C 0.01805 -0.00925 0.03611 -0.01804 0.06441 -0.02937 C 0.09271 -0.0407 0.09566 -0.05642 0.16961 -0.06775 C 0.24357 -0.07908 0.41944 -0.1133 0.5085 -0.09712 C 0.59739 -0.08093 0.65034 -0.02613 0.70347 0.02936 E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83815E-006 C -0.04965 0.01202 -0.0993 0.02427 -0.14583 0.02728 C -0.19236 0.03028 -0.19635 0.03745 -0.27968 0.01826 C -0.36302 -0.00093 -0.58472 -0.07006 -0.64583 -0.08787 E">
                                      <p:cBhvr>
                                        <p:cTn id="89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6.35838E-007 C 0.02778 -0.03492 0.05574 -0.06983 0.07969 -0.06983 C 0.10365 -0.06983 0.13994 -0.01989 0.1441 6.35838E-007 C 0.14827 0.01988 0.11164 0.04138 0.10521 0.04971 E">
                                      <p:cBhvr>
                                        <p:cTn id="9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1809720" y="228600"/>
            <a:ext cx="5524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льскохозяйственное производство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вляется источником загрязн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ного воздуха.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вестно, что воздух вокруг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ивотноводческих комплексов отличается 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ецифическим запахом и содержит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847800" y="2666880"/>
            <a:ext cx="7448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ммиак в таких концентрациях,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вызывает даже гибель находящихся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близости хвойных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ревьев. Из атмосферы токсичные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дукты попадают в водоемы и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рязняют их в радиусе до 15 км.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1" name="Picture 7" descr="G:\рис\pig%20farm%20pigs%20mud%20dirty%20snout.jpg"/>
          <p:cNvPicPr/>
          <p:nvPr/>
        </p:nvPicPr>
        <p:blipFill>
          <a:blip r:embed="rId2"/>
          <a:stretch/>
        </p:blipFill>
        <p:spPr>
          <a:xfrm>
            <a:off x="0" y="4573440"/>
            <a:ext cx="3276720" cy="228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:\рис\farm_05.jpg"/>
          <p:cNvPicPr/>
          <p:nvPr/>
        </p:nvPicPr>
        <p:blipFill>
          <a:blip r:embed="rId3"/>
          <a:stretch/>
        </p:blipFill>
        <p:spPr>
          <a:xfrm>
            <a:off x="6019920" y="44956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G:\рис\1285076676.jpg"/>
          <p:cNvPicPr/>
          <p:nvPr/>
        </p:nvPicPr>
        <p:blipFill>
          <a:blip r:embed="rId4"/>
          <a:stretch/>
        </p:blipFill>
        <p:spPr>
          <a:xfrm>
            <a:off x="3200400" y="47242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рьезной проблемой являются отходы животноводства – навоз и отходы от забоя сельскохозяйственных животных и птиц на бойнях. По подсчетам ученых, ферма на 200 тыс. коров ежегодно производит 60-70 тыс. тонн навоза. И здесь во весь рост встает вопрос о его хранении и утилизации. Опасность навоза в том, что он может вызывать биологическое, химическое и механическое загрязнение. Кроме навоза в сельском хозяйстве продолжает существовать и такая проблема как скотомогильники, сегодняшние и старые со спорами сибирской яз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533520" y="533520"/>
            <a:ext cx="784836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Имеются, к сожалению, и другие факторы отрицательного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воздействия сельскохозяйственного производства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на окружающую природную среду и остро влияющие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на здоровье и жизнь людей. Экологическое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343080" y="2514600"/>
            <a:ext cx="8458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9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мировоззрение у многих специалистов аграрной сферы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пока не сформировалось,из-за этого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продолжается ведение сельхозпроизводства с грубыми нарушениями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cffcc"/>
                </a:solidFill>
                <a:latin typeface="Times New Roman"/>
              </a:rPr>
              <a:t>норм экологического законодателства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cff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571760" y="762120"/>
            <a:ext cx="6000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Берегите эту Землю, эту вод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Даже малую былиночку любя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Берегите всех зверей внутри природы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Убивайте лишь зверей внутри себя!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790560" y="4572000"/>
            <a:ext cx="7562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екрасен мир живой природы,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 люди - часть его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м надо сообща беречь, умножать,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ь этот великий мир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имия</cp:lastModifiedBy>
  <dcterms:modified xsi:type="dcterms:W3CDTF">2011-03-16T11:00:13Z</dcterms:modified>
  <cp:revision>24</cp:revision>
  <dc:subject/>
  <dc:title>PowerPoint Presentation</dc:title>
</cp:coreProperties>
</file>